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BEF-D087-4AF9-B40F-6D1F4387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F44-F2DA-48FD-A951-2246893C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678-4056-4437-97D4-E9D79683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9C1-57DD-408A-95D7-F086ABE6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6AF-F3DF-4850-B6BF-A8D53E0E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347-FA72-4084-A40D-EAF8228A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79C-D61C-45D3-A881-AC0A4950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6B8-FD66-4ED0-8192-0D3CCD8F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CFA-6000-498D-81ED-2095C1B4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6486-0DC8-4905-AE00-6B8D3DC9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5EB-3E45-4C47-9268-E742E732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763-54A7-4862-BA90-286003B6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579640" y="6524280"/>
            <a:ext cx="156204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ct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F4945093-D936-40D1-80CA-10CE616ADF11}" type="datetime5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ul 29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78920" y="6524280"/>
            <a:ext cx="526428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08720" y="6524280"/>
            <a:ext cx="432000" cy="144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8E9E8E5E-D8FB-4FBC-9A0C-81D0C10F402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50520" y="1890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Presentation Title (not the current page titl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c0d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28600" y="152280"/>
            <a:ext cx="4876920" cy="320760"/>
          </a:xfrm>
          <a:prstGeom prst="rect">
            <a:avLst/>
          </a:prstGeom>
          <a:solidFill>
            <a:srgbClr val="006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Presentation Title (not the current page titl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c0d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spcBef>
                <a:spcPts val="675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7796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5740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2314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0503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Resampling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80" y="26370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bis 1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.5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457200" y="3429000"/>
            <a:ext cx="6781680" cy="37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347-C241-48B8-9769-DF98686588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21858-80D5-4D21-857D-0FCE1D26D5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usage of real ‘resample’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533520" y="2971800"/>
            <a:ext cx="9296640" cy="511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3CE-86B8-4EE1-BA68-B508FF7C52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B58C3-EE37-42C7-BB80-0F4FE845DF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 version of Atmel AVR32 DSP resample function without the FIR Calculation stage (Matlab compute FIR coeffici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609480" y="3124080"/>
            <a:ext cx="9448560" cy="519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00400" y="59436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962520" y="5791320"/>
            <a:ext cx="121896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559260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in is below 1 due to reduction of filter bandwith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2E1-526D-4950-8E8F-FA19BE0FDB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2C045-A45C-480E-88BE-250D51CD8B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628640"/>
            <a:ext cx="7821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 version of Atmel AVR32 DSP resample function without the FIR Calculation stage (Matlab compute FIR coeffici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2 Khz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 K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5181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dB gain obtained at 17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533520" y="3276720"/>
            <a:ext cx="8001000" cy="4400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8320" y="5791320"/>
            <a:ext cx="60948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257440" y="5638680"/>
            <a:ext cx="16765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257800"/>
            <a:ext cx="518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in is around -6dB due to reduction of filter bandwith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209-3D06-49A4-A0AA-1F6DB42B467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31A17-8EFF-4CA9-8685-345146A054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Analysi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Use Atmel AVR32 DSP resample function with precalculated Matlab filter coefficients and compare the two res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62E-BF27-4F6E-BB1B-91E6CC7299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D784C-7577-4A51-BD63-6B0FB652E1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1) Embedded release of Atmel AVR32 DSP resample function without the FIR Calculation stage (Matlab compute FIR coeffici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,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52280" y="3276720"/>
            <a:ext cx="6858000" cy="3771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320" y="3657600"/>
            <a:ext cx="1143000" cy="45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3580920"/>
            <a:ext cx="121896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3124080"/>
            <a:ext cx="137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temporal shift is observed, same frequency f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902-AEC7-45C9-BD21-526791B336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BB9C6-21BB-4B42-82B5-9B0EBE668B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5486400" cy="4116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1 bis) Embedded release of Atmel AVR32 DSP resample function with Atmel AVR32 DSP FIR Calculation sta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,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191120"/>
            <a:ext cx="1143000" cy="45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486400" y="3580920"/>
            <a:ext cx="1523880" cy="68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3276720"/>
            <a:ext cx="137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temporal shift is observed, same frequency f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429000"/>
            <a:ext cx="1904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63de8"/>
                </a:solidFill>
                <a:latin typeface="Arial"/>
              </a:rPr>
              <a:t>Script resul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Embedded 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9AB-B40D-4104-89BD-7D99E16B07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95686-EA9C-42ED-83F4-C72CEAAF90E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.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3355920"/>
            <a:ext cx="636876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400800" y="5334120"/>
            <a:ext cx="3048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in the band = -21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 (-3dB) = 17.8 K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529400">
            <a:off x="7086960" y="358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Filter order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594-952E-423B-8720-456807ABCD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A9707-90AC-4A3F-89B0-4F6FC693226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bis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32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4.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379680"/>
            <a:ext cx="6324480" cy="347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6D5-046F-4F22-B84E-78FBE28E7FC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A273F-F6DC-4E1E-B2A9-5A852E0C8B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3:54:07Z</dcterms:created>
  <dc:creator/>
  <dc:description/>
  <cp:keywords/>
  <dc:language>en-US</dc:language>
  <cp:lastModifiedBy>user</cp:lastModifiedBy>
  <cp:lastPrinted>2000-07-25T13:03:26Z</cp:lastPrinted>
  <dcterms:modified xsi:type="dcterms:W3CDTF">2009-03-30T16:58:28Z</dcterms:modified>
  <cp:revision>237</cp:revision>
  <dc:subject/>
  <dc:title>Resampling Analysis</dc:title>
</cp:coreProperties>
</file>