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C77-075C-4BF1-8CB2-7095726E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119-C289-4DA1-9FA6-604F5178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09C-C8B0-4A83-9598-4688732A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44C6-8128-4D34-8190-11620CD6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7D1-EDB3-4845-B7BC-C1A6D532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330-2AEB-4337-91A5-0C27A83D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F42-B7E9-4910-8D65-94D7A366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A4B-906D-4A05-AF0D-4C1EAD5C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E4F-D22E-47EE-9486-B2F40245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6A4A-A4C9-4BC2-AA08-30390A9C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046-D827-4F85-9FCF-3E028ADE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774-06DE-4FE8-B1A6-FD32AA1F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579640" y="6524280"/>
            <a:ext cx="156204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78920" y="6524280"/>
            <a:ext cx="526428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08720" y="6524280"/>
            <a:ext cx="432000" cy="1443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5F1681B8-316D-4D7F-94A7-68A07353D36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50520" y="1890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a6c8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89000" y="189000"/>
            <a:ext cx="532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tage de fin d’études – Blaise LENG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50520" y="80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a6c8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7129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189000"/>
            <a:ext cx="489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1440" y="6667560"/>
            <a:ext cx="441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R32 UC3000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 algn="ctr">
              <a:spcBef>
                <a:spcPts val="675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7796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5740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86080" indent="2314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7129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800" spc="-1" strike="noStrike">
                <a:solidFill>
                  <a:srgbClr val="0060aa"/>
                </a:solidFill>
                <a:latin typeface="Arial Black"/>
              </a:rPr>
              <a:t>Conception d’une librairie de traitement du signal </a:t>
            </a:r>
            <a:br>
              <a:rPr sz="2800"/>
            </a:br>
            <a:r>
              <a:rPr b="1" i="1" lang="fr-FR" sz="2800" spc="-1" strike="noStrike">
                <a:solidFill>
                  <a:srgbClr val="0060aa"/>
                </a:solidFill>
                <a:latin typeface="Arial Black"/>
              </a:rPr>
              <a:t>optimisée pour l’AVR32 UC3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3716280"/>
            <a:ext cx="712944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tmel Nantes S.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laise LENGRAND –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 la DSPLib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nctions – séparées en 2 librai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brairie bas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perat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ect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lt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ransformé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enêtr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énération de signau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bog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brairie avancé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ression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(ADPC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éléphoni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(CallerId, CAG, …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gulateur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(PI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EBC6-CD43-4B93-9670-2A6412989F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 la DSPLib (3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bres à virgule-fixe sur 16 et 32 bi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bres complexes (16 et 32 bi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ecteurs réels et complexes (16 et 32 bi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tibilit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de compilable sous AVR32-GCC et I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que fonction a une version générique (codée en C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algorithmes sont compatibles avec les types 16 bits et 32 bi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que fonction a une version optimisée pour l’AVR32 UC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ptions d’optimisation de l’algorithmiqu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 vitesse, en taille et en précis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524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C98C-9513-4384-BEBA-2C22E9D3BB8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Gestion de proje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3384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anning prévisionn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iagramme de GANT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ises à jours réguliè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ycle en 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5616360" cy="3240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80000" y="1628640"/>
            <a:ext cx="338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anning effec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69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apport hebdomadaire (Weekl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DEC-27B1-4BD5-B16E-5EDC962DAE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éveloppement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chitecture de la librair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54000" y="2543040"/>
          <a:ext cx="6445440" cy="29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543040"/>
                    <a:ext cx="6445440" cy="29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531-43ED-4AE2-9E7F-15AE9A41C3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éveloppement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66640" y="1811160"/>
          <a:ext cx="5862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811160"/>
                    <a:ext cx="5862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B72-B182-42F8-9571-09768523860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éveloppement (3) - 1</a:t>
            </a:r>
            <a:r>
              <a:rPr b="1" lang="fr-FR" sz="2400" spc="-1" strike="noStrike" baseline="30000">
                <a:solidFill>
                  <a:srgbClr val="0060aa"/>
                </a:solidFill>
                <a:latin typeface="Arial Black"/>
              </a:rPr>
              <a:t>ère</a:t>
            </a: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 phase - Conception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70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cherche de documentations sur les algorithmes utilisé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ception et validation des algorithmes avec l’outil Scila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7E0E-038F-4CFD-A50B-CF9D840750B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Développement (3) - 2</a:t>
            </a:r>
            <a:r>
              <a:rPr b="1" lang="fr-FR" sz="2000" spc="-1" strike="noStrike" baseline="30000">
                <a:solidFill>
                  <a:srgbClr val="0060aa"/>
                </a:solidFill>
                <a:latin typeface="Arial Black"/>
              </a:rPr>
              <a:t>ème</a:t>
            </a: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 phase - Développement</a:t>
            </a:r>
            <a:endParaRPr b="1" lang="en-US" sz="20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70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 des versions génériques (16 et 32 bit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dage de l’algorithme en 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sts et débog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araisons des résultats avec ceux de la conception (Scilab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tilisation d’outils personnalisé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tits programmes codés en C sous Windows pour récupérer, extraire et afficher les résultats afin d’en faciliter l’analys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1135" t="13312" r="16362" b="34301"/>
          <a:stretch/>
        </p:blipFill>
        <p:spPr>
          <a:xfrm>
            <a:off x="5076720" y="4869000"/>
            <a:ext cx="2376720" cy="149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4437000"/>
            <a:ext cx="5112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5368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69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dage de l’algorithme en C et en assembleu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69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sts et débog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0160" indent="-19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même que pour les versions généri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3933720"/>
            <a:ext cx="7667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3" marL="1521360" indent="-25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 des versions optimis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F50-B8F7-4A61-8186-77FB63E9F9F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Développement (4) - 2</a:t>
            </a:r>
            <a:r>
              <a:rPr b="1" lang="fr-FR" sz="2000" spc="-1" strike="noStrike" baseline="30000">
                <a:solidFill>
                  <a:srgbClr val="0060aa"/>
                </a:solidFill>
                <a:latin typeface="Arial Black"/>
              </a:rPr>
              <a:t>ème</a:t>
            </a: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 phase - Développement</a:t>
            </a:r>
            <a:endParaRPr b="1" lang="en-US" sz="20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dentification de bugs (liés aux outils principalement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ugzill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position d’une nouvelle instruction à rajouter au jeu d’instruction de l’AVR32 UC3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div2hh.w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div2hh.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ur l’exemple de la FFT, cette instruction ferait gagner jusqu’à 20% de temps d’exécution de l’algorithm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sulta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48 fonctions codé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4287960"/>
          <a:ext cx="7056360" cy="2190600"/>
        </p:xfrm>
        <a:graphic>
          <a:graphicData uri="http://schemas.openxmlformats.org/drawingml/2006/table">
            <a:tbl>
              <a:tblPr/>
              <a:tblGrid>
                <a:gridCol w="2096280"/>
                <a:gridCol w="2025720"/>
                <a:gridCol w="293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df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nes de c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df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nes de comment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dfc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irie ba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irie avanc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 60/j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 30/j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BD0-51F5-473F-9A66-FDAABCC084F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7488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érê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 positionner par rapport à la concurre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lider la conception et le développ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tilisation d’un script pour automatiser le processu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réation d’un fichier de configur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ilation du benchmar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ncement du benchmar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cupération des donné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ploitation des donné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tractions des données important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lcul du taux d’erreur avec un résultat de référen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 des résultats du benchmar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DBE-F4FD-4FF3-836A-4FD0F0D5480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7488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araison entre les versions génériques (codées en C) et optimisées des fonctions de la DSPLi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En pourcentage du temps mis pour exécuter la version générique de la fonction concerné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89000" y="2975040"/>
            <a:ext cx="7372440" cy="3362040"/>
            <a:chOff x="189000" y="2975040"/>
            <a:chExt cx="7372440" cy="3362040"/>
          </a:xfrm>
        </p:grpSpPr>
        <p:graphicFrame>
          <p:nvGraphicFramePr>
            <p:cNvPr id="156" name=""/>
            <p:cNvGraphicFramePr/>
            <p:nvPr/>
          </p:nvGraphicFramePr>
          <p:xfrm>
            <a:off x="189000" y="2975040"/>
            <a:ext cx="7372440" cy="32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9000" y="2975040"/>
                      <a:ext cx="7372440" cy="32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2987640" y="6060960"/>
              <a:ext cx="93672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4AB-F7AF-4F63-9096-93916AB37EB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ommaire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ésentation de l’entrepr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pécifications des produits AVR32 UC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ésentation de la « Software Framework 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hier des char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pécifications de la DSPLi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estion de proj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enchma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p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7DE-DBA9-4D9B-A1FD-3B81996EC2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3) – FF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628640"/>
            <a:ext cx="7364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raison des performances avec la concur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01520" y="2419200"/>
            <a:ext cx="7566120" cy="3601800"/>
            <a:chOff x="101520" y="2419200"/>
            <a:chExt cx="7566120" cy="3601800"/>
          </a:xfrm>
        </p:grpSpPr>
        <p:grpSp>
          <p:nvGrpSpPr>
            <p:cNvPr id="162" name=""/>
            <p:cNvGrpSpPr/>
            <p:nvPr/>
          </p:nvGrpSpPr>
          <p:grpSpPr>
            <a:xfrm>
              <a:off x="101520" y="2419200"/>
              <a:ext cx="7276680" cy="2207520"/>
              <a:chOff x="101520" y="2419200"/>
              <a:chExt cx="7276680" cy="2207520"/>
            </a:xfrm>
          </p:grpSpPr>
          <p:graphicFrame>
            <p:nvGraphicFramePr>
              <p:cNvPr id="163" name=""/>
              <p:cNvGraphicFramePr/>
              <p:nvPr/>
            </p:nvGraphicFramePr>
            <p:xfrm>
              <a:off x="272880" y="2419200"/>
              <a:ext cx="7105320" cy="10569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2880" y="2419200"/>
                        <a:ext cx="7105320" cy="105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65" name=""/>
              <p:cNvGraphicFramePr/>
              <p:nvPr/>
            </p:nvGraphicFramePr>
            <p:xfrm>
              <a:off x="101520" y="3350880"/>
              <a:ext cx="6981480" cy="127584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1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01520" y="3350880"/>
                        <a:ext cx="6981480" cy="1275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67" name=""/>
            <p:cNvGrpSpPr/>
            <p:nvPr/>
          </p:nvGrpSpPr>
          <p:grpSpPr>
            <a:xfrm>
              <a:off x="155520" y="4411440"/>
              <a:ext cx="7512120" cy="1609560"/>
              <a:chOff x="155520" y="4411440"/>
              <a:chExt cx="7512120" cy="1609560"/>
            </a:xfrm>
          </p:grpSpPr>
          <p:graphicFrame>
            <p:nvGraphicFramePr>
              <p:cNvPr id="168" name=""/>
              <p:cNvGraphicFramePr/>
              <p:nvPr/>
            </p:nvGraphicFramePr>
            <p:xfrm>
              <a:off x="155520" y="4411440"/>
              <a:ext cx="7512120" cy="160956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16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520" y="4411440"/>
                        <a:ext cx="7512120" cy="160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0" name=""/>
              <p:cNvSpPr/>
              <p:nvPr/>
            </p:nvSpPr>
            <p:spPr>
              <a:xfrm>
                <a:off x="754200" y="4468320"/>
                <a:ext cx="233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1000" spc="-1" strike="noStrike">
                    <a:solidFill>
                      <a:srgbClr val="000000"/>
                    </a:solidFill>
                    <a:latin typeface="Arial"/>
                  </a:rPr>
                  <a:t>Aucune donnée disponible pour dsPI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11A-B4B4-4ADD-B6A6-554B985D2083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4) – Filtres IIR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25600" y="2525760"/>
          <a:ext cx="6580080" cy="31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2525760"/>
                    <a:ext cx="658008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79280" y="1628640"/>
            <a:ext cx="7364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raison des performances avec la concur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FF7-41CF-45F8-9266-96EE253A6812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5) – Filtres IIR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628640"/>
            <a:ext cx="7364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raison des performances avec la concur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06360" y="2325600"/>
          <a:ext cx="6515280" cy="46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2325600"/>
                    <a:ext cx="651528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B48-9602-48AC-A098-FEEA7EEA15E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6) – « TI Bench »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enchmark proposant de multiples code sources permettant d’évaluer globalement les performances d’un microcontrôleu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.I. fournit aussi les résultats du « TI Bench » exécuté sur de nombreux microcontrôleurs: dsPIC, ARM7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ploitation des résult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ien placé par rapport à la concurrence dans l’ensem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uvaise gestion des nombres à virgules-flottan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761-6DE1-4DE3-8166-37416141997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ocumentation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out le code est documenté en Doxygen, de même pour chacun des exemp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éalisation d’une documentation complète appelée « profile » pour les fonctions importan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réation de « readme.html » permettant de naviguer rapidement dans l’architecture de la librairie et d’en ressortir les fonctionnalités principa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1D7-A7FB-40D2-9796-861A69A6E33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Apports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l’entrepr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veloppement d’une librairie complète de traitement du signal optimisée pour l’AVR32 UC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férencement de différents bugs (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position d’amélioration du cœur AVR32 UC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alisation de petits travaux: TI Bench, présentation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mo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grès en optimisation d’algorithme et de code (assembleur et C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grès en traitement du sign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daction de documentations techniques destinées aux clients et aux usages intern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llaboration avec d’autres ingénieu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duite d’un projet compl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00B-B060-4A39-8BEA-B26688FAF7A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s produits AVR32 UC3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ible consom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ispose de mémoire FLA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cture/Ecriture de la SRAM interne en 1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 nombreuses fonctionnalités do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ull speed USB 2.0 OT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hernet 10/100 Mbits (*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ultiples canaux 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Jeu d’instructions DS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 Dhrystone MIPS/MHz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81400" y="3860640"/>
            <a:ext cx="2879640" cy="205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9280" y="61977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*) Pour la série A uniqu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6CA-18B5-4A95-AD96-6D3C94AF72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s produits AVR32 UC3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7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 étages de pipeli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efe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é-chargement d’une instruction 32 bits ou de deux de 16 bits tous les cycles d’horlo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codage de l’instruc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sous-sections: ALU, Multiplication, Lecture/Ecritur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5153040" cy="24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6CDD-7869-4B68-B09B-6496DCAE33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s produits AVR32 UC3 (3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cture/Ecri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ccès aux données de 8, 16, 32 ou 64 bits avec différents modes d’adress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structions DS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C, MUL, ADD/SUB avec décalages et arrondi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od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écanismes de protection de la mémoire (MPU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ible densité du co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0% plus performant que l’ARM7 (Thumb) ou le Cortex M3 (Thumb2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29A-4A62-4B75-8315-AB53FC4EEC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Présentation de la « Software Framework » 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673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e librairie comporta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dri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urnissant une interface permettant de faire abstraction des périphériques du microcontrôleu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serv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ensemble de sous-librairies haut niveau (c’est dans ce module qu’intervient la DSPLib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 exemples complets utilisant les services et les driver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26920" y="5373720"/>
            <a:ext cx="3024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4264200" y="1677960"/>
          <a:ext cx="3236760" cy="451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4200" y="1677960"/>
                    <a:ext cx="323676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52F-9370-4C48-BDB4-24C0D81A97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Cahier des charges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ception d’une librairie de traitement du signal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optimisée pour l’AVR32 UC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dentifier et spécifier les principales fonctions de traitement du signal à intégrer dans la librairi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a librairie et l’intégrer dans un environnement déjà exista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miser au mieux les fonctions en exploitant toutes les ressources du microcontrôleu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ctuer des tests de performances sur les différentes fonctions de la librairie et les comparer avec la concurre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15A9-95AB-4495-8886-62E0E4C730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Prise en main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 du driver R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se en main des logiciels - AVR32-GNU tool chain, IAR, Tortoise SV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se en main du matériel – JTAG ICE mkII, EVK1100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2714760"/>
            <a:ext cx="1371600" cy="1218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363840" y="2852640"/>
            <a:ext cx="135252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6966" t="0" r="0" b="0"/>
          <a:stretch/>
        </p:blipFill>
        <p:spPr>
          <a:xfrm>
            <a:off x="5796000" y="2719440"/>
            <a:ext cx="1200240" cy="1285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32080" y="2786040"/>
            <a:ext cx="148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32080" y="2786040"/>
            <a:ext cx="14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32080" y="2786040"/>
            <a:ext cx="119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328760" y="4437000"/>
            <a:ext cx="2235240" cy="2160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rcRect l="16998" t="4316" r="17137" b="5393"/>
          <a:stretch/>
        </p:blipFill>
        <p:spPr>
          <a:xfrm>
            <a:off x="4102200" y="4581360"/>
            <a:ext cx="2054160" cy="187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BB3-FFCC-4660-AF1E-C87F3782493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 la DSPLib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éth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 la concurrence directe (1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TMicroelectronics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STR91x DSP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crochip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dsPIC DSC DSP Algorithm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 la concurrence indirecte (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xas Instrument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TMS320C64x DSP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s librairies disponibles sur Int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umerix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SigLib DSP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s cl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r l’intermédiaire 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gis Latawiec (marketeur du produit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540480" y="2790720"/>
            <a:ext cx="824040" cy="701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16226" r="0" b="18015"/>
          <a:stretch/>
        </p:blipFill>
        <p:spPr>
          <a:xfrm>
            <a:off x="6516720" y="1989000"/>
            <a:ext cx="984240" cy="657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9280" y="5589720"/>
            <a:ext cx="71852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 concurrents dont le produit est équivalent à l’AVR32 UC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 concurrents mais dont le produit concerné n’est pas comparable avec l’AVR32 UC3 mais qui fournissent eux aussi une librairie DS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940360" y="4255920"/>
            <a:ext cx="1584360" cy="5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D97-5BA2-43CC-8D84-810B7E95D3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06:23:51Z</dcterms:created>
  <dc:creator>Régis Latawiec</dc:creator>
  <dc:description/>
  <dc:language>en-US</dc:language>
  <cp:lastModifiedBy>user</cp:lastModifiedBy>
  <dcterms:modified xsi:type="dcterms:W3CDTF">2007-07-02T14:27:57Z</dcterms:modified>
  <cp:revision>1511</cp:revision>
  <dc:subject/>
  <dc:title>AVR32 - UC3000 Product Line Int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