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3808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12760" y="100080"/>
            <a:ext cx="140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42160" y="100080"/>
            <a:ext cx="2130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P802.11-97/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91440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2.4-GHz PHY PERFORMANCE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3800" y="431496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Amplifier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linearities &amp;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08040" y="2120760"/>
            <a:ext cx="6057720" cy="3495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896000" y="5689440"/>
            <a:ext cx="2158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ized Power Ampl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21000" y="5618160"/>
            <a:ext cx="2465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K must avoid PA nonlinearities to avo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eneration of spectral sidebands; MSK 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 right into satu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Codes for Spatial Re-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38240" y="2009880"/>
            <a:ext cx="3733920" cy="375300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71840" y="2009880"/>
            <a:ext cx="3733920" cy="375300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771560"/>
            <a:ext cx="0" cy="438156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746440" y="3714840"/>
            <a:ext cx="455760" cy="352440"/>
            <a:chOff x="2746440" y="3714840"/>
            <a:chExt cx="455760" cy="352440"/>
          </a:xfrm>
        </p:grpSpPr>
        <p:sp>
          <p:nvSpPr>
            <p:cNvPr id="83" name=""/>
            <p:cNvSpPr/>
            <p:nvPr/>
          </p:nvSpPr>
          <p:spPr>
            <a:xfrm>
              <a:off x="2800440" y="3714840"/>
              <a:ext cx="343080" cy="3524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2746440" y="3751200"/>
              <a:ext cx="455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095880" y="3743280"/>
            <a:ext cx="343080" cy="3524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32520" y="3789360"/>
            <a:ext cx="45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33720" y="3057480"/>
            <a:ext cx="619200" cy="166680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975120" y="4124160"/>
            <a:ext cx="471600" cy="352440"/>
            <a:chOff x="3975120" y="4124160"/>
            <a:chExt cx="471600" cy="352440"/>
          </a:xfrm>
        </p:grpSpPr>
        <p:sp>
          <p:nvSpPr>
            <p:cNvPr id="89" name=""/>
            <p:cNvSpPr/>
            <p:nvPr/>
          </p:nvSpPr>
          <p:spPr>
            <a:xfrm>
              <a:off x="4029120" y="4124160"/>
              <a:ext cx="343080" cy="3524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3975120" y="41702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152880" y="3914640"/>
            <a:ext cx="828720" cy="32400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76600" y="3981600"/>
            <a:ext cx="1476360" cy="276120"/>
          </a:xfrm>
          <a:prstGeom prst="line">
            <a:avLst/>
          </a:prstGeom>
          <a:ln w="12600">
            <a:solidFill>
              <a:srgbClr val="fc0128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84080" y="5856120"/>
            <a:ext cx="3654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TA just slightly closer to AP1 than A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an operate if it is not distracted by AP2’s trans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746600" y="5875200"/>
            <a:ext cx="3484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7b00e4"/>
                </a:solidFill>
                <a:latin typeface="Times New Roman"/>
                <a:ea typeface="Times New Roman"/>
              </a:rPr>
              <a:t>STA-to-STA “near/far” or “hidden-terminal”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7b00e4"/>
                </a:solidFill>
                <a:latin typeface="Times New Roman"/>
                <a:ea typeface="Times New Roman"/>
              </a:rPr>
              <a:t>solved by high data rate plus retransmission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851360" y="4381560"/>
            <a:ext cx="471600" cy="352440"/>
            <a:chOff x="4851360" y="4381560"/>
            <a:chExt cx="471600" cy="352440"/>
          </a:xfrm>
        </p:grpSpPr>
        <p:sp>
          <p:nvSpPr>
            <p:cNvPr id="96" name=""/>
            <p:cNvSpPr/>
            <p:nvPr/>
          </p:nvSpPr>
          <p:spPr>
            <a:xfrm>
              <a:off x="4905360" y="4381560"/>
              <a:ext cx="343080" cy="3524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851360" y="44276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 flipV="1">
            <a:off x="5343480" y="4095720"/>
            <a:ext cx="743040" cy="371520"/>
          </a:xfrm>
          <a:prstGeom prst="line">
            <a:avLst/>
          </a:prstGeom>
          <a:ln w="12600">
            <a:solidFill>
              <a:srgbClr val="7b00e4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81560" y="4390920"/>
            <a:ext cx="495360" cy="123840"/>
          </a:xfrm>
          <a:prstGeom prst="line">
            <a:avLst/>
          </a:prstGeom>
          <a:ln w="12600">
            <a:solidFill>
              <a:srgbClr val="7b00e4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PN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2971800"/>
            <a:ext cx="152280" cy="15228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971800"/>
            <a:ext cx="152280" cy="152280"/>
          </a:xfrm>
          <a:prstGeom prst="ellipse">
            <a:avLst/>
          </a:prstGeom>
          <a:solidFill>
            <a:srgbClr val="a2ffa3"/>
          </a:solidFill>
          <a:ln w="12600">
            <a:solidFill>
              <a:srgbClr val="a2ffa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971800"/>
            <a:ext cx="152280" cy="152280"/>
          </a:xfrm>
          <a:prstGeom prst="ellipse">
            <a:avLst/>
          </a:prstGeom>
          <a:solidFill>
            <a:srgbClr val="a2ffa3"/>
          </a:solidFill>
          <a:ln w="12600">
            <a:solidFill>
              <a:srgbClr val="a2ffa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257800"/>
            <a:ext cx="152280" cy="15228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5257800"/>
            <a:ext cx="152280" cy="15228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1905120"/>
            <a:ext cx="2209680" cy="2286000"/>
          </a:xfrm>
          <a:prstGeom prst="ellipse">
            <a:avLst/>
          </a:prstGeom>
          <a:noFill/>
          <a:ln w="25560">
            <a:solidFill>
              <a:srgbClr val="a2ffa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1905120"/>
            <a:ext cx="2209680" cy="2286000"/>
          </a:xfrm>
          <a:prstGeom prst="ellipse">
            <a:avLst/>
          </a:prstGeom>
          <a:noFill/>
          <a:ln w="25560">
            <a:solidFill>
              <a:srgbClr val="a2ffa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1905120"/>
            <a:ext cx="2209680" cy="2286000"/>
          </a:xfrm>
          <a:prstGeom prst="ellipse">
            <a:avLst/>
          </a:prstGeom>
          <a:noFill/>
          <a:ln w="25560">
            <a:solidFill>
              <a:srgbClr val="a2ffa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4191120"/>
            <a:ext cx="2209680" cy="2286000"/>
          </a:xfrm>
          <a:prstGeom prst="ellipse">
            <a:avLst/>
          </a:prstGeom>
          <a:noFill/>
          <a:ln w="25560">
            <a:solidFill>
              <a:srgbClr val="a2ffa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191120"/>
            <a:ext cx="2209680" cy="2286000"/>
          </a:xfrm>
          <a:prstGeom prst="ellipse">
            <a:avLst/>
          </a:prstGeom>
          <a:noFill/>
          <a:ln w="25560">
            <a:solidFill>
              <a:srgbClr val="a2ffa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4191120"/>
            <a:ext cx="2209680" cy="2286000"/>
          </a:xfrm>
          <a:prstGeom prst="ellipse">
            <a:avLst/>
          </a:prstGeom>
          <a:noFill/>
          <a:ln w="25560">
            <a:solidFill>
              <a:srgbClr val="a2ffa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Two 10-Mbps Ban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Different PN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2971800"/>
            <a:ext cx="152280" cy="15228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2971800"/>
            <a:ext cx="152280" cy="152280"/>
          </a:xfrm>
          <a:prstGeom prst="ellipse">
            <a:avLst/>
          </a:prstGeom>
          <a:solidFill>
            <a:srgbClr val="a2ffa3"/>
          </a:solidFill>
          <a:ln w="12600">
            <a:solidFill>
              <a:srgbClr val="a2ffa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971800"/>
            <a:ext cx="152280" cy="152280"/>
          </a:xfrm>
          <a:prstGeom prst="ellipse">
            <a:avLst/>
          </a:prstGeom>
          <a:solidFill>
            <a:srgbClr val="a2ffa3"/>
          </a:solidFill>
          <a:ln w="12600">
            <a:solidFill>
              <a:srgbClr val="a2ffa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114800"/>
            <a:ext cx="152280" cy="15228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114800"/>
            <a:ext cx="152280" cy="15228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114800"/>
            <a:ext cx="152280" cy="15228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4114800"/>
            <a:ext cx="152280" cy="15228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5257800"/>
            <a:ext cx="152280" cy="15228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257800"/>
            <a:ext cx="152280" cy="15228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6400800"/>
            <a:ext cx="152280" cy="15228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6400800"/>
            <a:ext cx="152280" cy="15228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6400800"/>
            <a:ext cx="152280" cy="15228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6400800"/>
            <a:ext cx="152280" cy="15228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905120"/>
            <a:ext cx="2209680" cy="2286000"/>
          </a:xfrm>
          <a:prstGeom prst="ellipse">
            <a:avLst/>
          </a:prstGeom>
          <a:noFill/>
          <a:ln w="25560">
            <a:solidFill>
              <a:srgbClr val="a2ffa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1905120"/>
            <a:ext cx="2209680" cy="2286000"/>
          </a:xfrm>
          <a:prstGeom prst="ellipse">
            <a:avLst/>
          </a:prstGeom>
          <a:noFill/>
          <a:ln w="25560">
            <a:solidFill>
              <a:srgbClr val="a2ffa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1905120"/>
            <a:ext cx="2209680" cy="2286000"/>
          </a:xfrm>
          <a:prstGeom prst="ellipse">
            <a:avLst/>
          </a:prstGeom>
          <a:noFill/>
          <a:ln w="25560">
            <a:solidFill>
              <a:srgbClr val="a2ffa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191120"/>
            <a:ext cx="2209680" cy="2286000"/>
          </a:xfrm>
          <a:prstGeom prst="ellipse">
            <a:avLst/>
          </a:prstGeom>
          <a:noFill/>
          <a:ln w="25560">
            <a:solidFill>
              <a:srgbClr val="a2ffa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191120"/>
            <a:ext cx="2209680" cy="2286000"/>
          </a:xfrm>
          <a:prstGeom prst="ellipse">
            <a:avLst/>
          </a:prstGeom>
          <a:noFill/>
          <a:ln w="25560">
            <a:solidFill>
              <a:srgbClr val="a2ffa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4191120"/>
            <a:ext cx="2209680" cy="2286000"/>
          </a:xfrm>
          <a:prstGeom prst="ellipse">
            <a:avLst/>
          </a:prstGeom>
          <a:noFill/>
          <a:ln w="25560">
            <a:solidFill>
              <a:srgbClr val="a2ffa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048120"/>
            <a:ext cx="2209680" cy="2286000"/>
          </a:xfrm>
          <a:prstGeom prst="ellipse">
            <a:avLst/>
          </a:prstGeom>
          <a:noFill/>
          <a:ln w="25560">
            <a:solidFill>
              <a:srgbClr val="a2c1fe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2971800"/>
            <a:ext cx="2209680" cy="2286000"/>
          </a:xfrm>
          <a:prstGeom prst="ellipse">
            <a:avLst/>
          </a:prstGeom>
          <a:noFill/>
          <a:ln w="25560">
            <a:solidFill>
              <a:srgbClr val="a2c1fe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47920" y="3124080"/>
            <a:ext cx="1067040" cy="2134080"/>
            <a:chOff x="1447920" y="3124080"/>
            <a:chExt cx="1067040" cy="2134080"/>
          </a:xfrm>
        </p:grpSpPr>
        <p:sp>
          <p:nvSpPr>
            <p:cNvPr id="137" name=""/>
            <p:cNvSpPr/>
            <p:nvPr/>
          </p:nvSpPr>
          <p:spPr>
            <a:xfrm>
              <a:off x="1447920" y="3124080"/>
              <a:ext cx="1067040" cy="1067040"/>
            </a:xfrm>
            <a:custGeom>
              <a:avLst/>
              <a:gdLst/>
              <a:ahLst/>
              <a:rect l="0" t="0" r="r" b="b"/>
              <a:pathLst>
                <a:path fill="none" w="2964" h="2964">
                  <a:moveTo>
                    <a:pt x="2964" y="2964"/>
                  </a:moveTo>
                  <a:lnTo>
                    <a:pt x="2964" y="2964"/>
                  </a:lnTo>
                  <a:lnTo>
                    <a:pt x="2964" y="2964"/>
                  </a:lnTo>
                  <a:cubicBezTo>
                    <a:pt x="2964" y="2444"/>
                    <a:pt x="2827" y="1933"/>
                    <a:pt x="2567" y="1482"/>
                  </a:cubicBezTo>
                  <a:cubicBezTo>
                    <a:pt x="2307" y="1031"/>
                    <a:pt x="1933" y="657"/>
                    <a:pt x="1482" y="397"/>
                  </a:cubicBezTo>
                  <a:cubicBezTo>
                    <a:pt x="1031" y="137"/>
                    <a:pt x="520" y="0"/>
                    <a:pt x="0" y="0"/>
                  </a:cubicBezTo>
                </a:path>
              </a:pathLst>
            </a:custGeom>
            <a:ln w="25560">
              <a:solidFill>
                <a:srgbClr val="a2c1fe"/>
              </a:solidFill>
              <a:custDash>
                <a:ds d="198592" sp="198592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920" y="4191120"/>
              <a:ext cx="1067040" cy="1067040"/>
            </a:xfrm>
            <a:custGeom>
              <a:avLst/>
              <a:gdLst/>
              <a:ahLst/>
              <a:rect l="0" t="0" r="r" b="b"/>
              <a:pathLst>
                <a:path fill="none" w="2964" h="2964">
                  <a:moveTo>
                    <a:pt x="0" y="2964"/>
                  </a:moveTo>
                  <a:lnTo>
                    <a:pt x="0" y="2964"/>
                  </a:lnTo>
                  <a:cubicBezTo>
                    <a:pt x="520" y="2964"/>
                    <a:pt x="1031" y="2827"/>
                    <a:pt x="1482" y="2567"/>
                  </a:cubicBezTo>
                  <a:cubicBezTo>
                    <a:pt x="1933" y="2307"/>
                    <a:pt x="2307" y="1933"/>
                    <a:pt x="2567" y="1482"/>
                  </a:cubicBezTo>
                  <a:cubicBezTo>
                    <a:pt x="2827" y="1031"/>
                    <a:pt x="2964" y="520"/>
                    <a:pt x="2964" y="0"/>
                  </a:cubicBezTo>
                </a:path>
              </a:pathLst>
            </a:custGeom>
            <a:ln w="25560">
              <a:solidFill>
                <a:srgbClr val="a2c1fe"/>
              </a:solidFill>
              <a:custDash>
                <a:ds d="198592" sp="198592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934320" y="3124080"/>
            <a:ext cx="1067040" cy="2134080"/>
            <a:chOff x="6934320" y="3124080"/>
            <a:chExt cx="1067040" cy="2134080"/>
          </a:xfrm>
        </p:grpSpPr>
        <p:sp>
          <p:nvSpPr>
            <p:cNvPr id="140" name=""/>
            <p:cNvSpPr/>
            <p:nvPr/>
          </p:nvSpPr>
          <p:spPr>
            <a:xfrm>
              <a:off x="6934320" y="3124080"/>
              <a:ext cx="1067040" cy="1067040"/>
            </a:xfrm>
            <a:custGeom>
              <a:avLst/>
              <a:gdLst/>
              <a:ahLst/>
              <a:rect l="0" t="0" r="r" b="b"/>
              <a:pathLst>
                <a:path fill="none" w="2964" h="2964">
                  <a:moveTo>
                    <a:pt x="2964" y="0"/>
                  </a:moveTo>
                  <a:lnTo>
                    <a:pt x="2964" y="0"/>
                  </a:lnTo>
                  <a:cubicBezTo>
                    <a:pt x="2444" y="0"/>
                    <a:pt x="1933" y="137"/>
                    <a:pt x="1482" y="397"/>
                  </a:cubicBezTo>
                  <a:cubicBezTo>
                    <a:pt x="1031" y="657"/>
                    <a:pt x="657" y="1031"/>
                    <a:pt x="397" y="1482"/>
                  </a:cubicBezTo>
                  <a:cubicBezTo>
                    <a:pt x="137" y="1933"/>
                    <a:pt x="0" y="2444"/>
                    <a:pt x="0" y="2964"/>
                  </a:cubicBezTo>
                </a:path>
              </a:pathLst>
            </a:custGeom>
            <a:ln w="25560">
              <a:solidFill>
                <a:srgbClr val="a2c1fe"/>
              </a:solidFill>
              <a:custDash>
                <a:ds d="198592" sp="198592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34320" y="4191120"/>
              <a:ext cx="1067040" cy="1067040"/>
            </a:xfrm>
            <a:custGeom>
              <a:avLst/>
              <a:gdLst/>
              <a:ahLst/>
              <a:rect l="0" t="0" r="r" b="b"/>
              <a:pathLst>
                <a:path fill="none" w="2964" h="2964">
                  <a:moveTo>
                    <a:pt x="0" y="0"/>
                  </a:moveTo>
                  <a:lnTo>
                    <a:pt x="0" y="0"/>
                  </a:lnTo>
                  <a:cubicBezTo>
                    <a:pt x="0" y="520"/>
                    <a:pt x="137" y="1031"/>
                    <a:pt x="397" y="1482"/>
                  </a:cubicBezTo>
                  <a:cubicBezTo>
                    <a:pt x="657" y="1933"/>
                    <a:pt x="1031" y="2307"/>
                    <a:pt x="1482" y="2567"/>
                  </a:cubicBezTo>
                  <a:cubicBezTo>
                    <a:pt x="1933" y="2827"/>
                    <a:pt x="2444" y="2964"/>
                    <a:pt x="2964" y="2964"/>
                  </a:cubicBezTo>
                </a:path>
              </a:pathLst>
            </a:custGeom>
            <a:ln w="25560">
              <a:solidFill>
                <a:srgbClr val="a2c1fe"/>
              </a:solidFill>
              <a:custDash>
                <a:ds d="198592" sp="198592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438280" y="5334120"/>
            <a:ext cx="2134080" cy="1067040"/>
            <a:chOff x="2438280" y="5334120"/>
            <a:chExt cx="2134080" cy="1067040"/>
          </a:xfrm>
        </p:grpSpPr>
        <p:sp>
          <p:nvSpPr>
            <p:cNvPr id="143" name=""/>
            <p:cNvSpPr/>
            <p:nvPr/>
          </p:nvSpPr>
          <p:spPr>
            <a:xfrm>
              <a:off x="3505320" y="5334120"/>
              <a:ext cx="1067040" cy="1067040"/>
            </a:xfrm>
            <a:custGeom>
              <a:avLst/>
              <a:gdLst/>
              <a:ahLst/>
              <a:rect l="0" t="0" r="r" b="b"/>
              <a:pathLst>
                <a:path fill="none" w="2964" h="2964">
                  <a:moveTo>
                    <a:pt x="2964" y="2964"/>
                  </a:moveTo>
                  <a:lnTo>
                    <a:pt x="2964" y="2964"/>
                  </a:lnTo>
                  <a:lnTo>
                    <a:pt x="2964" y="2964"/>
                  </a:lnTo>
                  <a:cubicBezTo>
                    <a:pt x="2964" y="2444"/>
                    <a:pt x="2827" y="1933"/>
                    <a:pt x="2567" y="1482"/>
                  </a:cubicBezTo>
                  <a:cubicBezTo>
                    <a:pt x="2307" y="1031"/>
                    <a:pt x="1933" y="657"/>
                    <a:pt x="1482" y="397"/>
                  </a:cubicBezTo>
                  <a:cubicBezTo>
                    <a:pt x="1031" y="137"/>
                    <a:pt x="520" y="0"/>
                    <a:pt x="0" y="0"/>
                  </a:cubicBezTo>
                </a:path>
              </a:pathLst>
            </a:custGeom>
            <a:ln w="25560">
              <a:solidFill>
                <a:srgbClr val="a2c1fe"/>
              </a:solidFill>
              <a:custDash>
                <a:ds d="198592" sp="198592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8280" y="5334120"/>
              <a:ext cx="1067040" cy="1067040"/>
            </a:xfrm>
            <a:custGeom>
              <a:avLst/>
              <a:gdLst/>
              <a:ahLst/>
              <a:rect l="0" t="0" r="r" b="b"/>
              <a:pathLst>
                <a:path fill="none" w="2964" h="2964">
                  <a:moveTo>
                    <a:pt x="2964" y="0"/>
                  </a:moveTo>
                  <a:lnTo>
                    <a:pt x="2964" y="0"/>
                  </a:lnTo>
                  <a:cubicBezTo>
                    <a:pt x="2444" y="0"/>
                    <a:pt x="1933" y="137"/>
                    <a:pt x="1482" y="397"/>
                  </a:cubicBezTo>
                  <a:cubicBezTo>
                    <a:pt x="1031" y="657"/>
                    <a:pt x="657" y="1031"/>
                    <a:pt x="397" y="1482"/>
                  </a:cubicBezTo>
                  <a:cubicBezTo>
                    <a:pt x="137" y="1933"/>
                    <a:pt x="0" y="2444"/>
                    <a:pt x="0" y="2964"/>
                  </a:cubicBezTo>
                </a:path>
              </a:pathLst>
            </a:custGeom>
            <a:ln w="25560">
              <a:solidFill>
                <a:srgbClr val="a2c1fe"/>
              </a:solidFill>
              <a:custDash>
                <a:ds d="198592" sp="198592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648320" y="5334120"/>
            <a:ext cx="2133720" cy="1067040"/>
            <a:chOff x="4648320" y="5334120"/>
            <a:chExt cx="2133720" cy="1067040"/>
          </a:xfrm>
        </p:grpSpPr>
        <p:sp>
          <p:nvSpPr>
            <p:cNvPr id="146" name=""/>
            <p:cNvSpPr/>
            <p:nvPr/>
          </p:nvSpPr>
          <p:spPr>
            <a:xfrm>
              <a:off x="5715000" y="5334120"/>
              <a:ext cx="1067040" cy="1067040"/>
            </a:xfrm>
            <a:custGeom>
              <a:avLst/>
              <a:gdLst/>
              <a:ahLst/>
              <a:rect l="0" t="0" r="r" b="b"/>
              <a:pathLst>
                <a:path fill="none" w="2964" h="2964">
                  <a:moveTo>
                    <a:pt x="2964" y="2964"/>
                  </a:moveTo>
                  <a:lnTo>
                    <a:pt x="2964" y="2964"/>
                  </a:lnTo>
                  <a:lnTo>
                    <a:pt x="2964" y="2964"/>
                  </a:lnTo>
                  <a:cubicBezTo>
                    <a:pt x="2964" y="2444"/>
                    <a:pt x="2827" y="1933"/>
                    <a:pt x="2567" y="1482"/>
                  </a:cubicBezTo>
                  <a:cubicBezTo>
                    <a:pt x="2307" y="1031"/>
                    <a:pt x="1933" y="657"/>
                    <a:pt x="1482" y="397"/>
                  </a:cubicBezTo>
                  <a:cubicBezTo>
                    <a:pt x="1031" y="137"/>
                    <a:pt x="520" y="0"/>
                    <a:pt x="0" y="0"/>
                  </a:cubicBezTo>
                </a:path>
              </a:pathLst>
            </a:custGeom>
            <a:ln w="25560">
              <a:solidFill>
                <a:srgbClr val="a2c1fe"/>
              </a:solidFill>
              <a:custDash>
                <a:ds d="198592" sp="198592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48320" y="5334120"/>
              <a:ext cx="1067040" cy="1067040"/>
            </a:xfrm>
            <a:custGeom>
              <a:avLst/>
              <a:gdLst/>
              <a:ahLst/>
              <a:rect l="0" t="0" r="r" b="b"/>
              <a:pathLst>
                <a:path fill="none" w="2964" h="2964">
                  <a:moveTo>
                    <a:pt x="2964" y="0"/>
                  </a:moveTo>
                  <a:lnTo>
                    <a:pt x="2964" y="0"/>
                  </a:lnTo>
                  <a:cubicBezTo>
                    <a:pt x="2444" y="0"/>
                    <a:pt x="1933" y="137"/>
                    <a:pt x="1482" y="397"/>
                  </a:cubicBezTo>
                  <a:cubicBezTo>
                    <a:pt x="1031" y="657"/>
                    <a:pt x="657" y="1031"/>
                    <a:pt x="397" y="1482"/>
                  </a:cubicBezTo>
                  <a:cubicBezTo>
                    <a:pt x="137" y="1933"/>
                    <a:pt x="0" y="2444"/>
                    <a:pt x="0" y="2964"/>
                  </a:cubicBezTo>
                </a:path>
              </a:pathLst>
            </a:custGeom>
            <a:ln w="25560">
              <a:solidFill>
                <a:srgbClr val="a2c1fe"/>
              </a:solidFill>
              <a:custDash>
                <a:ds d="198592" sp="198592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934320" y="5410080"/>
            <a:ext cx="1067040" cy="1067040"/>
          </a:xfrm>
          <a:custGeom>
            <a:avLst/>
            <a:gdLst/>
            <a:ahLst/>
            <a:rect l="0" t="0" r="r" b="b"/>
            <a:pathLst>
              <a:path fill="none" w="2964" h="2964">
                <a:moveTo>
                  <a:pt x="2964" y="0"/>
                </a:moveTo>
                <a:lnTo>
                  <a:pt x="2964" y="0"/>
                </a:lnTo>
                <a:cubicBezTo>
                  <a:pt x="2444" y="0"/>
                  <a:pt x="1933" y="137"/>
                  <a:pt x="1482" y="397"/>
                </a:cubicBezTo>
                <a:cubicBezTo>
                  <a:pt x="1031" y="657"/>
                  <a:pt x="657" y="1031"/>
                  <a:pt x="397" y="1482"/>
                </a:cubicBezTo>
                <a:cubicBezTo>
                  <a:pt x="137" y="1933"/>
                  <a:pt x="0" y="2444"/>
                  <a:pt x="0" y="2964"/>
                </a:cubicBezTo>
              </a:path>
            </a:pathLst>
          </a:custGeom>
          <a:ln w="25560">
            <a:solidFill>
              <a:srgbClr val="a2c1fe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5334120"/>
            <a:ext cx="1067040" cy="1067040"/>
          </a:xfrm>
          <a:custGeom>
            <a:avLst/>
            <a:gdLst/>
            <a:ahLst/>
            <a:rect l="0" t="0" r="r" b="b"/>
            <a:pathLst>
              <a:path fill="none" w="2964" h="2964">
                <a:moveTo>
                  <a:pt x="2964" y="2964"/>
                </a:moveTo>
                <a:lnTo>
                  <a:pt x="2964" y="2964"/>
                </a:lnTo>
                <a:lnTo>
                  <a:pt x="2964" y="2964"/>
                </a:lnTo>
                <a:cubicBezTo>
                  <a:pt x="2964" y="2444"/>
                  <a:pt x="2827" y="1933"/>
                  <a:pt x="2567" y="1482"/>
                </a:cubicBezTo>
                <a:cubicBezTo>
                  <a:pt x="2307" y="1031"/>
                  <a:pt x="1933" y="657"/>
                  <a:pt x="1482" y="397"/>
                </a:cubicBezTo>
                <a:cubicBezTo>
                  <a:pt x="1031" y="137"/>
                  <a:pt x="520" y="0"/>
                  <a:pt x="0" y="0"/>
                </a:cubicBezTo>
              </a:path>
            </a:pathLst>
          </a:custGeom>
          <a:ln w="25560">
            <a:solidFill>
              <a:srgbClr val="a2c1fe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198108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-Fold Increase in 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&amp;   Very 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 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ly Reduced Power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Frequency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PN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&amp; BSA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ed in Maui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_9750 -  D11_97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s Entirely New PHY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 compatible with 1- &amp; 2-Mbps PH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PHY Header will Burden Throughput for 10-Mbps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Bandwidth Resolves Multi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 with Slower DSSS via Frequency S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urrent for PCMCIA Needs M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Codes for Spatial Re-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Impact of PHY He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9640" y="6200640"/>
            <a:ext cx="778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tention (One-Way Transmission)                       No RTS/CTS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06440" y="1457280"/>
            <a:ext cx="8448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Impact of PHY He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9640" y="6200640"/>
            <a:ext cx="778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tention (One-Way Transmission)                       No RTS/CTS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0600" y="1704960"/>
            <a:ext cx="834408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Impact of PHY Header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RTS/CTS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66920" y="6200640"/>
            <a:ext cx="4762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tention (One-Way Transmi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1520" y="1771560"/>
            <a:ext cx="83898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1  Resolution Bandwid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2057400"/>
            <a:ext cx="1219680" cy="3124440"/>
          </a:xfrm>
          <a:custGeom>
            <a:avLst/>
            <a:gdLst/>
            <a:ahLst/>
            <a:rect l="0" t="0" r="r" b="b"/>
            <a:pathLst>
              <a:path fill="none" w="3388" h="8679">
                <a:moveTo>
                  <a:pt x="3388" y="0"/>
                </a:moveTo>
                <a:lnTo>
                  <a:pt x="3388" y="0"/>
                </a:lnTo>
                <a:cubicBezTo>
                  <a:pt x="2793" y="0"/>
                  <a:pt x="2209" y="401"/>
                  <a:pt x="1694" y="1163"/>
                </a:cubicBezTo>
                <a:cubicBezTo>
                  <a:pt x="1179" y="1925"/>
                  <a:pt x="751" y="3020"/>
                  <a:pt x="454" y="4340"/>
                </a:cubicBezTo>
                <a:cubicBezTo>
                  <a:pt x="157" y="5659"/>
                  <a:pt x="0" y="7156"/>
                  <a:pt x="0" y="867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2057400"/>
            <a:ext cx="1219680" cy="3124440"/>
          </a:xfrm>
          <a:custGeom>
            <a:avLst/>
            <a:gdLst/>
            <a:ahLst/>
            <a:rect l="0" t="0" r="r" b="b"/>
            <a:pathLst>
              <a:path fill="none" w="3388" h="8679">
                <a:moveTo>
                  <a:pt x="3388" y="8679"/>
                </a:moveTo>
                <a:lnTo>
                  <a:pt x="3388" y="8679"/>
                </a:lnTo>
                <a:lnTo>
                  <a:pt x="3388" y="8679"/>
                </a:lnTo>
                <a:cubicBezTo>
                  <a:pt x="3388" y="7156"/>
                  <a:pt x="3231" y="5659"/>
                  <a:pt x="2934" y="4339"/>
                </a:cubicBezTo>
                <a:cubicBezTo>
                  <a:pt x="2637" y="3020"/>
                  <a:pt x="2209" y="1925"/>
                  <a:pt x="1694" y="1163"/>
                </a:cubicBezTo>
                <a:cubicBezTo>
                  <a:pt x="1179" y="401"/>
                  <a:pt x="595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057400"/>
            <a:ext cx="3505680" cy="3124440"/>
          </a:xfrm>
          <a:custGeom>
            <a:avLst/>
            <a:gdLst/>
            <a:ahLst/>
            <a:rect l="0" t="0" r="r" b="b"/>
            <a:pathLst>
              <a:path fill="none" w="9738" h="8679">
                <a:moveTo>
                  <a:pt x="9738" y="8679"/>
                </a:moveTo>
                <a:lnTo>
                  <a:pt x="9738" y="8679"/>
                </a:lnTo>
                <a:lnTo>
                  <a:pt x="9738" y="8679"/>
                </a:lnTo>
                <a:cubicBezTo>
                  <a:pt x="9738" y="7156"/>
                  <a:pt x="9288" y="5659"/>
                  <a:pt x="8433" y="4339"/>
                </a:cubicBezTo>
                <a:cubicBezTo>
                  <a:pt x="7579" y="3020"/>
                  <a:pt x="6349" y="1925"/>
                  <a:pt x="4869" y="1163"/>
                </a:cubicBezTo>
                <a:cubicBezTo>
                  <a:pt x="3389" y="401"/>
                  <a:pt x="170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057400"/>
            <a:ext cx="3505680" cy="3124440"/>
          </a:xfrm>
          <a:custGeom>
            <a:avLst/>
            <a:gdLst/>
            <a:ahLst/>
            <a:rect l="0" t="0" r="r" b="b"/>
            <a:pathLst>
              <a:path fill="none" w="9738" h="8679">
                <a:moveTo>
                  <a:pt x="9738" y="0"/>
                </a:moveTo>
                <a:lnTo>
                  <a:pt x="9738" y="0"/>
                </a:lnTo>
                <a:cubicBezTo>
                  <a:pt x="8029" y="0"/>
                  <a:pt x="6349" y="401"/>
                  <a:pt x="4869" y="1163"/>
                </a:cubicBezTo>
                <a:cubicBezTo>
                  <a:pt x="3389" y="1925"/>
                  <a:pt x="2159" y="3020"/>
                  <a:pt x="1305" y="4340"/>
                </a:cubicBezTo>
                <a:cubicBezTo>
                  <a:pt x="450" y="5659"/>
                  <a:pt x="0" y="7156"/>
                  <a:pt x="0" y="8679"/>
                </a:cubicBez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181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32767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32767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175248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2-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and 2-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ility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10-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-dB Isol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l. P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734000" y="1752480"/>
            <a:ext cx="3789360" cy="137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34000" y="3352680"/>
            <a:ext cx="3789360" cy="137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734000" y="5029200"/>
            <a:ext cx="3789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 Option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62120" y="2400480"/>
            <a:ext cx="426708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5-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Mchip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and 5-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5080" y="2184480"/>
            <a:ext cx="3789360" cy="1370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905360" y="3886200"/>
            <a:ext cx="352260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H. Cafarella</dc:creator>
  <dc:description/>
  <dc:language>en-US</dc:language>
  <cp:lastModifiedBy>John H. Cafarella</cp:lastModifiedBy>
  <cp:revision>0</cp:revision>
  <dc:subject/>
  <dc:title>Presentation to AMD</dc:title>
</cp:coreProperties>
</file>