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1360" y="57240"/>
            <a:ext cx="8724960" cy="6667560"/>
          </a:xfrm>
          <a:prstGeom prst="roundRect">
            <a:avLst/>
          </a:prstGeom>
          <a:noFill/>
          <a:ln w="38160">
            <a:solidFill>
              <a:srgbClr val="919191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362640"/>
            <a:ext cx="832500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31800" y="6408720"/>
            <a:ext cx="184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7905600" y="6362640"/>
            <a:ext cx="590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fld id="{255C3F3A-44E1-45B5-A0EB-E3B1E826E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1219320"/>
            <a:ext cx="7772400" cy="134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THE DOCUMENT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-NII BAND CHANNELIZATION AND THE WINFORUM SR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2120" y="3429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for the Joint ETSI/BRAN and IEEE 802.11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8-12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OF TH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e the Objectives and Scope of the WINForum Sharing Rules Development Committee (SR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the SRDC Fixed Channelization Proposal for the U-NII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the Part 15 Restricted Band Rules Effect on Out-of-Band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Guard Band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the WINForum U-NII reconsideration 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and Scope of the SR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U-NII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 with Regulatory Bodies to Set Rules for Use of th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Spectrum Sharing Rules for th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Channelization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-NII Band Should Support Signaling Rates of 20 to 25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ed Bandwidth Potential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Range of Potential Application Signaling Rat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Channel Spacing Required Because of Wide Signaling Rate Range and Mixed Bandwidth In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ed Technical Discussion of Mixed Bandwidth Problem in Appendix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C Recommends Fixed Frequency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15 Restricted Band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and Peak EIRP Specified by the Part 15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wer Spectral Density is Derived From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some current interpretations which are still being investi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 Edge PSD 15-16 dB More Severe Than HIPERLAN Requirements for the U-NII Middl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Guard Band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Guard Band Calc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of Intermodulation Distortion on Widening Transmitted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 Given in Appendix B of th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Intraband Channel Isolation Specs (30 dB PSD Adjacent Chan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to 1.3 Channels Widths of Guard Band Needed to Satisfy Restricted band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Study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Reconsideration 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making not fin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C working closely with NTIA to resolv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issues addressed in reconsideration 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important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power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measurement of power spectral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denied: total power permitted 6-10 dB lower than limits spec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n Boer</dc:creator>
  <dc:description/>
  <dc:language>en-US</dc:language>
  <cp:lastModifiedBy>Jan Boer</cp:lastModifiedBy>
  <cp:revision>0</cp:revision>
  <dc:subject/>
  <dc:title>DS report</dc:title>
</cp:coreProperties>
</file>