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,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1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D46A84DF-9E78-4804-ACEC-99BE82210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Kawaguchi, Symbol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523880"/>
            <a:ext cx="7924680" cy="133560"/>
            <a:chOff x="609480" y="15238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5238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6239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DS/GF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2.4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0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DS/GFSK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/GFSK addresses ke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both FH and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and non hopping modes, hopping based on FH PHY sequ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 in ISM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FSK is most bandwidth efficient of binary modulations (1.1 * chip r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over 8 channels in 5 Mbps mode, 4 in 10 Mbps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apture effect of FSK + DS sp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sensitivity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bps mode same as 1 Mbps FH, 10 Mbps 3 dB w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peed preamble for interoperability, high speed for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possible with fast acquisition of GF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nd need for architectur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amplitude, more efficient power 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PHY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ccinct summary of the proposed high speed DS PHY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spreading:  4 bits/symbol and 8 chips/symbol bi-orthogonal Walsh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:  Binary GFSK with deviation h=0.7; 1.5 dB pre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: 1.25 Msym/sec (5 Mbps) and 2.5 Msym/sec (10 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s: 10 Mcps and 20 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s: 11 MHz and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: 8 channels w/10 MHz spacing, 4 channels with 20 MHz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Spreading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S spreading formats used by Harris and Micrilor uses simple yet effective bi-orthogonal Walsh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8 chips per symbol used by Harris is more bandwidth efficient which is crucial to satisfy the interference fighting channelization mention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4 bits/8 chips per symbol used at 1.25 (or 1.375) Msps and at 2.5 Msps would produce 5 and 10 Mbps at a chipping rate 10 and 20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44520" y="4686120"/>
            <a:ext cx="66549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and interoperability with 1&amp;2 Mbps FH 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pping can be synchronized to interoperate with the 1 and 2 Mbps FH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9480" y="2421000"/>
            <a:ext cx="73850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FH 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preamble using FH 1 Mbps with rate switch syn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preamble mode for max throughput and operation in HS capable units only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preamble is ­16 µs including time for diversit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ither mode, CCA on all 1 MHz channels in wideband channel possible at reduced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ensitivity on 1 MHz channel associated on with digit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, many architectural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FSK system has been the lowest cost due to the simplicity, inherent robustness, and use of nonlinear compon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any options and design optimizations which will allow manufacturers to optimize for various applications and price/performance tradeof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implementation with parallel demod, subband tuning for 1 MHz channel requires only additional gates in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Hz SAW for full selectivity performance 1/2 Mbps only mode, tune synthesizer to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DS RF and IF chip sets may als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perty - Walsh codes and binary GFSK on wireless is probably not patentable any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