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990720" y="1676520"/>
            <a:ext cx="7162920" cy="7632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ae00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5410080" y="6249960"/>
            <a:ext cx="274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Arial Black"/>
              </a:rPr>
              <a:t>doc: IEEE 802.11 97/12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Differing MIB 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EEE 802 committees define their MIBs according to ISO 10165-x and IEEE 802.1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ETF defines their MIBs according to their own RF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two methods are not compat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802.1f defines a very flattened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ETF RFCs 1155, 1212, 1213 define a much more flexible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produces two entirely different sets of regist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Problems in 802.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02.11 attempted to provide a complete ASN.1 definition of the MIB as well as a classic GDMO-style defin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se should have been equival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y were 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t caught by reviewers in working group or LMSC bal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DMO was written in the 802.1f style, the ASN.1 in the IETF sty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What to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02 desires to produce widely (universally!) used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st managed networks use SNMP and IETF-style MI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riting the MIB definition is not a piece of c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ent and definition of the MIB generate working group controversy and letter ballot comments (at least in 802.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ould 802 continue to define MIBs in our standar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Recommend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02 should revise 802.1f to be compatible with the IETF RF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02 should continue to define its own MIBs, using the new, compatible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No Slide Title</dc:title>
</cp:coreProperties>
</file>