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013360" y="6599160"/>
            <a:ext cx="3189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esentation to IEEE 802, 11/97, </a:t>
            </a:r>
            <a:fld id="{06A1BE6D-E9D4-46C9-BAB3-6584C4F6B2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475320"/>
            <a:ext cx="4411800" cy="336600"/>
            <a:chOff x="609480" y="6475320"/>
            <a:chExt cx="4411800" cy="336600"/>
          </a:xfrm>
        </p:grpSpPr>
        <p:sp>
          <p:nvSpPr>
            <p:cNvPr id="4" name=""/>
            <p:cNvSpPr txBox="1"/>
            <p:nvPr/>
          </p:nvSpPr>
          <p:spPr>
            <a:xfrm>
              <a:off x="1585800" y="6475320"/>
              <a:ext cx="3435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Hv BT"/>
                  <a:ea typeface="Futura Hv BT"/>
                </a:rPr>
                <a:t>THE TECHNOLOGY PARTNERSHI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6643800"/>
              <a:ext cx="914400" cy="0"/>
            </a:xfrm>
            <a:prstGeom prst="line">
              <a:avLst/>
            </a:prstGeom>
            <a:ln w="127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20760"/>
            <a:ext cx="1219320" cy="828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3 Mbps Wireless LA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ompatible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43434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Ransom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r@techprt.co.u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ry Taylo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@techprt.co.u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Phipp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cp@symbionics.co.u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i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PC-card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63836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array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matic car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 HIPERLAN/U-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RF: SiGe or GaAs front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: integrat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ers: current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m: integrated digital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controller: hardware and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81960" y="361944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15280" y="289548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63000" y="2971800"/>
            <a:ext cx="15228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334360" y="2952720"/>
            <a:ext cx="133200" cy="19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581960" y="2562120"/>
            <a:ext cx="552240" cy="723960"/>
            <a:chOff x="7581960" y="2562120"/>
            <a:chExt cx="552240" cy="723960"/>
          </a:xfrm>
        </p:grpSpPr>
        <p:sp>
          <p:nvSpPr>
            <p:cNvPr id="114" name=""/>
            <p:cNvSpPr/>
            <p:nvPr/>
          </p:nvSpPr>
          <p:spPr>
            <a:xfrm>
              <a:off x="7581960" y="3286080"/>
              <a:ext cx="399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981920" y="256212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29640" y="2638440"/>
              <a:ext cx="152280" cy="17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001000" y="2619360"/>
              <a:ext cx="133200" cy="19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72040" y="4010040"/>
            <a:ext cx="3238560" cy="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72040" y="3286080"/>
            <a:ext cx="321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2600" y="2381400"/>
            <a:ext cx="1619280" cy="255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6400" y="3105000"/>
            <a:ext cx="1295280" cy="112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105000"/>
            <a:ext cx="1295280" cy="112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02904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373392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2971800"/>
            <a:ext cx="495360" cy="131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6880" y="400068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620200" y="327672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67560" y="3352680"/>
            <a:ext cx="152640" cy="17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639280" y="3333600"/>
            <a:ext cx="133200" cy="19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8200" y="309096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TX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08840" y="379584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RX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4680" y="3214800"/>
            <a:ext cx="10857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A/D, D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C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63800" y="3338640"/>
            <a:ext cx="1314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78040" y="335772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3240" y="335268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81240" y="3133800"/>
            <a:ext cx="162000" cy="981000"/>
            <a:chOff x="2181240" y="3133800"/>
            <a:chExt cx="162000" cy="981000"/>
          </a:xfrm>
        </p:grpSpPr>
        <p:sp>
          <p:nvSpPr>
            <p:cNvPr id="138" name=""/>
            <p:cNvSpPr/>
            <p:nvPr/>
          </p:nvSpPr>
          <p:spPr>
            <a:xfrm flipV="1">
              <a:off x="2181240" y="3133800"/>
              <a:ext cx="16200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43240" y="3133800"/>
              <a:ext cx="0" cy="218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181240" y="3619440"/>
              <a:ext cx="162000" cy="495360"/>
              <a:chOff x="2181240" y="3619440"/>
              <a:chExt cx="162000" cy="495360"/>
            </a:xfrm>
          </p:grpSpPr>
          <p:sp>
            <p:nvSpPr>
              <p:cNvPr id="141" name=""/>
              <p:cNvSpPr/>
              <p:nvPr/>
            </p:nvSpPr>
            <p:spPr>
              <a:xfrm>
                <a:off x="2181240" y="3619440"/>
                <a:ext cx="1620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2343240" y="3895560"/>
                <a:ext cx="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2714760" y="3143160"/>
            <a:ext cx="161640" cy="981000"/>
            <a:chOff x="2714760" y="3143160"/>
            <a:chExt cx="161640" cy="981000"/>
          </a:xfrm>
        </p:grpSpPr>
        <p:sp>
          <p:nvSpPr>
            <p:cNvPr id="144" name=""/>
            <p:cNvSpPr/>
            <p:nvPr/>
          </p:nvSpPr>
          <p:spPr>
            <a:xfrm flipH="1" flipV="1">
              <a:off x="2714760" y="3143160"/>
              <a:ext cx="16164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4760" y="314316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714760" y="3629160"/>
              <a:ext cx="161640" cy="495000"/>
              <a:chOff x="2714760" y="3629160"/>
              <a:chExt cx="161640" cy="49500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2714760" y="3629160"/>
                <a:ext cx="161640" cy="49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714760" y="3905280"/>
                <a:ext cx="0" cy="21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2352600" y="390528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960" y="5135400"/>
            <a:ext cx="1673280" cy="10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rotocol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14720" y="5288040"/>
            <a:ext cx="763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13400" y="5268960"/>
            <a:ext cx="1285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CAC/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62560" y="5268960"/>
            <a:ext cx="692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43640" y="5268960"/>
            <a:ext cx="6620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404120" y="34909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2193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HIPERLAN 1 meet WLAN nee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efinition based on ISO 15 80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approximation to time-boun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ers”, “Power-savers”, “Power-saver supporters”, Ultra-low duty cycle allowable, lowest power (unequalised receiver) mode for monitoring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, with centralised operation allowable as merely one speci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efficient, equitable priority and contention resolution on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implementation, $120 B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oes HIPERLAN 1 offer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523880"/>
            <a:ext cx="7772400" cy="42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now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specification published October 1996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ETS 300 65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rmance testing specification (radio &amp; protocol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ETS 300 83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tsi.f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t products expected during 19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such a high performanc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62080" y="838080"/>
            <a:ext cx="681984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at MAC SAP is 19 Mbp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is is shared between network s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not just high bit-rate that’s needed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lso low latency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ow delay vari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and satisfaction of user requirements rais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 with wired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” for multimedia, colour and movem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ture is broad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end is to decentralis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wor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Channel Access Control Sub-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ry Tayl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4 1763 2626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@techprt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952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inder : IEEE 802.11 Channel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3080" y="1181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Before Talk protoc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Data Transfer Ser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ntrol Functions defined (DCF &amp; PC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ed Unicast, un-Acknowledged Multicast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preemptive hieracrchical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priority levels defined via Inter-Frame 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, PIFS, DIFS, E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transfer functions enumerated for many specific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egmentation, Virtual busy, Contention Free etc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, slotted backoff after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C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66760" y="144792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s MAC facilities over the shared HIPERLAN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Access Scheme - EY-NPM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Independence of Prior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Resolution within Priority 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d &amp; Channel Free acce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Permiss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hannel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0440" y="927000"/>
            <a:ext cx="53722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Transfer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57480" y="144792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hannel Access Mechanism in 3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Elim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ded in Low Bitrate &amp; High Bitrat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28880" y="12952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HIPERLAN, what is i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MA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CAC (Channel Access Control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sible link between the 802.11 MAC and the HIPERLAN 1 PH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PH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82880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defines an exponentially increasing slotted backoff mechanis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efines an exponetial probability distribution for the extension stage of the priority assertion signal, followed by a linear probability distribution function for the yield stage. (Designed for  3.5% residual collision rate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ontention resolution algorithm is part of the access mechanis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666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hannel Permission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520" y="16383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spectrum divided into 5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5 - 5.25 GHz, 3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 - 5.30 GHz 2 Chann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frequency channels are available at national discre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needed to prevent illegal transmi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Permiss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29528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C Service provides the transfer service to the HIPERLAN MA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and contention resolution coded into a single active sig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C and 802.11 MAC Transfer Services share much in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pre-emptive hierarchically independent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’d unicast and un-Ack’d multicast transmis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s in Contention Resolu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ba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obabilistic signalling in LBT access mechanis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PHY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Ran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4 1763 2626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r@techprt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: USA and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32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5 GHz to 5.25 GHz, 50 mW PEP, less than 2.5 mW/MHz, +6dBi ant.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 GHz to 5.35 GHz, 250 mW PEP, less than 12.5 mW/MHz, +6dBi ant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GHz to 5.825 GHz, 1W PEP, less than 50 mW/MHz, +6dBi ant. g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5 GHz to 5.25 GHz throughout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 GHz to 5,3 GHz extensions on national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 transmit power, 1W EIRPEP in both bands, HIPERLAN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in U-NII (from Tx in-band spectrum aspec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W EIRPEP device is il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W EIRPEP device (class B) legal if rebanded to 5.7 GHz U-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W device legal throughout U-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29528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hannels &amp;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9528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hannels spaced at 23.5294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band-edges left to allow simple Tx filt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spectrum sharing model does no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s will share spectrum equitab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rate and low-rate modulation specif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arrier high-rate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MSK, BT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5294 Msymbol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envelope: cheaper, more efficient Tx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equalisation as if a linear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bit-rate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itial content of all HIPERLAN 1 bur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at 1/16 of full data 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d at full power (hence higher spectral density than for high-rate modul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ower saving in the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s length and destination address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ceived without eq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it-rate recepti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zation of high rate sign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diversity and directivity is possible at 5.2 GHz in PC-card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ovides a long training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selection can be performed during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r can balance speed of training, antenna complexity,  equali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t-rate header provides information without receiver eq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saving modes are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is reasonable for a usable coverag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envelope transmit modulation means less backoff in trans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burst duration is limi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mbulant motion, the channel can be considered as s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clock is tightly constrained to RF car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receivers need only track the carrier, and not retrain during bur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existence with IEEE 802.11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19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existence raises the possibility of hybrid W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band includes HIPERLAN 1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products and users for 802.11 and HIPERLAN 1 alig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Tx power level is above U-NII limits for some devices, though class A (10 mW) is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band occupancy protocol is 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sharing rules not yet sett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4479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with IEEE 802.11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2952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provide “world-”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standard is complete and available in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MAC services align to IEEE/IS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802.11 MAC services are unavailable in HIPERLAN 1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ireles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facilities must we have from a WLA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facilities would we like from a WLA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HIPERLA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HIPERLAN 1 give u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such a high performanc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PHY derivativ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le as IEEE 802.11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fits data rate goal of 802.11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band includes HIPERLAN 1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MAC services are comprehensiv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?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topic for discussion in 802.11 PHY group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real, 11/11/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eleventh hour?, actually the afternoon s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for the 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irel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8288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 of communications and computing into a single de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st overall network system cost in certain scenari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option for certain last drops on wired 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untethered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MUST we get from a W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9320" y="800280"/>
            <a:ext cx="670572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 delivery (&amp; close approximation to IEEE 802.x faciliti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able multiple ac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le level of 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ghbourhood discov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le battery 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ion of the wireless medium iss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ould we like from a W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28880" y="1447920"/>
            <a:ext cx="723888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iority system (for time-bounded servic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bility of uncoordinated deployment, and non-centralised op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bility of ambulant us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y implementation, compatible with PDA/HP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extreme power-saving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 unit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HIPERLAN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Igh PERformance Radio L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95360" y="1447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WLAN, 5 GH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shed European Standard: MAC and PH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(the subject of this session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-ATM, 5 GHz, 1999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I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remote access, WLL?, 1999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or17 GHz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V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high rate wireles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ctur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 Mbps ATM, 2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43800" y="1447920"/>
            <a:ext cx="15238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product 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130400" y="5638680"/>
            <a:ext cx="717552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348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1304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0676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592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3556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880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6436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168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130400" y="200016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7360" y="4338720"/>
            <a:ext cx="93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7360" y="31957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4440" y="319572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840" y="18241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70000" y="182412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73400" y="3860640"/>
            <a:ext cx="251460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22400" y="391968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343320" y="3919680"/>
            <a:ext cx="946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25800" y="414828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440" y="5481720"/>
            <a:ext cx="67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23800" y="548172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546440"/>
            <a:ext cx="1600200" cy="10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63760" y="4782960"/>
            <a:ext cx="1301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49280" y="5011560"/>
            <a:ext cx="654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17640" y="501156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447920"/>
            <a:ext cx="15238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46840" y="167148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42120" y="174780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86520" y="190008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63760" y="2603520"/>
            <a:ext cx="4127400" cy="90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65680" y="2662200"/>
            <a:ext cx="130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33960" y="266220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05440" y="2890800"/>
            <a:ext cx="1251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/U-N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59240" y="289080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15920" y="56577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36520" y="576576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15920" y="45147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33717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15920" y="2000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9296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5960" y="5824440"/>
            <a:ext cx="1252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20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763040" y="1709640"/>
            <a:ext cx="1339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2.11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HIPERLAN 1 give me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r perspect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5238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it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5294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Co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m typ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-in Mo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type II forma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ing Speed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-wide lega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 USA too in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ixed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ing HIPERLANs permi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requency Planning, no user lic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vity to Wir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, Token Ring,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D Ransome</dc:creator>
  <dc:description/>
  <dc:language>en-US</dc:language>
  <cp:lastModifiedBy>Peter D Ransome</cp:lastModifiedBy>
  <cp:revision>0</cp:revision>
  <dc:subject>HIPERLAN and 802.11</dc:subject>
  <dc:title>HIPERLAN 1:  the 23 Mbps Wireless LAN  How compatible with IEEE Project 802?</dc:title>
</cp:coreProperties>
</file>