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9480" y="763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r" pos="7772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7/1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33520" y="64771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ctr" pos="3944880"/>
                <a:tab algn="r" pos="7891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E193CD22-B3D6-4B37-9C68-CF5686B31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oria Poncini, The Boe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712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38088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ement to IEEE Draft Std. 802.1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3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oria Ponc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eing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O. Box 3707 M/S 7M-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ttle, WA 98124-22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:  +1(425)865-53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 +1(425)957-5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 victoria.m.poncini@boei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c - Supplement to 802.1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133720"/>
            <a:ext cx="1295280" cy="220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809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7720" y="2133720"/>
            <a:ext cx="990720" cy="220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7720" y="3809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2767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440" y="2133720"/>
            <a:ext cx="2211480" cy="220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38098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440" y="3276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342900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388620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94040" y="342900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94040" y="396252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4760" y="342900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84760" y="396252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5486400"/>
            <a:ext cx="2971800" cy="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48769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343400"/>
            <a:ext cx="0" cy="68580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124080" y="4800600"/>
            <a:ext cx="152640" cy="22860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800600"/>
            <a:ext cx="0" cy="68580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562720"/>
            <a:ext cx="2133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74880" y="5560920"/>
            <a:ext cx="1635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1981080"/>
            <a:ext cx="3581280" cy="114300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05280" y="2819520"/>
            <a:ext cx="728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2666880"/>
            <a:ext cx="2133720" cy="76212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875120" y="2590920"/>
            <a:ext cx="1219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952880"/>
            <a:ext cx="26668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6200" y="5029200"/>
            <a:ext cx="2362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802.11 802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4343400"/>
            <a:ext cx="0" cy="68580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295280" y="4724280"/>
            <a:ext cx="152640" cy="22860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4800600"/>
            <a:ext cx="0" cy="60948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3124080"/>
            <a:ext cx="1447920" cy="38088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274320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746440" y="3124080"/>
            <a:ext cx="1068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2362320"/>
            <a:ext cx="1143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1600200"/>
            <a:ext cx="2666880" cy="31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24480" y="1903320"/>
            <a:ext cx="243828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pplement defines the MAC frame mapping to the 802.1D service primitive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P primitives going to and from the DS through the Portal are the same as the MAC SAP primitiv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1240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343400" y="320040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876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410080"/>
            <a:ext cx="1066680" cy="838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48520" y="5562720"/>
            <a:ext cx="8380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anK</dc:creator>
  <dc:description/>
  <dc:language>en-US</dc:language>
  <cp:lastModifiedBy>DeanK</cp:lastModifiedBy>
  <cp:revision>0</cp:revision>
  <dc:subject/>
  <dc:title>IEEE 802.11 Wireless Access Method and Physical Specification</dc:title>
</cp:coreProperties>
</file>