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AA370A-F6B1-4CDD-936D-0C51A2217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137160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Considerations for Implementation of Adaptive Data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95280" y="39625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D. Hurne and D. Dr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den Bridge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r block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51400" y="2754360"/>
            <a:ext cx="405000" cy="1351440"/>
          </a:xfrm>
          <a:custGeom>
            <a:avLst/>
            <a:gdLst/>
            <a:ahLst/>
            <a:rect l="0" t="0" r="r" b="b"/>
            <a:pathLst>
              <a:path w="1125" h="3754">
                <a:moveTo>
                  <a:pt x="0" y="3754"/>
                </a:moveTo>
                <a:lnTo>
                  <a:pt x="1125" y="3754"/>
                </a:lnTo>
                <a:lnTo>
                  <a:pt x="1125" y="0"/>
                </a:lnTo>
                <a:lnTo>
                  <a:pt x="0" y="0"/>
                </a:lnTo>
                <a:lnTo>
                  <a:pt x="0" y="375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65440" y="3322800"/>
            <a:ext cx="3538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32320" y="3395520"/>
            <a:ext cx="4129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DEMUX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08400" y="3444840"/>
            <a:ext cx="2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8040" y="4186080"/>
            <a:ext cx="972000" cy="203400"/>
          </a:xfrm>
          <a:custGeom>
            <a:avLst/>
            <a:gdLst/>
            <a:ahLst/>
            <a:rect l="0" t="0" r="r" b="b"/>
            <a:pathLst>
              <a:path w="2700" h="565">
                <a:moveTo>
                  <a:pt x="0" y="565"/>
                </a:moveTo>
                <a:lnTo>
                  <a:pt x="2700" y="565"/>
                </a:lnTo>
                <a:lnTo>
                  <a:pt x="2700" y="0"/>
                </a:lnTo>
                <a:lnTo>
                  <a:pt x="0" y="0"/>
                </a:lnTo>
                <a:lnTo>
                  <a:pt x="0" y="56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25960" y="4167360"/>
            <a:ext cx="8683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AUGMENTED BARKE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091040" y="4238640"/>
            <a:ext cx="92880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GENERATOR; CODE #1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8040" y="3444840"/>
            <a:ext cx="972000" cy="201960"/>
          </a:xfrm>
          <a:custGeom>
            <a:avLst/>
            <a:gdLst/>
            <a:ahLst/>
            <a:rect l="0" t="0" r="r" b="b"/>
            <a:pathLst>
              <a:path w="2700" h="561">
                <a:moveTo>
                  <a:pt x="0" y="561"/>
                </a:moveTo>
                <a:lnTo>
                  <a:pt x="2700" y="561"/>
                </a:lnTo>
                <a:lnTo>
                  <a:pt x="2700" y="0"/>
                </a:lnTo>
                <a:lnTo>
                  <a:pt x="0" y="0"/>
                </a:lnTo>
                <a:lnTo>
                  <a:pt x="0" y="56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125960" y="3424320"/>
            <a:ext cx="8683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AUGMENTED BARKE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110120" y="3497400"/>
            <a:ext cx="8938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GENERATOR; CODE #2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6040" y="28368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8040" y="2971800"/>
            <a:ext cx="972000" cy="203400"/>
          </a:xfrm>
          <a:custGeom>
            <a:avLst/>
            <a:gdLst/>
            <a:ahLst/>
            <a:rect l="0" t="0" r="r" b="b"/>
            <a:pathLst>
              <a:path w="2700" h="565">
                <a:moveTo>
                  <a:pt x="0" y="565"/>
                </a:moveTo>
                <a:lnTo>
                  <a:pt x="2700" y="565"/>
                </a:lnTo>
                <a:lnTo>
                  <a:pt x="2700" y="0"/>
                </a:lnTo>
                <a:lnTo>
                  <a:pt x="0" y="0"/>
                </a:lnTo>
                <a:lnTo>
                  <a:pt x="0" y="56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125960" y="2952720"/>
            <a:ext cx="8683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AUGMENTED BARKE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110120" y="3024360"/>
            <a:ext cx="8938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GENERATOR; CODE #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1720" y="2835360"/>
            <a:ext cx="120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332320" y="2862360"/>
            <a:ext cx="12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84800" y="2768760"/>
            <a:ext cx="324360" cy="1351440"/>
          </a:xfrm>
          <a:custGeom>
            <a:avLst/>
            <a:gdLst/>
            <a:ahLst/>
            <a:rect l="0" t="0" r="r" b="b"/>
            <a:pathLst>
              <a:path w="901" h="3754">
                <a:moveTo>
                  <a:pt x="0" y="3754"/>
                </a:moveTo>
                <a:lnTo>
                  <a:pt x="901" y="3754"/>
                </a:lnTo>
                <a:lnTo>
                  <a:pt x="901" y="0"/>
                </a:lnTo>
                <a:lnTo>
                  <a:pt x="0" y="0"/>
                </a:lnTo>
                <a:lnTo>
                  <a:pt x="0" y="375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62840" y="3193920"/>
            <a:ext cx="3254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SU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84600" y="3832200"/>
            <a:ext cx="39960" cy="33840"/>
          </a:xfrm>
          <a:custGeom>
            <a:avLst/>
            <a:gdLst/>
            <a:ahLst/>
            <a:rect l="0" t="0" r="r" b="b"/>
            <a:pathLst>
              <a:path w="111" h="94">
                <a:moveTo>
                  <a:pt x="0" y="49"/>
                </a:moveTo>
                <a:lnTo>
                  <a:pt x="4" y="27"/>
                </a:lnTo>
                <a:lnTo>
                  <a:pt x="22" y="13"/>
                </a:lnTo>
                <a:lnTo>
                  <a:pt x="39" y="0"/>
                </a:lnTo>
                <a:lnTo>
                  <a:pt x="71" y="0"/>
                </a:lnTo>
                <a:lnTo>
                  <a:pt x="89" y="13"/>
                </a:lnTo>
                <a:lnTo>
                  <a:pt x="106" y="27"/>
                </a:lnTo>
                <a:lnTo>
                  <a:pt x="111" y="49"/>
                </a:lnTo>
                <a:lnTo>
                  <a:pt x="106" y="72"/>
                </a:lnTo>
                <a:lnTo>
                  <a:pt x="89" y="85"/>
                </a:lnTo>
                <a:lnTo>
                  <a:pt x="71" y="94"/>
                </a:lnTo>
                <a:lnTo>
                  <a:pt x="39" y="94"/>
                </a:lnTo>
                <a:lnTo>
                  <a:pt x="22" y="85"/>
                </a:lnTo>
                <a:lnTo>
                  <a:pt x="4" y="72"/>
                </a:lnTo>
                <a:lnTo>
                  <a:pt x="0" y="4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84600" y="3771720"/>
            <a:ext cx="39960" cy="33840"/>
          </a:xfrm>
          <a:custGeom>
            <a:avLst/>
            <a:gdLst/>
            <a:ahLst/>
            <a:rect l="0" t="0" r="r" b="b"/>
            <a:pathLst>
              <a:path w="111" h="94">
                <a:moveTo>
                  <a:pt x="0" y="45"/>
                </a:moveTo>
                <a:lnTo>
                  <a:pt x="4" y="27"/>
                </a:lnTo>
                <a:lnTo>
                  <a:pt x="22" y="8"/>
                </a:lnTo>
                <a:lnTo>
                  <a:pt x="39" y="0"/>
                </a:lnTo>
                <a:lnTo>
                  <a:pt x="71" y="0"/>
                </a:lnTo>
                <a:lnTo>
                  <a:pt x="89" y="8"/>
                </a:lnTo>
                <a:lnTo>
                  <a:pt x="106" y="27"/>
                </a:lnTo>
                <a:lnTo>
                  <a:pt x="111" y="45"/>
                </a:lnTo>
                <a:lnTo>
                  <a:pt x="106" y="67"/>
                </a:lnTo>
                <a:lnTo>
                  <a:pt x="89" y="85"/>
                </a:lnTo>
                <a:lnTo>
                  <a:pt x="71" y="94"/>
                </a:lnTo>
                <a:lnTo>
                  <a:pt x="39" y="94"/>
                </a:lnTo>
                <a:lnTo>
                  <a:pt x="22" y="85"/>
                </a:lnTo>
                <a:lnTo>
                  <a:pt x="4" y="67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84600" y="3903840"/>
            <a:ext cx="39960" cy="33840"/>
          </a:xfrm>
          <a:custGeom>
            <a:avLst/>
            <a:gdLst/>
            <a:ahLst/>
            <a:rect l="0" t="0" r="r" b="b"/>
            <a:pathLst>
              <a:path w="111" h="94">
                <a:moveTo>
                  <a:pt x="0" y="45"/>
                </a:moveTo>
                <a:lnTo>
                  <a:pt x="4" y="27"/>
                </a:lnTo>
                <a:lnTo>
                  <a:pt x="22" y="8"/>
                </a:lnTo>
                <a:lnTo>
                  <a:pt x="39" y="0"/>
                </a:lnTo>
                <a:lnTo>
                  <a:pt x="71" y="0"/>
                </a:lnTo>
                <a:lnTo>
                  <a:pt x="89" y="8"/>
                </a:lnTo>
                <a:lnTo>
                  <a:pt x="106" y="27"/>
                </a:lnTo>
                <a:lnTo>
                  <a:pt x="111" y="45"/>
                </a:lnTo>
                <a:lnTo>
                  <a:pt x="106" y="67"/>
                </a:lnTo>
                <a:lnTo>
                  <a:pt x="89" y="85"/>
                </a:lnTo>
                <a:lnTo>
                  <a:pt x="71" y="94"/>
                </a:lnTo>
                <a:lnTo>
                  <a:pt x="39" y="94"/>
                </a:lnTo>
                <a:lnTo>
                  <a:pt x="22" y="85"/>
                </a:lnTo>
                <a:lnTo>
                  <a:pt x="4" y="67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08800" y="329256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51400" y="4524480"/>
            <a:ext cx="405000" cy="1349640"/>
          </a:xfrm>
          <a:custGeom>
            <a:avLst/>
            <a:gdLst/>
            <a:ahLst/>
            <a:rect l="0" t="0" r="r" b="b"/>
            <a:pathLst>
              <a:path w="1125" h="3749">
                <a:moveTo>
                  <a:pt x="0" y="3749"/>
                </a:moveTo>
                <a:lnTo>
                  <a:pt x="1125" y="3749"/>
                </a:lnTo>
                <a:lnTo>
                  <a:pt x="1125" y="0"/>
                </a:lnTo>
                <a:lnTo>
                  <a:pt x="0" y="0"/>
                </a:lnTo>
                <a:lnTo>
                  <a:pt x="0" y="374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5440" y="5078520"/>
            <a:ext cx="3538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32320" y="5149800"/>
            <a:ext cx="4129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DEMUX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08400" y="5199120"/>
            <a:ext cx="2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6040" y="580536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8040" y="5940360"/>
            <a:ext cx="972000" cy="203400"/>
          </a:xfrm>
          <a:custGeom>
            <a:avLst/>
            <a:gdLst/>
            <a:ahLst/>
            <a:rect l="0" t="0" r="r" b="b"/>
            <a:pathLst>
              <a:path w="2700" h="565">
                <a:moveTo>
                  <a:pt x="0" y="565"/>
                </a:moveTo>
                <a:lnTo>
                  <a:pt x="2700" y="565"/>
                </a:lnTo>
                <a:lnTo>
                  <a:pt x="2700" y="0"/>
                </a:lnTo>
                <a:lnTo>
                  <a:pt x="0" y="0"/>
                </a:lnTo>
                <a:lnTo>
                  <a:pt x="0" y="56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125960" y="5921280"/>
            <a:ext cx="8683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AUGMENTED BARKE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091040" y="5994360"/>
            <a:ext cx="92880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GENERATOR; CODE #1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1720" y="5805360"/>
            <a:ext cx="120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6040" y="506412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18040" y="5199120"/>
            <a:ext cx="972000" cy="201960"/>
          </a:xfrm>
          <a:custGeom>
            <a:avLst/>
            <a:gdLst/>
            <a:ahLst/>
            <a:rect l="0" t="0" r="r" b="b"/>
            <a:pathLst>
              <a:path w="2700" h="561">
                <a:moveTo>
                  <a:pt x="0" y="561"/>
                </a:moveTo>
                <a:lnTo>
                  <a:pt x="2700" y="561"/>
                </a:lnTo>
                <a:lnTo>
                  <a:pt x="2700" y="0"/>
                </a:lnTo>
                <a:lnTo>
                  <a:pt x="0" y="0"/>
                </a:lnTo>
                <a:lnTo>
                  <a:pt x="0" y="56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125960" y="5180040"/>
            <a:ext cx="8683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AUGMENTED BARKE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110120" y="5251320"/>
            <a:ext cx="8938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GENERATOR; CODE #2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1720" y="5062680"/>
            <a:ext cx="120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6040" y="459108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8040" y="4726080"/>
            <a:ext cx="972000" cy="203400"/>
          </a:xfrm>
          <a:custGeom>
            <a:avLst/>
            <a:gdLst/>
            <a:ahLst/>
            <a:rect l="0" t="0" r="r" b="b"/>
            <a:pathLst>
              <a:path w="2700" h="565">
                <a:moveTo>
                  <a:pt x="0" y="565"/>
                </a:moveTo>
                <a:lnTo>
                  <a:pt x="2700" y="565"/>
                </a:lnTo>
                <a:lnTo>
                  <a:pt x="2700" y="0"/>
                </a:lnTo>
                <a:lnTo>
                  <a:pt x="0" y="0"/>
                </a:lnTo>
                <a:lnTo>
                  <a:pt x="0" y="56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125960" y="4707000"/>
            <a:ext cx="8683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AUGMENTED BARKE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110120" y="4778280"/>
            <a:ext cx="8938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GENERATOR; CODE #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11720" y="4591080"/>
            <a:ext cx="120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84800" y="4524480"/>
            <a:ext cx="324360" cy="1349640"/>
          </a:xfrm>
          <a:custGeom>
            <a:avLst/>
            <a:gdLst/>
            <a:ahLst/>
            <a:rect l="0" t="0" r="r" b="b"/>
            <a:pathLst>
              <a:path w="901" h="3749">
                <a:moveTo>
                  <a:pt x="0" y="3749"/>
                </a:moveTo>
                <a:lnTo>
                  <a:pt x="901" y="3749"/>
                </a:lnTo>
                <a:lnTo>
                  <a:pt x="901" y="0"/>
                </a:lnTo>
                <a:lnTo>
                  <a:pt x="0" y="0"/>
                </a:lnTo>
                <a:lnTo>
                  <a:pt x="0" y="374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162840" y="5024520"/>
            <a:ext cx="3254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SU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4600" y="5587920"/>
            <a:ext cx="39960" cy="33840"/>
          </a:xfrm>
          <a:custGeom>
            <a:avLst/>
            <a:gdLst/>
            <a:ahLst/>
            <a:rect l="0" t="0" r="r" b="b"/>
            <a:pathLst>
              <a:path w="111" h="94">
                <a:moveTo>
                  <a:pt x="0" y="45"/>
                </a:moveTo>
                <a:lnTo>
                  <a:pt x="4" y="22"/>
                </a:lnTo>
                <a:lnTo>
                  <a:pt x="22" y="8"/>
                </a:lnTo>
                <a:lnTo>
                  <a:pt x="39" y="0"/>
                </a:lnTo>
                <a:lnTo>
                  <a:pt x="71" y="0"/>
                </a:lnTo>
                <a:lnTo>
                  <a:pt x="89" y="8"/>
                </a:lnTo>
                <a:lnTo>
                  <a:pt x="106" y="22"/>
                </a:lnTo>
                <a:lnTo>
                  <a:pt x="111" y="45"/>
                </a:lnTo>
                <a:lnTo>
                  <a:pt x="106" y="67"/>
                </a:lnTo>
                <a:lnTo>
                  <a:pt x="89" y="81"/>
                </a:lnTo>
                <a:lnTo>
                  <a:pt x="71" y="94"/>
                </a:lnTo>
                <a:lnTo>
                  <a:pt x="39" y="94"/>
                </a:lnTo>
                <a:lnTo>
                  <a:pt x="22" y="81"/>
                </a:lnTo>
                <a:lnTo>
                  <a:pt x="4" y="67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84600" y="5519880"/>
            <a:ext cx="39960" cy="33840"/>
          </a:xfrm>
          <a:custGeom>
            <a:avLst/>
            <a:gdLst/>
            <a:ahLst/>
            <a:rect l="0" t="0" r="r" b="b"/>
            <a:pathLst>
              <a:path w="111" h="94">
                <a:moveTo>
                  <a:pt x="0" y="45"/>
                </a:moveTo>
                <a:lnTo>
                  <a:pt x="4" y="27"/>
                </a:lnTo>
                <a:lnTo>
                  <a:pt x="22" y="8"/>
                </a:lnTo>
                <a:lnTo>
                  <a:pt x="39" y="0"/>
                </a:lnTo>
                <a:lnTo>
                  <a:pt x="71" y="0"/>
                </a:lnTo>
                <a:lnTo>
                  <a:pt x="89" y="8"/>
                </a:lnTo>
                <a:lnTo>
                  <a:pt x="106" y="27"/>
                </a:lnTo>
                <a:lnTo>
                  <a:pt x="111" y="45"/>
                </a:lnTo>
                <a:lnTo>
                  <a:pt x="106" y="67"/>
                </a:lnTo>
                <a:lnTo>
                  <a:pt x="89" y="85"/>
                </a:lnTo>
                <a:lnTo>
                  <a:pt x="71" y="94"/>
                </a:lnTo>
                <a:lnTo>
                  <a:pt x="39" y="94"/>
                </a:lnTo>
                <a:lnTo>
                  <a:pt x="22" y="85"/>
                </a:lnTo>
                <a:lnTo>
                  <a:pt x="4" y="67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84600" y="5654520"/>
            <a:ext cx="39960" cy="33840"/>
          </a:xfrm>
          <a:custGeom>
            <a:avLst/>
            <a:gdLst/>
            <a:ahLst/>
            <a:rect l="0" t="0" r="r" b="b"/>
            <a:pathLst>
              <a:path w="111" h="94">
                <a:moveTo>
                  <a:pt x="0" y="45"/>
                </a:moveTo>
                <a:lnTo>
                  <a:pt x="4" y="27"/>
                </a:lnTo>
                <a:lnTo>
                  <a:pt x="22" y="8"/>
                </a:lnTo>
                <a:lnTo>
                  <a:pt x="39" y="0"/>
                </a:lnTo>
                <a:lnTo>
                  <a:pt x="71" y="0"/>
                </a:lnTo>
                <a:lnTo>
                  <a:pt x="89" y="8"/>
                </a:lnTo>
                <a:lnTo>
                  <a:pt x="106" y="27"/>
                </a:lnTo>
                <a:lnTo>
                  <a:pt x="111" y="45"/>
                </a:lnTo>
                <a:lnTo>
                  <a:pt x="106" y="72"/>
                </a:lnTo>
                <a:lnTo>
                  <a:pt x="89" y="85"/>
                </a:lnTo>
                <a:lnTo>
                  <a:pt x="71" y="94"/>
                </a:lnTo>
                <a:lnTo>
                  <a:pt x="39" y="94"/>
                </a:lnTo>
                <a:lnTo>
                  <a:pt x="22" y="85"/>
                </a:lnTo>
                <a:lnTo>
                  <a:pt x="4" y="72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08800" y="512280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03400" y="3309840"/>
            <a:ext cx="405000" cy="2024280"/>
          </a:xfrm>
          <a:custGeom>
            <a:avLst/>
            <a:gdLst/>
            <a:ahLst/>
            <a:rect l="0" t="0" r="r" b="b"/>
            <a:pathLst>
              <a:path w="1125" h="5623">
                <a:moveTo>
                  <a:pt x="0" y="5623"/>
                </a:moveTo>
                <a:lnTo>
                  <a:pt x="1125" y="5623"/>
                </a:lnTo>
                <a:lnTo>
                  <a:pt x="1125" y="0"/>
                </a:lnTo>
                <a:lnTo>
                  <a:pt x="0" y="0"/>
                </a:lnTo>
                <a:lnTo>
                  <a:pt x="0" y="562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917800" y="4200480"/>
            <a:ext cx="3538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884320" y="4272120"/>
            <a:ext cx="4129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DEMUX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60760" y="4321080"/>
            <a:ext cx="24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030400" y="4222800"/>
            <a:ext cx="5349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DATA 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710400" y="3181320"/>
            <a:ext cx="7365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I - DATA OU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83400" y="5011560"/>
            <a:ext cx="781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Q - DATA OU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high data rate system packet (except MPDU) or present IEEE 802.11 same as present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r block diagram for new high data rate system MPDU is illustrated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092560" y="2822400"/>
            <a:ext cx="1097280" cy="390600"/>
            <a:chOff x="5092560" y="2822400"/>
            <a:chExt cx="1097280" cy="390600"/>
          </a:xfrm>
        </p:grpSpPr>
        <p:grpSp>
          <p:nvGrpSpPr>
            <p:cNvPr id="151" name=""/>
            <p:cNvGrpSpPr/>
            <p:nvPr/>
          </p:nvGrpSpPr>
          <p:grpSpPr>
            <a:xfrm>
              <a:off x="5257800" y="2822400"/>
              <a:ext cx="168480" cy="82800"/>
              <a:chOff x="5257800" y="2822400"/>
              <a:chExt cx="168480" cy="82800"/>
            </a:xfrm>
          </p:grpSpPr>
          <p:sp>
            <p:nvSpPr>
              <p:cNvPr id="152" name=""/>
              <p:cNvSpPr/>
              <p:nvPr/>
            </p:nvSpPr>
            <p:spPr>
              <a:xfrm>
                <a:off x="5294160" y="282240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257800" y="282240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092560" y="2892600"/>
              <a:ext cx="211320" cy="182880"/>
              <a:chOff x="5092560" y="2892600"/>
              <a:chExt cx="211320" cy="182880"/>
            </a:xfrm>
          </p:grpSpPr>
          <p:sp>
            <p:nvSpPr>
              <p:cNvPr id="155" name=""/>
              <p:cNvSpPr/>
              <p:nvPr/>
            </p:nvSpPr>
            <p:spPr>
              <a:xfrm>
                <a:off x="5199120" y="2894040"/>
                <a:ext cx="10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092560" y="2892600"/>
                <a:ext cx="106560" cy="182880"/>
              </a:xfrm>
              <a:custGeom>
                <a:avLst/>
                <a:gdLst/>
                <a:ahLst/>
                <a:rect l="0" t="0" r="r" b="b"/>
                <a:pathLst>
                  <a:path fill="none" w="296" h="508">
                    <a:moveTo>
                      <a:pt x="0" y="508"/>
                    </a:moveTo>
                    <a:lnTo>
                      <a:pt x="296" y="508"/>
                    </a:lnTo>
                    <a:lnTo>
                      <a:pt x="29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457960" y="2863800"/>
              <a:ext cx="563400" cy="0"/>
            </a:xfrm>
            <a:custGeom>
              <a:avLst/>
              <a:gdLst/>
              <a:ahLst/>
              <a:rect l="0" t="0" r="r" b="b"/>
              <a:pathLst>
                <a:path fill="none" w="1565" h="0">
                  <a:moveTo>
                    <a:pt x="0" y="0"/>
                  </a:moveTo>
                  <a:lnTo>
                    <a:pt x="41" y="0"/>
                  </a:lnTo>
                  <a:lnTo>
                    <a:pt x="156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977080" y="2844720"/>
              <a:ext cx="168480" cy="82800"/>
              <a:chOff x="5977080" y="2844720"/>
              <a:chExt cx="168480" cy="82800"/>
            </a:xfrm>
          </p:grpSpPr>
          <p:sp>
            <p:nvSpPr>
              <p:cNvPr id="159" name=""/>
              <p:cNvSpPr/>
              <p:nvPr/>
            </p:nvSpPr>
            <p:spPr>
              <a:xfrm>
                <a:off x="6013440" y="284472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77080" y="284472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5786280" y="2909880"/>
              <a:ext cx="243000" cy="186120"/>
              <a:chOff x="5786280" y="2909880"/>
              <a:chExt cx="243000" cy="186120"/>
            </a:xfrm>
          </p:grpSpPr>
          <p:sp>
            <p:nvSpPr>
              <p:cNvPr id="162" name=""/>
              <p:cNvSpPr/>
              <p:nvPr/>
            </p:nvSpPr>
            <p:spPr>
              <a:xfrm>
                <a:off x="5908680" y="2911320"/>
                <a:ext cx="12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6280" y="2909880"/>
                <a:ext cx="122760" cy="186120"/>
              </a:xfrm>
              <a:custGeom>
                <a:avLst/>
                <a:gdLst/>
                <a:ahLst/>
                <a:rect l="0" t="0" r="r" b="b"/>
                <a:pathLst>
                  <a:path fill="none" w="341" h="517">
                    <a:moveTo>
                      <a:pt x="0" y="517"/>
                    </a:moveTo>
                    <a:lnTo>
                      <a:pt x="341" y="517"/>
                    </a:lnTo>
                    <a:lnTo>
                      <a:pt x="34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5425920" y="2990880"/>
              <a:ext cx="35388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5396040" y="2968560"/>
              <a:ext cx="409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VE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145200" y="2882880"/>
              <a:ext cx="446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092560" y="3341520"/>
            <a:ext cx="1097280" cy="390600"/>
            <a:chOff x="5092560" y="3341520"/>
            <a:chExt cx="1097280" cy="390600"/>
          </a:xfrm>
        </p:grpSpPr>
        <p:grpSp>
          <p:nvGrpSpPr>
            <p:cNvPr id="168" name=""/>
            <p:cNvGrpSpPr/>
            <p:nvPr/>
          </p:nvGrpSpPr>
          <p:grpSpPr>
            <a:xfrm>
              <a:off x="5257800" y="3341520"/>
              <a:ext cx="168480" cy="82800"/>
              <a:chOff x="5257800" y="3341520"/>
              <a:chExt cx="168480" cy="82800"/>
            </a:xfrm>
          </p:grpSpPr>
          <p:sp>
            <p:nvSpPr>
              <p:cNvPr id="169" name=""/>
              <p:cNvSpPr/>
              <p:nvPr/>
            </p:nvSpPr>
            <p:spPr>
              <a:xfrm>
                <a:off x="5294160" y="334152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57800" y="334152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5092560" y="3411360"/>
              <a:ext cx="211320" cy="182880"/>
              <a:chOff x="5092560" y="3411360"/>
              <a:chExt cx="211320" cy="182880"/>
            </a:xfrm>
          </p:grpSpPr>
          <p:sp>
            <p:nvSpPr>
              <p:cNvPr id="172" name=""/>
              <p:cNvSpPr/>
              <p:nvPr/>
            </p:nvSpPr>
            <p:spPr>
              <a:xfrm>
                <a:off x="5199120" y="3413160"/>
                <a:ext cx="10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92560" y="3411360"/>
                <a:ext cx="106560" cy="182880"/>
              </a:xfrm>
              <a:custGeom>
                <a:avLst/>
                <a:gdLst/>
                <a:ahLst/>
                <a:rect l="0" t="0" r="r" b="b"/>
                <a:pathLst>
                  <a:path fill="none" w="296" h="508">
                    <a:moveTo>
                      <a:pt x="0" y="508"/>
                    </a:moveTo>
                    <a:lnTo>
                      <a:pt x="296" y="508"/>
                    </a:lnTo>
                    <a:lnTo>
                      <a:pt x="29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5457960" y="3382920"/>
              <a:ext cx="563400" cy="0"/>
            </a:xfrm>
            <a:custGeom>
              <a:avLst/>
              <a:gdLst/>
              <a:ahLst/>
              <a:rect l="0" t="0" r="r" b="b"/>
              <a:pathLst>
                <a:path fill="none" w="1565" h="0">
                  <a:moveTo>
                    <a:pt x="0" y="0"/>
                  </a:moveTo>
                  <a:lnTo>
                    <a:pt x="41" y="0"/>
                  </a:lnTo>
                  <a:lnTo>
                    <a:pt x="156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977080" y="3363840"/>
              <a:ext cx="168480" cy="82800"/>
              <a:chOff x="5977080" y="3363840"/>
              <a:chExt cx="168480" cy="82800"/>
            </a:xfrm>
          </p:grpSpPr>
          <p:sp>
            <p:nvSpPr>
              <p:cNvPr id="176" name=""/>
              <p:cNvSpPr/>
              <p:nvPr/>
            </p:nvSpPr>
            <p:spPr>
              <a:xfrm>
                <a:off x="6013440" y="336384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977080" y="336384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786280" y="3429000"/>
              <a:ext cx="243000" cy="186120"/>
              <a:chOff x="5786280" y="3429000"/>
              <a:chExt cx="243000" cy="186120"/>
            </a:xfrm>
          </p:grpSpPr>
          <p:sp>
            <p:nvSpPr>
              <p:cNvPr id="179" name=""/>
              <p:cNvSpPr/>
              <p:nvPr/>
            </p:nvSpPr>
            <p:spPr>
              <a:xfrm>
                <a:off x="5908680" y="3430440"/>
                <a:ext cx="12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86280" y="3429000"/>
                <a:ext cx="122760" cy="186120"/>
              </a:xfrm>
              <a:custGeom>
                <a:avLst/>
                <a:gdLst/>
                <a:ahLst/>
                <a:rect l="0" t="0" r="r" b="b"/>
                <a:pathLst>
                  <a:path fill="none" w="341" h="517">
                    <a:moveTo>
                      <a:pt x="0" y="517"/>
                    </a:moveTo>
                    <a:lnTo>
                      <a:pt x="341" y="517"/>
                    </a:lnTo>
                    <a:lnTo>
                      <a:pt x="34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5425920" y="3510000"/>
              <a:ext cx="35388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5396040" y="3487680"/>
              <a:ext cx="409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VE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145200" y="3402000"/>
              <a:ext cx="446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092560" y="3965400"/>
            <a:ext cx="1097280" cy="390600"/>
            <a:chOff x="5092560" y="3965400"/>
            <a:chExt cx="1097280" cy="390600"/>
          </a:xfrm>
        </p:grpSpPr>
        <p:grpSp>
          <p:nvGrpSpPr>
            <p:cNvPr id="185" name=""/>
            <p:cNvGrpSpPr/>
            <p:nvPr/>
          </p:nvGrpSpPr>
          <p:grpSpPr>
            <a:xfrm>
              <a:off x="5257800" y="3965400"/>
              <a:ext cx="168480" cy="82800"/>
              <a:chOff x="5257800" y="3965400"/>
              <a:chExt cx="168480" cy="82800"/>
            </a:xfrm>
          </p:grpSpPr>
          <p:sp>
            <p:nvSpPr>
              <p:cNvPr id="186" name=""/>
              <p:cNvSpPr/>
              <p:nvPr/>
            </p:nvSpPr>
            <p:spPr>
              <a:xfrm>
                <a:off x="5294160" y="396540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257800" y="396540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092560" y="4035600"/>
              <a:ext cx="211320" cy="182880"/>
              <a:chOff x="5092560" y="4035600"/>
              <a:chExt cx="211320" cy="182880"/>
            </a:xfrm>
          </p:grpSpPr>
          <p:sp>
            <p:nvSpPr>
              <p:cNvPr id="189" name=""/>
              <p:cNvSpPr/>
              <p:nvPr/>
            </p:nvSpPr>
            <p:spPr>
              <a:xfrm>
                <a:off x="5199120" y="4037040"/>
                <a:ext cx="10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092560" y="4035600"/>
                <a:ext cx="106560" cy="182880"/>
              </a:xfrm>
              <a:custGeom>
                <a:avLst/>
                <a:gdLst/>
                <a:ahLst/>
                <a:rect l="0" t="0" r="r" b="b"/>
                <a:pathLst>
                  <a:path fill="none" w="296" h="508">
                    <a:moveTo>
                      <a:pt x="0" y="508"/>
                    </a:moveTo>
                    <a:lnTo>
                      <a:pt x="296" y="508"/>
                    </a:lnTo>
                    <a:lnTo>
                      <a:pt x="29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5457960" y="4006800"/>
              <a:ext cx="563400" cy="0"/>
            </a:xfrm>
            <a:custGeom>
              <a:avLst/>
              <a:gdLst/>
              <a:ahLst/>
              <a:rect l="0" t="0" r="r" b="b"/>
              <a:pathLst>
                <a:path fill="none" w="1565" h="0">
                  <a:moveTo>
                    <a:pt x="0" y="0"/>
                  </a:moveTo>
                  <a:lnTo>
                    <a:pt x="41" y="0"/>
                  </a:lnTo>
                  <a:lnTo>
                    <a:pt x="156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977080" y="3987720"/>
              <a:ext cx="168480" cy="82800"/>
              <a:chOff x="5977080" y="3987720"/>
              <a:chExt cx="168480" cy="82800"/>
            </a:xfrm>
          </p:grpSpPr>
          <p:sp>
            <p:nvSpPr>
              <p:cNvPr id="193" name=""/>
              <p:cNvSpPr/>
              <p:nvPr/>
            </p:nvSpPr>
            <p:spPr>
              <a:xfrm>
                <a:off x="6013440" y="398772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977080" y="398772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5786280" y="4052880"/>
              <a:ext cx="243000" cy="186120"/>
              <a:chOff x="5786280" y="4052880"/>
              <a:chExt cx="243000" cy="186120"/>
            </a:xfrm>
          </p:grpSpPr>
          <p:sp>
            <p:nvSpPr>
              <p:cNvPr id="196" name=""/>
              <p:cNvSpPr/>
              <p:nvPr/>
            </p:nvSpPr>
            <p:spPr>
              <a:xfrm>
                <a:off x="5908680" y="4054320"/>
                <a:ext cx="12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86280" y="4052880"/>
                <a:ext cx="122760" cy="186120"/>
              </a:xfrm>
              <a:custGeom>
                <a:avLst/>
                <a:gdLst/>
                <a:ahLst/>
                <a:rect l="0" t="0" r="r" b="b"/>
                <a:pathLst>
                  <a:path fill="none" w="341" h="517">
                    <a:moveTo>
                      <a:pt x="0" y="517"/>
                    </a:moveTo>
                    <a:lnTo>
                      <a:pt x="341" y="517"/>
                    </a:lnTo>
                    <a:lnTo>
                      <a:pt x="34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425920" y="4133880"/>
              <a:ext cx="35388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5396040" y="4111560"/>
              <a:ext cx="409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VE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145200" y="4025880"/>
              <a:ext cx="446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092560" y="4575240"/>
            <a:ext cx="1097280" cy="390600"/>
            <a:chOff x="5092560" y="4575240"/>
            <a:chExt cx="1097280" cy="390600"/>
          </a:xfrm>
        </p:grpSpPr>
        <p:grpSp>
          <p:nvGrpSpPr>
            <p:cNvPr id="202" name=""/>
            <p:cNvGrpSpPr/>
            <p:nvPr/>
          </p:nvGrpSpPr>
          <p:grpSpPr>
            <a:xfrm>
              <a:off x="5257800" y="4575240"/>
              <a:ext cx="168480" cy="82800"/>
              <a:chOff x="5257800" y="4575240"/>
              <a:chExt cx="168480" cy="82800"/>
            </a:xfrm>
          </p:grpSpPr>
          <p:sp>
            <p:nvSpPr>
              <p:cNvPr id="203" name=""/>
              <p:cNvSpPr/>
              <p:nvPr/>
            </p:nvSpPr>
            <p:spPr>
              <a:xfrm>
                <a:off x="5294160" y="457524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57800" y="457524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5092560" y="4645080"/>
              <a:ext cx="211320" cy="182880"/>
              <a:chOff x="5092560" y="4645080"/>
              <a:chExt cx="211320" cy="182880"/>
            </a:xfrm>
          </p:grpSpPr>
          <p:sp>
            <p:nvSpPr>
              <p:cNvPr id="206" name=""/>
              <p:cNvSpPr/>
              <p:nvPr/>
            </p:nvSpPr>
            <p:spPr>
              <a:xfrm>
                <a:off x="5199120" y="4646520"/>
                <a:ext cx="10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092560" y="4645080"/>
                <a:ext cx="106560" cy="182880"/>
              </a:xfrm>
              <a:custGeom>
                <a:avLst/>
                <a:gdLst/>
                <a:ahLst/>
                <a:rect l="0" t="0" r="r" b="b"/>
                <a:pathLst>
                  <a:path fill="none" w="296" h="508">
                    <a:moveTo>
                      <a:pt x="0" y="508"/>
                    </a:moveTo>
                    <a:lnTo>
                      <a:pt x="296" y="508"/>
                    </a:lnTo>
                    <a:lnTo>
                      <a:pt x="29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5457960" y="4616280"/>
              <a:ext cx="563400" cy="0"/>
            </a:xfrm>
            <a:custGeom>
              <a:avLst/>
              <a:gdLst/>
              <a:ahLst/>
              <a:rect l="0" t="0" r="r" b="b"/>
              <a:pathLst>
                <a:path fill="none" w="1565" h="0">
                  <a:moveTo>
                    <a:pt x="0" y="0"/>
                  </a:moveTo>
                  <a:lnTo>
                    <a:pt x="41" y="0"/>
                  </a:lnTo>
                  <a:lnTo>
                    <a:pt x="156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5977080" y="4597560"/>
              <a:ext cx="168480" cy="82800"/>
              <a:chOff x="5977080" y="4597560"/>
              <a:chExt cx="168480" cy="82800"/>
            </a:xfrm>
          </p:grpSpPr>
          <p:sp>
            <p:nvSpPr>
              <p:cNvPr id="210" name=""/>
              <p:cNvSpPr/>
              <p:nvPr/>
            </p:nvSpPr>
            <p:spPr>
              <a:xfrm>
                <a:off x="6013440" y="459756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977080" y="459756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5786280" y="4662360"/>
              <a:ext cx="243000" cy="186120"/>
              <a:chOff x="5786280" y="4662360"/>
              <a:chExt cx="243000" cy="186120"/>
            </a:xfrm>
          </p:grpSpPr>
          <p:sp>
            <p:nvSpPr>
              <p:cNvPr id="213" name=""/>
              <p:cNvSpPr/>
              <p:nvPr/>
            </p:nvSpPr>
            <p:spPr>
              <a:xfrm>
                <a:off x="5908680" y="4664160"/>
                <a:ext cx="12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786280" y="4662360"/>
                <a:ext cx="122760" cy="186120"/>
              </a:xfrm>
              <a:custGeom>
                <a:avLst/>
                <a:gdLst/>
                <a:ahLst/>
                <a:rect l="0" t="0" r="r" b="b"/>
                <a:pathLst>
                  <a:path fill="none" w="341" h="517">
                    <a:moveTo>
                      <a:pt x="0" y="517"/>
                    </a:moveTo>
                    <a:lnTo>
                      <a:pt x="341" y="517"/>
                    </a:lnTo>
                    <a:lnTo>
                      <a:pt x="34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425920" y="4743360"/>
              <a:ext cx="35388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5396040" y="4721400"/>
              <a:ext cx="409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VE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145200" y="4635360"/>
              <a:ext cx="446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092560" y="5032440"/>
            <a:ext cx="1097280" cy="390600"/>
            <a:chOff x="5092560" y="5032440"/>
            <a:chExt cx="1097280" cy="390600"/>
          </a:xfrm>
        </p:grpSpPr>
        <p:grpSp>
          <p:nvGrpSpPr>
            <p:cNvPr id="219" name=""/>
            <p:cNvGrpSpPr/>
            <p:nvPr/>
          </p:nvGrpSpPr>
          <p:grpSpPr>
            <a:xfrm>
              <a:off x="5257800" y="5032440"/>
              <a:ext cx="168480" cy="82800"/>
              <a:chOff x="5257800" y="5032440"/>
              <a:chExt cx="168480" cy="82800"/>
            </a:xfrm>
          </p:grpSpPr>
          <p:sp>
            <p:nvSpPr>
              <p:cNvPr id="220" name=""/>
              <p:cNvSpPr/>
              <p:nvPr/>
            </p:nvSpPr>
            <p:spPr>
              <a:xfrm>
                <a:off x="5294160" y="503244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257800" y="503244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092560" y="5102280"/>
              <a:ext cx="211320" cy="182880"/>
              <a:chOff x="5092560" y="5102280"/>
              <a:chExt cx="211320" cy="182880"/>
            </a:xfrm>
          </p:grpSpPr>
          <p:sp>
            <p:nvSpPr>
              <p:cNvPr id="223" name=""/>
              <p:cNvSpPr/>
              <p:nvPr/>
            </p:nvSpPr>
            <p:spPr>
              <a:xfrm>
                <a:off x="5199120" y="5103720"/>
                <a:ext cx="10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092560" y="5102280"/>
                <a:ext cx="106560" cy="182880"/>
              </a:xfrm>
              <a:custGeom>
                <a:avLst/>
                <a:gdLst/>
                <a:ahLst/>
                <a:rect l="0" t="0" r="r" b="b"/>
                <a:pathLst>
                  <a:path fill="none" w="296" h="508">
                    <a:moveTo>
                      <a:pt x="0" y="508"/>
                    </a:moveTo>
                    <a:lnTo>
                      <a:pt x="296" y="508"/>
                    </a:lnTo>
                    <a:lnTo>
                      <a:pt x="29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5457960" y="5073480"/>
              <a:ext cx="563400" cy="0"/>
            </a:xfrm>
            <a:custGeom>
              <a:avLst/>
              <a:gdLst/>
              <a:ahLst/>
              <a:rect l="0" t="0" r="r" b="b"/>
              <a:pathLst>
                <a:path fill="none" w="1565" h="0">
                  <a:moveTo>
                    <a:pt x="0" y="0"/>
                  </a:moveTo>
                  <a:lnTo>
                    <a:pt x="41" y="0"/>
                  </a:lnTo>
                  <a:lnTo>
                    <a:pt x="156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5977080" y="5054760"/>
              <a:ext cx="168480" cy="82800"/>
              <a:chOff x="5977080" y="5054760"/>
              <a:chExt cx="168480" cy="82800"/>
            </a:xfrm>
          </p:grpSpPr>
          <p:sp>
            <p:nvSpPr>
              <p:cNvPr id="227" name=""/>
              <p:cNvSpPr/>
              <p:nvPr/>
            </p:nvSpPr>
            <p:spPr>
              <a:xfrm>
                <a:off x="6013440" y="505476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977080" y="505476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5786280" y="5119560"/>
              <a:ext cx="243000" cy="186120"/>
              <a:chOff x="5786280" y="5119560"/>
              <a:chExt cx="243000" cy="186120"/>
            </a:xfrm>
          </p:grpSpPr>
          <p:sp>
            <p:nvSpPr>
              <p:cNvPr id="230" name=""/>
              <p:cNvSpPr/>
              <p:nvPr/>
            </p:nvSpPr>
            <p:spPr>
              <a:xfrm>
                <a:off x="5908680" y="5121360"/>
                <a:ext cx="12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786280" y="5119560"/>
                <a:ext cx="122760" cy="186120"/>
              </a:xfrm>
              <a:custGeom>
                <a:avLst/>
                <a:gdLst/>
                <a:ahLst/>
                <a:rect l="0" t="0" r="r" b="b"/>
                <a:pathLst>
                  <a:path fill="none" w="341" h="517">
                    <a:moveTo>
                      <a:pt x="0" y="517"/>
                    </a:moveTo>
                    <a:lnTo>
                      <a:pt x="341" y="517"/>
                    </a:lnTo>
                    <a:lnTo>
                      <a:pt x="34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5425920" y="5200560"/>
              <a:ext cx="35388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5396040" y="5178600"/>
              <a:ext cx="409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VE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145200" y="5092560"/>
              <a:ext cx="446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092560" y="5794200"/>
            <a:ext cx="1097280" cy="390600"/>
            <a:chOff x="5092560" y="5794200"/>
            <a:chExt cx="1097280" cy="390600"/>
          </a:xfrm>
        </p:grpSpPr>
        <p:grpSp>
          <p:nvGrpSpPr>
            <p:cNvPr id="236" name=""/>
            <p:cNvGrpSpPr/>
            <p:nvPr/>
          </p:nvGrpSpPr>
          <p:grpSpPr>
            <a:xfrm>
              <a:off x="5257800" y="5794200"/>
              <a:ext cx="168480" cy="82800"/>
              <a:chOff x="5257800" y="5794200"/>
              <a:chExt cx="168480" cy="82800"/>
            </a:xfrm>
          </p:grpSpPr>
          <p:sp>
            <p:nvSpPr>
              <p:cNvPr id="237" name=""/>
              <p:cNvSpPr/>
              <p:nvPr/>
            </p:nvSpPr>
            <p:spPr>
              <a:xfrm>
                <a:off x="5294160" y="579420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257800" y="579420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5092560" y="5864400"/>
              <a:ext cx="211320" cy="182880"/>
              <a:chOff x="5092560" y="5864400"/>
              <a:chExt cx="211320" cy="182880"/>
            </a:xfrm>
          </p:grpSpPr>
          <p:sp>
            <p:nvSpPr>
              <p:cNvPr id="240" name=""/>
              <p:cNvSpPr/>
              <p:nvPr/>
            </p:nvSpPr>
            <p:spPr>
              <a:xfrm>
                <a:off x="5199120" y="5865840"/>
                <a:ext cx="10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92560" y="5864400"/>
                <a:ext cx="106560" cy="182880"/>
              </a:xfrm>
              <a:custGeom>
                <a:avLst/>
                <a:gdLst/>
                <a:ahLst/>
                <a:rect l="0" t="0" r="r" b="b"/>
                <a:pathLst>
                  <a:path fill="none" w="296" h="508">
                    <a:moveTo>
                      <a:pt x="0" y="508"/>
                    </a:moveTo>
                    <a:lnTo>
                      <a:pt x="296" y="508"/>
                    </a:lnTo>
                    <a:lnTo>
                      <a:pt x="29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5457960" y="5835600"/>
              <a:ext cx="563400" cy="0"/>
            </a:xfrm>
            <a:custGeom>
              <a:avLst/>
              <a:gdLst/>
              <a:ahLst/>
              <a:rect l="0" t="0" r="r" b="b"/>
              <a:pathLst>
                <a:path fill="none" w="1565" h="0">
                  <a:moveTo>
                    <a:pt x="0" y="0"/>
                  </a:moveTo>
                  <a:lnTo>
                    <a:pt x="41" y="0"/>
                  </a:lnTo>
                  <a:lnTo>
                    <a:pt x="156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977080" y="5816520"/>
              <a:ext cx="168480" cy="82800"/>
              <a:chOff x="5977080" y="5816520"/>
              <a:chExt cx="168480" cy="82800"/>
            </a:xfrm>
          </p:grpSpPr>
          <p:sp>
            <p:nvSpPr>
              <p:cNvPr id="244" name=""/>
              <p:cNvSpPr/>
              <p:nvPr/>
            </p:nvSpPr>
            <p:spPr>
              <a:xfrm>
                <a:off x="6013440" y="581652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977080" y="581652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5786280" y="5881680"/>
              <a:ext cx="243000" cy="186120"/>
              <a:chOff x="5786280" y="5881680"/>
              <a:chExt cx="243000" cy="186120"/>
            </a:xfrm>
          </p:grpSpPr>
          <p:sp>
            <p:nvSpPr>
              <p:cNvPr id="247" name=""/>
              <p:cNvSpPr/>
              <p:nvPr/>
            </p:nvSpPr>
            <p:spPr>
              <a:xfrm>
                <a:off x="5908680" y="5883120"/>
                <a:ext cx="12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786280" y="5881680"/>
                <a:ext cx="122760" cy="186120"/>
              </a:xfrm>
              <a:custGeom>
                <a:avLst/>
                <a:gdLst/>
                <a:ahLst/>
                <a:rect l="0" t="0" r="r" b="b"/>
                <a:pathLst>
                  <a:path fill="none" w="341" h="517">
                    <a:moveTo>
                      <a:pt x="0" y="517"/>
                    </a:moveTo>
                    <a:lnTo>
                      <a:pt x="341" y="517"/>
                    </a:lnTo>
                    <a:lnTo>
                      <a:pt x="34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425920" y="5962680"/>
              <a:ext cx="35388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5396040" y="5940360"/>
              <a:ext cx="409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VE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145200" y="5854680"/>
              <a:ext cx="446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62520" y="3352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962520" y="3962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7879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196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38480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962520" y="5540400"/>
            <a:ext cx="152280" cy="152280"/>
            <a:chOff x="3962520" y="5540400"/>
            <a:chExt cx="152280" cy="152280"/>
          </a:xfrm>
        </p:grpSpPr>
        <p:sp>
          <p:nvSpPr>
            <p:cNvPr id="258" name=""/>
            <p:cNvSpPr/>
            <p:nvPr/>
          </p:nvSpPr>
          <p:spPr>
            <a:xfrm>
              <a:off x="3962520" y="56167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62520" y="5692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62520" y="5540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019920" y="5540400"/>
            <a:ext cx="152280" cy="152280"/>
            <a:chOff x="6019920" y="5540400"/>
            <a:chExt cx="152280" cy="152280"/>
          </a:xfrm>
        </p:grpSpPr>
        <p:sp>
          <p:nvSpPr>
            <p:cNvPr id="262" name=""/>
            <p:cNvSpPr/>
            <p:nvPr/>
          </p:nvSpPr>
          <p:spPr>
            <a:xfrm>
              <a:off x="6019920" y="56167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19920" y="5692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19920" y="5540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19920" y="3787920"/>
            <a:ext cx="152280" cy="152280"/>
            <a:chOff x="6019920" y="3787920"/>
            <a:chExt cx="152280" cy="152280"/>
          </a:xfrm>
        </p:grpSpPr>
        <p:sp>
          <p:nvSpPr>
            <p:cNvPr id="266" name=""/>
            <p:cNvSpPr/>
            <p:nvPr/>
          </p:nvSpPr>
          <p:spPr>
            <a:xfrm>
              <a:off x="6019920" y="38638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19920" y="39402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19920" y="37879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data rate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d data rate increases as number of orthogonal codes used increases (one data bit per c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s can use 1 to 11 Augmented Barker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 data bits can be recovered due to the orthogonal nature of the spreading cod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 Code has same clock as Augmented Barker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 Code is 4095 bits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ip rate: 11 Mc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ing g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EE 802.11 Mode: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ed new metho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except frame body and CRC32: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me body and CRC32: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r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EE 802.11 Mode: 1 Mbps (BPSK), 2 Mbps (QP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ed new method: 1.83, 3.67,  up to 20.16 Mbps in increments of 1.83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data rate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8580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new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can use 1 code, 2 codes, … , 11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rate (Mcps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 (augmented Barker cod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 (Mbps, BPSK modulation, per cod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1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 (Mbps , QPSK modulation , per cod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1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 data rate (Mbps , QPSK modulation , 1 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1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data rate (Mbps , QPSK modulation , 11 cod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  1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compatibl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as BPSK, QPSK modulation using one code. Code is Barker code, data rate is 1 and 2 Mbps and PG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signal bandwid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rate is constant and identical to the present IEEE 802.11 standard (11 Mcp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bandwidth requirements remain identical to present IEEE 802.11 standard bas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and despread signal constel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signal constellation (number of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ode (11/6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codes (11/3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codes (20  1/6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er constellation points are low probability; RF can be in soft com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read signal constellation always QP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 and interoper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high data rate system can fully coexist and interoperate with legacy systems, subject to new higher data rates lim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ystems acquire same spread spectrum SYNC pream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ystems detect the same SFD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ystems demodulate the same SIGNAL field - this field indicates the data format of the MPDU field. It can indic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802.11 (1 or 2 Mb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new data rate (one of 11 data rates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ystems demodulate the same SERVIC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ystems demodulate the same LENGTH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ystems demodulate the same CRC16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systems can then demodulate MPDU at enhanced data rates or at present IEEE 802.11 data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complex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complexity increase is small due to utilization of matched filter based technology to implement the following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 spectrum acqui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desp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SK / QPSK de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tracking (± 25 PP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tracking (D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ty processing (selection or Rake with MR combi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channel assessment (CCA) using energy detection at IF and post desprea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performance - multi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performance - RF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 to AGC setting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 to AGC setting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next generation of W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tibility with exist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applicability to variety of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performance - multip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19810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performance due to matched filter based techn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resistance for several data rates, 100 byte packet,    FER=10e-1, no diversity processing (RA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869940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performance - RF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828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Costas loop removes frequency offsets of ± 25 PP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R (dB) required for several data rates to achieve FER=10e-1 for  100 byte packet. Frequency offsets of 0 and 125 KHz are consid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1022364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 to AGC setting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 vs AGC setting for 8, 10, 12 dB.  Data rate of 1.83 Mbps at a frequency offset of 0 KHz (left) and 80 KHz (righ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3517920" cy="42609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343836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 to AGC setting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 vs AGC setting for 8, 10, 12 dB.  Data rate of 12.83 Mbps at a frequency offset of 0 KHz (left) and 80 KHz (righ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511520" y="1981080"/>
            <a:ext cx="3498840" cy="41274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750960" y="2057400"/>
            <a:ext cx="35751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ystem outlines a flexible signal structure that can be efficiently processed by high performance matched filter based archite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with existing systems and capable of trading off cost, power consumption and data rate (11 rates, 1.83 to 20 Mbps plus present 1 and 2 Mbps) while maintaining full interoperabil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ll range of existing systems, from smallest ( and most restricted in power consumption) to largest can communicate using new IEEE Wireless LAN protoc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ed filter based operation can take advantage of multipath to enhance system performance at little or no additional hardware complex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spread spectrum signal structure complies with FCC ISM band defin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 in ISM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data rate of up to 2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spread spectrum operation compliant to FCC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tibility with existing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modification to existing protocol software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mless operation in a mixed environment, i.e., present IEEE 802.11 and new high speed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applicability to variety of plat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e-off between cost/power consumption/data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IEEE802.11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system uses 11 chip Barker code as spreading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data bit spread by entire code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F) Modulation is BPSK or QP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 varied by changing modulatio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rate is 11 Mc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bandwidth is 22 MH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 defined fields (sync, set-up, data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 protection of select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ystem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5238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ing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ked carrier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r block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data rat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data rat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signal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and despread signal const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 and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ing sequ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spreading code is the 11 bit Barker Co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 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1 -1 +1 +1 -1 +1 +1 +1 -1 -1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ugment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ker code appends a ‘-1’ chip at th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1 -1 +1 +1 -1 +1 +1 +1 -1 -1 -1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ugment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ker code set uses all phases of the original Barker code and appends a ‘-1’ chip at th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de 1: +1 -1 +1 +1 -1 +1 +1 +1 -1 -1 -1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de 2: -1 +1 +1 -1 +1 +1 +1 -1 -1 -1 +1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de 11: -1+1 -1 +1 +1 -1 +1 +1 +1 -1 -1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gment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ker codes form orthogonal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ked carrier princi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each member of orthogonal code set to spread spectrum modulate individual data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spread spectrum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composite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d</dc:creator>
  <dc:description/>
  <dc:language>en-US</dc:language>
  <cp:lastModifiedBy>sd</cp:lastModifiedBy>
  <cp:revision>0</cp:revision>
  <dc:subject/>
  <dc:title>Further Considerations for Implementation of Adaptive Data Rates</dc:title>
</cp:coreProperties>
</file>