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DC2EE9BF-7356-4B8D-9BAE-5112389CC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03440" y="228600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Overvi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EEE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6680" y="3886200"/>
            <a:ext cx="6470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 Symbi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39760" y="1219320"/>
            <a:ext cx="6864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security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based on encryption with a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have 3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index is sent “in the cle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is encryp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algorithm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only one algorith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stribution mechanism is not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1066680"/>
            <a:ext cx="842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power saving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Node (p-sa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wake to receive individual (point-to-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Individual Pattern (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ncludes regular wake and sleep ph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orting Node (p-suppo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s transmission to p-saver until the next wak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send group (point-to-multi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Group Pattern (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 includes regular wake and sleep phases that p-savers can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supporter ensures that group data is sent during wake phase of the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58800" y="1219320"/>
            <a:ext cx="6026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/ supporting cap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radio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S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name and identif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d HIPERL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that this list is not exhausti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Topology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7040" y="1447920"/>
            <a:ext cx="7550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nnounce their presence with regular “Hello”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existence is derived from sending and receiving Hello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who determine “mutual existence” become Neighbo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PDUs include information abou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a received Hello PDU gives information about my neighbour’s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op”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dio Hop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4240" y="5524560"/>
            <a:ext cx="717552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extends beyond one radio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extended using “forwarder”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0120" y="1444680"/>
            <a:ext cx="7227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forwarding features is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PERLAN may extend over a range greater than one radio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ay be relayed over multiple radio hops via forwa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is maintained over the whole HIPER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oint relays are forwarding nodes chosen to ensure multicast coverage of 2 hops with the minimum number of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computes the best next hop on the rout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routing table is similar to IP routing, but the genreation of the routing table is done automatically by the HIPERLA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2440" y="277920"/>
            <a:ext cx="836928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802.11 MAC Compari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2160" y="1260360"/>
            <a:ext cx="659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84240" y="121932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is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higher layer the HIPERLAN MAC service interface looks very much like an “ordinary” 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48 bi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Service (Q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(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DU Lifetime (in milli-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90720"/>
            <a:ext cx="8077320" cy="266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odes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entral controller, or “h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an “access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have any other “special” functions just because it is a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5240" y="4202280"/>
            <a:ext cx="5046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AC Archite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84240" y="91440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802.11 there is no centralised P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only has a few channels available and so different systems may have to share the same channel “fair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can be supported in non-centralis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s learn the location of MAC entities and copy data from input to output port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layer and wired MAC layer can bridge data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n be used for broadband radio access to an infrastructu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cess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) has no other spec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unctions are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Channel Access Control, Power Saving, Generating lookup confirm PD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9040" y="5261040"/>
            <a:ext cx="8305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IPERLANs may occupy the same channel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 is by HIPERLAN identifier (and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33640" y="1438200"/>
            <a:ext cx="50292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1811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ifferentiate logical groups of nodes (HIPERLAN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ing, the HIPERLA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, the HIPERLAN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to identifier mapping should not c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e 802.11 concept of a Basic Service Set (BSS) or an Extended Service Set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belong to a HIPERLAN if you have the same name and identif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ing node sends Lookup 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established nodes sends a Confirm PDU including the HIPERLAN name and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802.11 probe and prob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of packets is NOT necessarily a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elected for transmission based on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number of radio 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 priority packets jump to the front of the que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lifetime means higher priority means less queu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QoS can be supported for a mixtur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ccess Control (C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MAC packets for transmission, with priority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C covered by another present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84240" y="4716360"/>
            <a:ext cx="717552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MAC QoS to MAC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enerat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rder by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lect head of queue for C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7480" y="1066680"/>
            <a:ext cx="77104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660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 Error Control and Fi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is discarded once a good acknowledgement (ACK) is rece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and broadcast packets are not acknow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lifetime expi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s may occur in radio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missing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may be relayed by more than on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filters on destin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also checks source sequence number for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MAC Overview For IEEE 802</dc:title>
</cp:coreProperties>
</file>