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D4D1EB-ED1E-49EE-9412-98CA27CB7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1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uly 7-11,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ahaina, Maui, Hawaii</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uly 7,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ember 8-11? - To be determined, Interim for PH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documents for future work in the High Speed Study Group including submitting the 5 GHz PAR to SEC</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maintenance PAR for 802.11</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tart work on the new PHY(s)</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a new draft 802.11 if needed</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et-up a maintenanc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  !Study|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new  !group|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drft/!     |drft/!      |drft/!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aint!     |maint!      |maint!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maint!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24</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nnyval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40</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 if requir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maintenance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