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A5D3C5-14A9-438F-8635-539787ED2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76720" y="1066680"/>
            <a:ext cx="51814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63400" y="828720"/>
            <a:ext cx="238140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formation &amp; Support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63400" y="981000"/>
            <a:ext cx="240984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earch &amp;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538200" y="201600"/>
            <a:ext cx="8064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rch 1997                                                                                                  doc: IEEE P802.11-97/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488880" y="6039000"/>
            <a:ext cx="8362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_______________________________________________________________________________________________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bmission: doc: Background for IEEE 802 Standard at 5.1GHz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  Richard Paine, Boe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5079960" y="6251400"/>
            <a:ext cx="523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8FF1B491-BDBC-4BBA-8AF9-11F077B78D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95360" y="1479600"/>
            <a:ext cx="838188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ackground for IEEE 802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tandard at 5.1G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66960" y="3254400"/>
            <a:ext cx="56912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879480" y="171360"/>
            <a:ext cx="7604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imits on 802.11 at Higher Sp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165240" y="1138320"/>
            <a:ext cx="88279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mit in the 96microsec preamble plus 32microsec header plus packet transmit state timing for the PHY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25Mbps, 102791  bytes could conceivably be passed through the PHY_SAP.  The largest size packet allowed through the present SAP is 4095 by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598320" y="3718080"/>
            <a:ext cx="5516640" cy="3019320"/>
            <a:chOff x="598320" y="3718080"/>
            <a:chExt cx="5516640" cy="3019320"/>
          </a:xfrm>
        </p:grpSpPr>
        <p:sp>
          <p:nvSpPr>
            <p:cNvPr id="479" name=""/>
            <p:cNvSpPr/>
            <p:nvPr/>
          </p:nvSpPr>
          <p:spPr>
            <a:xfrm>
              <a:off x="1387440" y="3894120"/>
              <a:ext cx="0" cy="2757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387440" y="6651720"/>
              <a:ext cx="472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6114960" y="3894120"/>
              <a:ext cx="0" cy="2757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25960" y="3894120"/>
              <a:ext cx="0" cy="2741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916440" y="3878280"/>
              <a:ext cx="6120" cy="2779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387440" y="4991040"/>
              <a:ext cx="3638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87440" y="5761080"/>
              <a:ext cx="2529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627360" y="4545000"/>
              <a:ext cx="534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656160" y="53737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621240" y="6167520"/>
              <a:ext cx="534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46400" y="4927680"/>
              <a:ext cx="882720" cy="1382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243160" y="4916520"/>
              <a:ext cx="884160" cy="1364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243160" y="5692680"/>
              <a:ext cx="884160" cy="1382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32360" y="5433840"/>
              <a:ext cx="165240" cy="7365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940280" y="4137120"/>
              <a:ext cx="163440" cy="7365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 txBox="1"/>
            <p:nvPr/>
          </p:nvSpPr>
          <p:spPr>
            <a:xfrm>
              <a:off x="598320" y="3718080"/>
              <a:ext cx="861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 txBox="1"/>
            <p:nvPr/>
          </p:nvSpPr>
          <p:spPr>
            <a:xfrm>
              <a:off x="615960" y="510552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 txBox="1"/>
            <p:nvPr/>
          </p:nvSpPr>
          <p:spPr>
            <a:xfrm>
              <a:off x="768240" y="4029120"/>
              <a:ext cx="330120" cy="131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 txBox="1"/>
            <p:nvPr/>
          </p:nvSpPr>
          <p:spPr>
            <a:xfrm>
              <a:off x="768240" y="5423040"/>
              <a:ext cx="330120" cy="131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400040" y="4029120"/>
              <a:ext cx="3629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243160" y="3963960"/>
              <a:ext cx="884160" cy="1364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2657520" y="4486320"/>
            <a:ext cx="0" cy="105732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2657520" y="3629160"/>
            <a:ext cx="94284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3543480" y="3629160"/>
            <a:ext cx="568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543480" y="3371760"/>
            <a:ext cx="514080" cy="514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024440" y="3222720"/>
            <a:ext cx="844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6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4444920" y="3390840"/>
            <a:ext cx="44640" cy="193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6137280" y="3011400"/>
            <a:ext cx="274788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6X10-6s preamble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2X10-6s header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x 32760X10-6s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5X106bps = 822328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537240" y="4268880"/>
            <a:ext cx="1779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2791 oct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6394320" y="2514600"/>
            <a:ext cx="1886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5Mb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404040" y="4522680"/>
            <a:ext cx="1886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0Mb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175440" y="5005440"/>
            <a:ext cx="274788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6X10-6s preamble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2X10-6s header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x 32760X10-6s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X106bps = 328880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6603840" y="6291360"/>
            <a:ext cx="1638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1110 oct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509840" y="4565520"/>
            <a:ext cx="1004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Y_S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2565360" y="285840"/>
            <a:ext cx="6256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imits on 2.4GHz at 10Mb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43080" y="1714680"/>
            <a:ext cx="868680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 80Mhz-wide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9 hops at 2Mbps (1MHz/channel), 16 hops at 10Mbp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5MHz/chann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 Channel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reasing number of channels increases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 FCC Power Flux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’t cross the FCC power flux density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 Preamble Clock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ove 2Mbps there could be clock jitter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2994120" y="228600"/>
            <a:ext cx="57722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imits on U-NII at 25Mb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43080" y="1714680"/>
            <a:ext cx="868680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 300Mhz-wide band (5.15-5.35GHz and 5.725-5.825GH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0 hops at 25Mbps (5MHz chann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 Channel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ill greater chance of interference at 70 vs 79 hops @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 FCC Power Flux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the NII/Sup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 Preamble Clock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ch higher clocking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2793960" y="212760"/>
            <a:ext cx="6056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ther Standards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2560" y="1662120"/>
            <a:ext cx="900756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TSI and Hiper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1,2,3,&amp;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1 is 5.1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2 is 5.1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3 is 5.1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4 is 17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e.wpi.edu for Hiperla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c mentioned that ETSI did not go to the ITU and so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U is upset with ETSI and is refusing to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iness with them since they have not work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the I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514440" y="162000"/>
            <a:ext cx="84963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oeing Wireless Mobility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4272120" y="3036960"/>
            <a:ext cx="1835280" cy="2217600"/>
            <a:chOff x="4272120" y="3036960"/>
            <a:chExt cx="1835280" cy="2217600"/>
          </a:xfrm>
        </p:grpSpPr>
        <p:sp>
          <p:nvSpPr>
            <p:cNvPr id="529" name=""/>
            <p:cNvSpPr/>
            <p:nvPr/>
          </p:nvSpPr>
          <p:spPr>
            <a:xfrm>
              <a:off x="4467240" y="3127320"/>
              <a:ext cx="1477800" cy="1790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 txBox="1"/>
            <p:nvPr/>
          </p:nvSpPr>
          <p:spPr>
            <a:xfrm>
              <a:off x="4272120" y="4941720"/>
              <a:ext cx="183528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eing Cam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659560" y="3843360"/>
              <a:ext cx="171360" cy="13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 txBox="1"/>
            <p:nvPr/>
          </p:nvSpPr>
          <p:spPr>
            <a:xfrm>
              <a:off x="5668920" y="3854520"/>
              <a:ext cx="168120" cy="15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402160" y="3201840"/>
              <a:ext cx="60336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89640" y="3932280"/>
              <a:ext cx="169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978440" y="3753000"/>
              <a:ext cx="396720" cy="314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375160" y="361944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375160" y="42465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863960" y="42465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410000" y="42022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863960" y="4514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375160" y="4514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410000" y="4514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921200" y="361944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10000" y="361944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75160" y="393228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921200" y="393228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410000" y="393228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921200" y="30369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410000" y="33051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921200" y="33051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75160" y="33051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410000" y="30369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432400" y="30369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205240" y="3260880"/>
              <a:ext cx="0" cy="4921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694400" y="3260880"/>
              <a:ext cx="10220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751280" y="357516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751280" y="3887640"/>
              <a:ext cx="2271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751280" y="415620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751280" y="447048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751280" y="478296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205240" y="4067280"/>
              <a:ext cx="0" cy="7156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75160" y="3887640"/>
              <a:ext cx="284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1171440" y="1428840"/>
            <a:ext cx="7829640" cy="5286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2709720" y="1938240"/>
            <a:ext cx="23194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gional 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 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2743200" y="3743280"/>
            <a:ext cx="1628640" cy="1171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3200" y="4915080"/>
            <a:ext cx="371520" cy="2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1971720" y="4943520"/>
            <a:ext cx="114300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766800" y="6022800"/>
            <a:ext cx="3147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mpu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 Wireless 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5570640" y="1824120"/>
            <a:ext cx="1465200" cy="91908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2"/>
          <a:stretch/>
        </p:blipFill>
        <p:spPr>
          <a:xfrm>
            <a:off x="6961320" y="3564000"/>
            <a:ext cx="1411200" cy="133020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3"/>
          <a:stretch/>
        </p:blipFill>
        <p:spPr>
          <a:xfrm>
            <a:off x="1401840" y="3516480"/>
            <a:ext cx="2054160" cy="741240"/>
          </a:xfrm>
          <a:prstGeom prst="rect">
            <a:avLst/>
          </a:prstGeom>
          <a:ln w="0">
            <a:noFill/>
          </a:ln>
        </p:spPr>
      </p:pic>
      <p:pic>
        <p:nvPicPr>
          <p:cNvPr id="572" name="" descr=""/>
          <p:cNvPicPr/>
          <p:nvPr/>
        </p:nvPicPr>
        <p:blipFill>
          <a:blip r:embed="rId4"/>
          <a:stretch/>
        </p:blipFill>
        <p:spPr>
          <a:xfrm>
            <a:off x="4241880" y="5513400"/>
            <a:ext cx="1992240" cy="77328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5"/>
          <a:stretch/>
        </p:blipFill>
        <p:spPr>
          <a:xfrm>
            <a:off x="299880" y="1303200"/>
            <a:ext cx="2405160" cy="166860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 txBox="1"/>
          <p:nvPr/>
        </p:nvSpPr>
        <p:spPr>
          <a:xfrm>
            <a:off x="1440" y="1176480"/>
            <a:ext cx="2436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tional/Intl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708200" y="155520"/>
            <a:ext cx="7327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equirements for Higher Sp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43080" y="1365120"/>
            <a:ext cx="848052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/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operability - preferred but not required (with 802.11 specif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-NII - higher speeds in the 5.1GHZ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t with 150MHZ covered by both U-NII and HIPER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rate - 25Mbps, consider fall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sitivity (Range) - study will be conducted on spectral efficiency v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sitivity vs range vs immunity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mit power - regulatory under U-NII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lapping networks 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ath immunity - methods more immune to multipath, ie work will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ed on channel models and immunity to multi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erence immunity - (modulation, protoc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conomics (complex/efficient vs low cost) - complex/efficient vs low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 consumption - mechanisms for power conservation (sleep mo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222800" y="212760"/>
            <a:ext cx="2979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ction I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93840" y="2165400"/>
            <a:ext cx="848520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d Action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 a range including U-NII and HIPERLAN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sider a project for the 5.15GHz and 5.725 MAC and PH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w  ATM compatibility with 802.2 MAC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relationships with ETSI and ITU for 5.15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565440" y="184320"/>
            <a:ext cx="45324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AR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766800" y="1770120"/>
            <a:ext cx="717228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re are five criteria for a PA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road market potent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istinct Ident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chnical Fea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conomic Fea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628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eate a new 802.11 PHY operating up to 25Mbps per channel based on the U-NII rule-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tion to submit the PAR without addressing specific modulation types except only as it regards technical fea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600280" y="12384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593640" y="2017800"/>
            <a:ext cx="7983360" cy="35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ive recognition to WINForum (liaison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EEE for fair-share ru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ychronize timing with 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aison with W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2600280" y="12384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iaiso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952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666800"/>
            <a:ext cx="768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CC Release of 5.1GHz band for N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ATM Work at 5.1G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mparison of IEEE and ETSI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mitations of 802.11 at Higher Sp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amination of the MAC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tement of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2952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-NII B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28720" y="1609560"/>
            <a:ext cx="768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an 9, 1997 FCC Released Fre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.15-5.35GHz (200MH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.75-5.85GHz (100Mh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 use on campuses and 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vailable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me vendors have 5.7 radios ou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66680" y="1452600"/>
            <a:ext cx="143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9160" y="4788000"/>
            <a:ext cx="103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42800" y="1814400"/>
            <a:ext cx="131112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AN Satell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Ns/C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llular 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sonal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reless A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33440" y="5146560"/>
            <a:ext cx="1809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me &amp; Trav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13848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20372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18472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16572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17552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24220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4083120" y="1171440"/>
            <a:ext cx="3240" cy="520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18120" y="1171440"/>
            <a:ext cx="6480" cy="5191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05600" y="1171440"/>
            <a:ext cx="3240" cy="5185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86600" y="1171440"/>
            <a:ext cx="6480" cy="5185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8115480" y="1171440"/>
            <a:ext cx="9360" cy="514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29040" y="1514520"/>
            <a:ext cx="6057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016080" y="0"/>
            <a:ext cx="6114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is Going to Happe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 Mobile Comput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657760" y="1981080"/>
            <a:ext cx="3124440" cy="5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040" bIns="-59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513160" y="187164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86640" y="2171880"/>
            <a:ext cx="1436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138480" y="2011320"/>
            <a:ext cx="1508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orldwide V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643720" y="3454560"/>
            <a:ext cx="1697040" cy="2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1200" bIns="-61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86600" y="3643200"/>
            <a:ext cx="1460520" cy="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2280" bIns="-62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81160" y="3282840"/>
            <a:ext cx="1676520" cy="324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29280" y="4071960"/>
            <a:ext cx="149076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86560" y="4257720"/>
            <a:ext cx="23716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048120" y="3890880"/>
            <a:ext cx="2114280" cy="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2280" bIns="-62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715240" y="4486320"/>
            <a:ext cx="2001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100920" y="2610000"/>
            <a:ext cx="237636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115040" y="2781360"/>
            <a:ext cx="194328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962440" y="2428920"/>
            <a:ext cx="5181480" cy="6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795320" y="2259000"/>
            <a:ext cx="13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og(AM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692360" y="2467080"/>
            <a:ext cx="1488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DPD 19.2K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951360" y="262728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322360" y="3129120"/>
            <a:ext cx="717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440160" y="3330720"/>
            <a:ext cx="11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EEE 802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8640" y="350676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-25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195640" y="3762360"/>
            <a:ext cx="885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K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795760" y="3940200"/>
            <a:ext cx="717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362400" y="4118040"/>
            <a:ext cx="816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52920" y="436896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-25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67640" y="6153120"/>
            <a:ext cx="1247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11480" y="5730840"/>
            <a:ext cx="3003480" cy="324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979640" y="56005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DN(128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18000" y="5765760"/>
            <a:ext cx="1162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ble (10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618000" y="5994360"/>
            <a:ext cx="11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per (6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14640" y="1986120"/>
            <a:ext cx="14432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57880" y="1986120"/>
            <a:ext cx="12286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29240" y="217188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86520" y="2171880"/>
            <a:ext cx="1485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157560" y="2614680"/>
            <a:ext cx="14428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00440" y="2614680"/>
            <a:ext cx="15004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76760" y="2781360"/>
            <a:ext cx="14288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05600" y="2781360"/>
            <a:ext cx="98100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00440" y="3457440"/>
            <a:ext cx="10432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29280" y="364320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00920" y="3643200"/>
            <a:ext cx="9856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43400" y="4071960"/>
            <a:ext cx="64296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86360" y="4071960"/>
            <a:ext cx="10429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14800" y="4257720"/>
            <a:ext cx="10144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29280" y="4257720"/>
            <a:ext cx="1485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72080" y="4486320"/>
            <a:ext cx="18860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72520" y="4486320"/>
            <a:ext cx="1242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593424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34040" y="6153120"/>
            <a:ext cx="149544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20680" y="6521400"/>
            <a:ext cx="187956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52960" y="6524640"/>
            <a:ext cx="19573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10520" y="6524640"/>
            <a:ext cx="1765080" cy="3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3760" y="6345360"/>
            <a:ext cx="111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916360" y="6316560"/>
            <a:ext cx="1122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mited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129360" y="6316560"/>
            <a:ext cx="1133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rge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0120" y="29908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960720" y="2836800"/>
            <a:ext cx="5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M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24600" y="2990880"/>
            <a:ext cx="98100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05600" y="2990880"/>
            <a:ext cx="150480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111480" y="5502240"/>
            <a:ext cx="5737320" cy="3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979640" y="5372280"/>
            <a:ext cx="689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a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258040" y="6561000"/>
            <a:ext cx="765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4/24/96 RH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16880" y="5940360"/>
            <a:ext cx="1247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11720" y="5940360"/>
            <a:ext cx="149544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38600" y="615312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714760" y="76320"/>
            <a:ext cx="6353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ATM Work at 5.1G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28720" y="1609560"/>
            <a:ext cx="7686720" cy="43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work on MAC and 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llowing ETSI proposals for MAC and 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ork 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bile ATM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 hoc 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less 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acing with P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acing with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440" y="0"/>
            <a:ext cx="9123480" cy="6689880"/>
            <a:chOff x="1440" y="0"/>
            <a:chExt cx="9123480" cy="6689880"/>
          </a:xfrm>
        </p:grpSpPr>
        <p:sp>
          <p:nvSpPr>
            <p:cNvPr id="153" name=""/>
            <p:cNvSpPr/>
            <p:nvPr/>
          </p:nvSpPr>
          <p:spPr>
            <a:xfrm>
              <a:off x="3390840" y="2257560"/>
              <a:ext cx="2362320" cy="1523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05120" y="457200"/>
              <a:ext cx="3429000" cy="1676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57800" y="1066680"/>
              <a:ext cx="2819520" cy="1752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05520" y="2971800"/>
              <a:ext cx="2819520" cy="1371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42960" y="3619440"/>
              <a:ext cx="3733920" cy="1981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14400" y="1981080"/>
              <a:ext cx="2362320" cy="1523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228600" y="4724280"/>
              <a:ext cx="304920" cy="304920"/>
              <a:chOff x="228600" y="4724280"/>
              <a:chExt cx="304920" cy="304920"/>
            </a:xfrm>
          </p:grpSpPr>
          <p:sp>
            <p:nvSpPr>
              <p:cNvPr id="160" name=""/>
              <p:cNvSpPr/>
              <p:nvPr/>
            </p:nvSpPr>
            <p:spPr>
              <a:xfrm>
                <a:off x="228600" y="472428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28600" y="472428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228600" y="472428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152280" y="5105520"/>
              <a:ext cx="457200" cy="457200"/>
              <a:chOff x="152280" y="5105520"/>
              <a:chExt cx="457200" cy="457200"/>
            </a:xfrm>
          </p:grpSpPr>
          <p:sp>
            <p:nvSpPr>
              <p:cNvPr id="164" name=""/>
              <p:cNvSpPr/>
              <p:nvPr/>
            </p:nvSpPr>
            <p:spPr>
              <a:xfrm>
                <a:off x="228600" y="518148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28600" y="518148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28600" y="518148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52280" y="510552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228600" y="5715000"/>
              <a:ext cx="304920" cy="304920"/>
              <a:chOff x="228600" y="5715000"/>
              <a:chExt cx="304920" cy="304920"/>
            </a:xfrm>
          </p:grpSpPr>
          <p:sp>
            <p:nvSpPr>
              <p:cNvPr id="169" name=""/>
              <p:cNvSpPr/>
              <p:nvPr/>
            </p:nvSpPr>
            <p:spPr>
              <a:xfrm>
                <a:off x="228600" y="5715000"/>
                <a:ext cx="304920" cy="3049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28600" y="571500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228600" y="571500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152280" y="6172200"/>
              <a:ext cx="457200" cy="457200"/>
              <a:chOff x="152280" y="6172200"/>
              <a:chExt cx="457200" cy="457200"/>
            </a:xfrm>
          </p:grpSpPr>
          <p:sp>
            <p:nvSpPr>
              <p:cNvPr id="173" name=""/>
              <p:cNvSpPr/>
              <p:nvPr/>
            </p:nvSpPr>
            <p:spPr>
              <a:xfrm>
                <a:off x="228600" y="6248520"/>
                <a:ext cx="304920" cy="3049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28600" y="62485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228600" y="62485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52280" y="617220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6400800" y="48769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10280" y="3809880"/>
              <a:ext cx="304920" cy="3049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00800" y="60199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7543800" y="4800600"/>
              <a:ext cx="304920" cy="304920"/>
              <a:chOff x="7543800" y="4800600"/>
              <a:chExt cx="304920" cy="304920"/>
            </a:xfrm>
          </p:grpSpPr>
          <p:sp>
            <p:nvSpPr>
              <p:cNvPr id="181" name=""/>
              <p:cNvSpPr/>
              <p:nvPr/>
            </p:nvSpPr>
            <p:spPr>
              <a:xfrm>
                <a:off x="7543800" y="480060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620120" y="4876920"/>
                <a:ext cx="152280" cy="152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6377040" y="3867120"/>
              <a:ext cx="676800" cy="86040"/>
            </a:xfrm>
            <a:custGeom>
              <a:avLst/>
              <a:gdLst/>
              <a:ahLst/>
              <a:rect l="0" t="0" r="r" b="b"/>
              <a:pathLst>
                <a:path fill="none" w="1880" h="239">
                  <a:moveTo>
                    <a:pt x="0" y="239"/>
                  </a:moveTo>
                  <a:lnTo>
                    <a:pt x="1046" y="0"/>
                  </a:lnTo>
                  <a:lnTo>
                    <a:pt x="834" y="239"/>
                  </a:lnTo>
                  <a:lnTo>
                    <a:pt x="188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86600" y="61722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47800" y="490536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2401920" y="3851280"/>
              <a:ext cx="5335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715000" y="1371600"/>
              <a:ext cx="457200" cy="457200"/>
              <a:chOff x="5715000" y="1371600"/>
              <a:chExt cx="457200" cy="457200"/>
            </a:xfrm>
          </p:grpSpPr>
          <p:sp>
            <p:nvSpPr>
              <p:cNvPr id="188" name=""/>
              <p:cNvSpPr/>
              <p:nvPr/>
            </p:nvSpPr>
            <p:spPr>
              <a:xfrm>
                <a:off x="5791320" y="144792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791320" y="1447920"/>
                <a:ext cx="30456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5791320" y="1447920"/>
                <a:ext cx="30456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715000" y="137160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5257800" y="2209680"/>
              <a:ext cx="457200" cy="457200"/>
              <a:chOff x="5257800" y="2209680"/>
              <a:chExt cx="457200" cy="457200"/>
            </a:xfrm>
          </p:grpSpPr>
          <p:sp>
            <p:nvSpPr>
              <p:cNvPr id="193" name=""/>
              <p:cNvSpPr/>
              <p:nvPr/>
            </p:nvSpPr>
            <p:spPr>
              <a:xfrm>
                <a:off x="5334120" y="228600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334120" y="228600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5334120" y="228600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257800" y="220968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5105520" y="3124080"/>
              <a:ext cx="457200" cy="457200"/>
              <a:chOff x="5105520" y="3124080"/>
              <a:chExt cx="457200" cy="457200"/>
            </a:xfrm>
          </p:grpSpPr>
          <p:sp>
            <p:nvSpPr>
              <p:cNvPr id="198" name=""/>
              <p:cNvSpPr/>
              <p:nvPr/>
            </p:nvSpPr>
            <p:spPr>
              <a:xfrm>
                <a:off x="5181480" y="320040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181480" y="320040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5181480" y="320040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105520" y="312408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09880" y="4800600"/>
              <a:ext cx="457200" cy="457200"/>
              <a:chOff x="3809880" y="4800600"/>
              <a:chExt cx="457200" cy="457200"/>
            </a:xfrm>
          </p:grpSpPr>
          <p:sp>
            <p:nvSpPr>
              <p:cNvPr id="203" name=""/>
              <p:cNvSpPr/>
              <p:nvPr/>
            </p:nvSpPr>
            <p:spPr>
              <a:xfrm>
                <a:off x="3886200" y="487692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886200" y="48769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3886200" y="48769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809880" y="480060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4419720" y="4038480"/>
              <a:ext cx="457200" cy="457200"/>
              <a:chOff x="4419720" y="4038480"/>
              <a:chExt cx="457200" cy="457200"/>
            </a:xfrm>
          </p:grpSpPr>
          <p:sp>
            <p:nvSpPr>
              <p:cNvPr id="208" name=""/>
              <p:cNvSpPr/>
              <p:nvPr/>
            </p:nvSpPr>
            <p:spPr>
              <a:xfrm>
                <a:off x="4495680" y="411480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495680" y="411480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495680" y="411480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419720" y="403848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3886200" y="3352680"/>
              <a:ext cx="457200" cy="457200"/>
              <a:chOff x="3886200" y="3352680"/>
              <a:chExt cx="457200" cy="457200"/>
            </a:xfrm>
          </p:grpSpPr>
          <p:sp>
            <p:nvSpPr>
              <p:cNvPr id="213" name=""/>
              <p:cNvSpPr/>
              <p:nvPr/>
            </p:nvSpPr>
            <p:spPr>
              <a:xfrm>
                <a:off x="3962520" y="342900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962520" y="342900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3962520" y="342900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886200" y="335268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6095880" y="2209680"/>
              <a:ext cx="457200" cy="457200"/>
              <a:chOff x="6095880" y="2209680"/>
              <a:chExt cx="45720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172200" y="228600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172200" y="228600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6172200" y="228600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095880" y="220968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3809880" y="2590920"/>
              <a:ext cx="457200" cy="457200"/>
              <a:chOff x="3809880" y="2590920"/>
              <a:chExt cx="457200" cy="457200"/>
            </a:xfrm>
          </p:grpSpPr>
          <p:sp>
            <p:nvSpPr>
              <p:cNvPr id="223" name=""/>
              <p:cNvSpPr/>
              <p:nvPr/>
            </p:nvSpPr>
            <p:spPr>
              <a:xfrm>
                <a:off x="3886200" y="266688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886200" y="266688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3886200" y="266688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809880" y="259092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4495680" y="2286000"/>
              <a:ext cx="457200" cy="457200"/>
              <a:chOff x="4495680" y="2286000"/>
              <a:chExt cx="457200" cy="457200"/>
            </a:xfrm>
          </p:grpSpPr>
          <p:sp>
            <p:nvSpPr>
              <p:cNvPr id="228" name=""/>
              <p:cNvSpPr/>
              <p:nvPr/>
            </p:nvSpPr>
            <p:spPr>
              <a:xfrm>
                <a:off x="4572000" y="236232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572000" y="23623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4572000" y="23623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495680" y="228600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2286000" y="2819520"/>
              <a:ext cx="457200" cy="457200"/>
              <a:chOff x="2286000" y="2819520"/>
              <a:chExt cx="457200" cy="457200"/>
            </a:xfrm>
          </p:grpSpPr>
          <p:sp>
            <p:nvSpPr>
              <p:cNvPr id="233" name=""/>
              <p:cNvSpPr/>
              <p:nvPr/>
            </p:nvSpPr>
            <p:spPr>
              <a:xfrm>
                <a:off x="2362320" y="289548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362320" y="289548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2362320" y="289548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286000" y="281952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2286000" y="2209680"/>
              <a:ext cx="457200" cy="457200"/>
              <a:chOff x="2286000" y="2209680"/>
              <a:chExt cx="457200" cy="457200"/>
            </a:xfrm>
          </p:grpSpPr>
          <p:sp>
            <p:nvSpPr>
              <p:cNvPr id="238" name=""/>
              <p:cNvSpPr/>
              <p:nvPr/>
            </p:nvSpPr>
            <p:spPr>
              <a:xfrm>
                <a:off x="2362320" y="228600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362320" y="228600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V="1">
                <a:off x="2362320" y="228600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286000" y="220968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048120" y="2514600"/>
              <a:ext cx="457200" cy="457200"/>
              <a:chOff x="3048120" y="2514600"/>
              <a:chExt cx="457200" cy="457200"/>
            </a:xfrm>
          </p:grpSpPr>
          <p:sp>
            <p:nvSpPr>
              <p:cNvPr id="243" name=""/>
              <p:cNvSpPr/>
              <p:nvPr/>
            </p:nvSpPr>
            <p:spPr>
              <a:xfrm>
                <a:off x="3124080" y="259092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124080" y="25909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V="1">
                <a:off x="3124080" y="25909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048120" y="251460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3886200" y="1905120"/>
              <a:ext cx="457200" cy="457200"/>
              <a:chOff x="3886200" y="1905120"/>
              <a:chExt cx="457200" cy="457200"/>
            </a:xfrm>
          </p:grpSpPr>
          <p:sp>
            <p:nvSpPr>
              <p:cNvPr id="248" name=""/>
              <p:cNvSpPr/>
              <p:nvPr/>
            </p:nvSpPr>
            <p:spPr>
              <a:xfrm>
                <a:off x="3962520" y="1981080"/>
                <a:ext cx="304920" cy="304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962520" y="198108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3962520" y="198108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886200" y="1905120"/>
                <a:ext cx="457200" cy="457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1219320" y="2514600"/>
              <a:ext cx="304920" cy="304920"/>
              <a:chOff x="1219320" y="2514600"/>
              <a:chExt cx="304920" cy="304920"/>
            </a:xfrm>
          </p:grpSpPr>
          <p:sp>
            <p:nvSpPr>
              <p:cNvPr id="253" name=""/>
              <p:cNvSpPr/>
              <p:nvPr/>
            </p:nvSpPr>
            <p:spPr>
              <a:xfrm>
                <a:off x="1219320" y="2514600"/>
                <a:ext cx="304920" cy="3049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219320" y="251460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219320" y="2514600"/>
                <a:ext cx="3045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4572000" y="1523880"/>
              <a:ext cx="304920" cy="304920"/>
              <a:chOff x="4572000" y="1523880"/>
              <a:chExt cx="304920" cy="304920"/>
            </a:xfrm>
          </p:grpSpPr>
          <p:sp>
            <p:nvSpPr>
              <p:cNvPr id="257" name=""/>
              <p:cNvSpPr/>
              <p:nvPr/>
            </p:nvSpPr>
            <p:spPr>
              <a:xfrm>
                <a:off x="4572000" y="1523880"/>
                <a:ext cx="304920" cy="3049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572000" y="152388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4572000" y="1523880"/>
                <a:ext cx="30492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2514600" y="762120"/>
              <a:ext cx="304920" cy="304920"/>
              <a:chOff x="2514600" y="762120"/>
              <a:chExt cx="304920" cy="304920"/>
            </a:xfrm>
          </p:grpSpPr>
          <p:sp>
            <p:nvSpPr>
              <p:cNvPr id="261" name=""/>
              <p:cNvSpPr/>
              <p:nvPr/>
            </p:nvSpPr>
            <p:spPr>
              <a:xfrm>
                <a:off x="2514600" y="762120"/>
                <a:ext cx="304920" cy="3049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514600" y="7621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V="1">
                <a:off x="2514600" y="762120"/>
                <a:ext cx="30492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276720" y="1447920"/>
              <a:ext cx="304920" cy="304920"/>
              <a:chOff x="3276720" y="1447920"/>
              <a:chExt cx="304920" cy="304920"/>
            </a:xfrm>
          </p:grpSpPr>
          <p:sp>
            <p:nvSpPr>
              <p:cNvPr id="265" name=""/>
              <p:cNvSpPr/>
              <p:nvPr/>
            </p:nvSpPr>
            <p:spPr>
              <a:xfrm>
                <a:off x="3276720" y="1447920"/>
                <a:ext cx="304920" cy="304920"/>
              </a:xfrm>
              <a:prstGeom prst="rect">
                <a:avLst/>
              </a:prstGeom>
              <a:noFill/>
              <a:ln w="76320">
                <a:solidFill>
                  <a:srgbClr val="000000"/>
                </a:solidFill>
                <a:round/>
              </a:ln>
            </p:spPr>
            <p:txBody>
              <a:bodyPr lIns="128160" rIns="128160" tIns="83160" bIns="83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276720" y="1447920"/>
                <a:ext cx="30456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3276720" y="1447920"/>
                <a:ext cx="30456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7238880" y="3276720"/>
              <a:ext cx="304920" cy="3049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010280" y="1295280"/>
              <a:ext cx="304920" cy="3049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85880" y="4343400"/>
              <a:ext cx="304920" cy="3049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76600" y="1523880"/>
              <a:ext cx="314640" cy="424080"/>
            </a:xfrm>
            <a:custGeom>
              <a:avLst/>
              <a:gdLst/>
              <a:ahLst/>
              <a:rect l="0" t="0" r="r" b="b"/>
              <a:pathLst>
                <a:path fill="none" w="874" h="1178">
                  <a:moveTo>
                    <a:pt x="0" y="0"/>
                  </a:moveTo>
                  <a:lnTo>
                    <a:pt x="658" y="622"/>
                  </a:lnTo>
                  <a:lnTo>
                    <a:pt x="216" y="555"/>
                  </a:lnTo>
                  <a:lnTo>
                    <a:pt x="874" y="117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82880" y="1006560"/>
              <a:ext cx="559080" cy="425880"/>
            </a:xfrm>
            <a:custGeom>
              <a:avLst/>
              <a:gdLst/>
              <a:ahLst/>
              <a:rect l="0" t="0" r="r" b="b"/>
              <a:pathLst>
                <a:path fill="none" w="1553" h="1183">
                  <a:moveTo>
                    <a:pt x="0" y="0"/>
                  </a:moveTo>
                  <a:lnTo>
                    <a:pt x="1006" y="534"/>
                  </a:lnTo>
                  <a:lnTo>
                    <a:pt x="546" y="649"/>
                  </a:lnTo>
                  <a:lnTo>
                    <a:pt x="1553" y="11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00800" y="1447920"/>
              <a:ext cx="686160" cy="76680"/>
            </a:xfrm>
            <a:custGeom>
              <a:avLst/>
              <a:gdLst/>
              <a:ahLst/>
              <a:rect l="0" t="0" r="r" b="b"/>
              <a:pathLst>
                <a:path fill="none" w="1906" h="213">
                  <a:moveTo>
                    <a:pt x="0" y="213"/>
                  </a:moveTo>
                  <a:lnTo>
                    <a:pt x="1059" y="0"/>
                  </a:lnTo>
                  <a:lnTo>
                    <a:pt x="846" y="213"/>
                  </a:lnTo>
                  <a:lnTo>
                    <a:pt x="190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67400" y="3419640"/>
              <a:ext cx="565560" cy="340200"/>
            </a:xfrm>
            <a:custGeom>
              <a:avLst/>
              <a:gdLst/>
              <a:ahLst/>
              <a:rect l="0" t="0" r="r" b="b"/>
              <a:pathLst>
                <a:path fill="none" w="1571" h="945">
                  <a:moveTo>
                    <a:pt x="0" y="0"/>
                  </a:moveTo>
                  <a:lnTo>
                    <a:pt x="997" y="393"/>
                  </a:lnTo>
                  <a:lnTo>
                    <a:pt x="574" y="552"/>
                  </a:lnTo>
                  <a:lnTo>
                    <a:pt x="1571" y="9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53000" y="3287880"/>
              <a:ext cx="808560" cy="79560"/>
            </a:xfrm>
            <a:custGeom>
              <a:avLst/>
              <a:gdLst/>
              <a:ahLst/>
              <a:rect l="0" t="0" r="r" b="b"/>
              <a:pathLst>
                <a:path fill="none" w="2246" h="221">
                  <a:moveTo>
                    <a:pt x="0" y="221"/>
                  </a:moveTo>
                  <a:lnTo>
                    <a:pt x="1248" y="0"/>
                  </a:lnTo>
                  <a:lnTo>
                    <a:pt x="997" y="221"/>
                  </a:lnTo>
                  <a:lnTo>
                    <a:pt x="224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6308640" y="138240"/>
              <a:ext cx="25225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bmission 16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6095880" y="3733920"/>
              <a:ext cx="304920" cy="304920"/>
              <a:chOff x="6095880" y="3733920"/>
              <a:chExt cx="304920" cy="304920"/>
            </a:xfrm>
          </p:grpSpPr>
          <p:sp>
            <p:nvSpPr>
              <p:cNvPr id="278" name=""/>
              <p:cNvSpPr/>
              <p:nvPr/>
            </p:nvSpPr>
            <p:spPr>
              <a:xfrm>
                <a:off x="6095880" y="373392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172200" y="3809880"/>
                <a:ext cx="152280" cy="152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6705720" y="3124080"/>
              <a:ext cx="304920" cy="304920"/>
              <a:chOff x="6705720" y="3124080"/>
              <a:chExt cx="304920" cy="304920"/>
            </a:xfrm>
          </p:grpSpPr>
          <p:sp>
            <p:nvSpPr>
              <p:cNvPr id="281" name=""/>
              <p:cNvSpPr/>
              <p:nvPr/>
            </p:nvSpPr>
            <p:spPr>
              <a:xfrm>
                <a:off x="6705720" y="3124080"/>
                <a:ext cx="304920" cy="304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81680" y="3200400"/>
                <a:ext cx="152280" cy="152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6400800" y="342900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00800" y="403848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324480" y="30481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467480" y="5486400"/>
              <a:ext cx="686160" cy="152640"/>
            </a:xfrm>
            <a:custGeom>
              <a:avLst/>
              <a:gdLst/>
              <a:ahLst/>
              <a:rect l="0" t="0" r="r" b="b"/>
              <a:pathLst>
                <a:path fill="none" w="1906" h="424">
                  <a:moveTo>
                    <a:pt x="0" y="424"/>
                  </a:moveTo>
                  <a:lnTo>
                    <a:pt x="1059" y="0"/>
                  </a:lnTo>
                  <a:lnTo>
                    <a:pt x="846" y="424"/>
                  </a:lnTo>
                  <a:lnTo>
                    <a:pt x="190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95480" y="838080"/>
              <a:ext cx="686160" cy="152640"/>
            </a:xfrm>
            <a:custGeom>
              <a:avLst/>
              <a:gdLst/>
              <a:ahLst/>
              <a:rect l="0" t="0" r="r" b="b"/>
              <a:pathLst>
                <a:path fill="none" w="1906" h="424">
                  <a:moveTo>
                    <a:pt x="0" y="424"/>
                  </a:moveTo>
                  <a:lnTo>
                    <a:pt x="1059" y="0"/>
                  </a:lnTo>
                  <a:lnTo>
                    <a:pt x="846" y="424"/>
                  </a:lnTo>
                  <a:lnTo>
                    <a:pt x="1906" y="0"/>
                  </a:lnTo>
                </a:path>
              </a:pathLst>
            </a:custGeom>
            <a:ln w="12600">
              <a:solidFill>
                <a:srgbClr val="000000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43400" y="882720"/>
              <a:ext cx="200520" cy="673560"/>
            </a:xfrm>
            <a:custGeom>
              <a:avLst/>
              <a:gdLst/>
              <a:ahLst/>
              <a:rect l="0" t="0" r="r" b="b"/>
              <a:pathLst>
                <a:path fill="none" w="557" h="1871">
                  <a:moveTo>
                    <a:pt x="0" y="1871"/>
                  </a:moveTo>
                  <a:lnTo>
                    <a:pt x="146" y="741"/>
                  </a:lnTo>
                  <a:lnTo>
                    <a:pt x="411" y="1129"/>
                  </a:lnTo>
                  <a:lnTo>
                    <a:pt x="557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68840" y="1122480"/>
              <a:ext cx="492480" cy="498960"/>
            </a:xfrm>
            <a:custGeom>
              <a:avLst/>
              <a:gdLst/>
              <a:ahLst/>
              <a:rect l="0" t="0" r="r" b="b"/>
              <a:pathLst>
                <a:path fill="none" w="1368" h="1386">
                  <a:moveTo>
                    <a:pt x="0" y="1386"/>
                  </a:moveTo>
                  <a:lnTo>
                    <a:pt x="657" y="459"/>
                  </a:lnTo>
                  <a:lnTo>
                    <a:pt x="710" y="927"/>
                  </a:lnTo>
                  <a:lnTo>
                    <a:pt x="1368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612800" y="2703600"/>
              <a:ext cx="660600" cy="232200"/>
            </a:xfrm>
            <a:custGeom>
              <a:avLst/>
              <a:gdLst/>
              <a:ahLst/>
              <a:rect l="0" t="0" r="r" b="b"/>
              <a:pathLst>
                <a:path fill="none" w="1835" h="645">
                  <a:moveTo>
                    <a:pt x="0" y="0"/>
                  </a:moveTo>
                  <a:lnTo>
                    <a:pt x="1116" y="199"/>
                  </a:lnTo>
                  <a:lnTo>
                    <a:pt x="718" y="446"/>
                  </a:lnTo>
                  <a:lnTo>
                    <a:pt x="1835" y="64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43200" y="2438280"/>
              <a:ext cx="30492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2743200" y="2819520"/>
              <a:ext cx="30492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2743200"/>
              <a:ext cx="30456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38480" y="3048120"/>
              <a:ext cx="76320" cy="304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67080" y="2819520"/>
              <a:ext cx="838440" cy="609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4267080" y="251460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4114800" y="23623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4952880" y="2438280"/>
              <a:ext cx="30492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715000" y="2438280"/>
              <a:ext cx="380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5486400" y="1828800"/>
              <a:ext cx="22860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>
              <a:off x="7518240" y="1328760"/>
              <a:ext cx="160668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bi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d Us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3032280" y="519120"/>
              <a:ext cx="5519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reless switches w wireless end us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109440" y="1300320"/>
              <a:ext cx="1606680" cy="11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bil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ulti-us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latfo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>
              <a:off x="1440" y="3632040"/>
              <a:ext cx="226836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network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th P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6004080" y="4327560"/>
              <a:ext cx="22860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 hoc subne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76920" y="914400"/>
              <a:ext cx="304920" cy="3049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505320" y="838080"/>
              <a:ext cx="304920" cy="3049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00800" y="5410080"/>
              <a:ext cx="304920" cy="304920"/>
            </a:xfrm>
            <a:prstGeom prst="ellipse">
              <a:avLst/>
            </a:prstGeom>
            <a:noFill/>
            <a:ln w="76320">
              <a:solidFill>
                <a:srgbClr val="000000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257720" y="1533600"/>
              <a:ext cx="371880" cy="376560"/>
            </a:xfrm>
            <a:custGeom>
              <a:avLst/>
              <a:gdLst/>
              <a:ahLst/>
              <a:rect l="0" t="0" r="r" b="b"/>
              <a:pathLst>
                <a:path fill="none" w="1033" h="1046">
                  <a:moveTo>
                    <a:pt x="0" y="1046"/>
                  </a:moveTo>
                  <a:lnTo>
                    <a:pt x="494" y="343"/>
                  </a:lnTo>
                  <a:lnTo>
                    <a:pt x="538" y="702"/>
                  </a:lnTo>
                  <a:lnTo>
                    <a:pt x="1033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6689880" y="6156360"/>
              <a:ext cx="369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595440" y="4708440"/>
              <a:ext cx="18954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itch N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595440" y="5165640"/>
              <a:ext cx="3013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bility Switch N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595440" y="5699160"/>
              <a:ext cx="3147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reless Switch N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595440" y="6232680"/>
              <a:ext cx="56721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reless mobility supporting switch n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5013360" y="4861080"/>
              <a:ext cx="14540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d U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>
              <a:off x="3946680" y="5394240"/>
              <a:ext cx="2436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bile End U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 txBox="1"/>
            <p:nvPr/>
          </p:nvSpPr>
          <p:spPr>
            <a:xfrm>
              <a:off x="3946680" y="5927760"/>
              <a:ext cx="25225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warding N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7680240" y="6004080"/>
              <a:ext cx="1284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rel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 txBox="1"/>
            <p:nvPr/>
          </p:nvSpPr>
          <p:spPr>
            <a:xfrm>
              <a:off x="8137440" y="5394240"/>
              <a:ext cx="9810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7908840" y="4632480"/>
              <a:ext cx="113364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 ho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ntrl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343320" y="440064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2554200" y="491796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62520" y="16765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057400" y="28195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57400" y="22860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1982880" y="282420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 txBox="1"/>
            <p:nvPr/>
          </p:nvSpPr>
          <p:spPr>
            <a:xfrm>
              <a:off x="1982880" y="229068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3868560" y="167652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3249720" y="441324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6067440" y="142884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6458040" y="226692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523960" y="38671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53080" y="228600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172200" y="1447920"/>
              <a:ext cx="2286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6311880" y="3701880"/>
              <a:ext cx="6336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375240" y="3701880"/>
              <a:ext cx="0" cy="38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6375240" y="3701880"/>
              <a:ext cx="76320" cy="38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6629400" y="3397320"/>
              <a:ext cx="69840" cy="57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699240" y="33973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6699240" y="3390840"/>
              <a:ext cx="63360" cy="50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632640" y="3211560"/>
              <a:ext cx="4428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642000" y="3257640"/>
              <a:ext cx="63720" cy="12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004160" y="3282840"/>
              <a:ext cx="133200" cy="25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7061040" y="3308400"/>
              <a:ext cx="76320" cy="25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061040" y="3333600"/>
              <a:ext cx="196920" cy="320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6642000" y="3216240"/>
              <a:ext cx="38160" cy="42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43840" y="1714680"/>
              <a:ext cx="0" cy="485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000920" y="2228760"/>
              <a:ext cx="257040" cy="2570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914560" y="4857840"/>
              <a:ext cx="714240" cy="5428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914560" y="5143680"/>
              <a:ext cx="71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2938320" y="4822920"/>
              <a:ext cx="7603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S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2909880" y="5108400"/>
              <a:ext cx="7430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W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81280" y="4181400"/>
              <a:ext cx="714240" cy="5428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581280" y="4467240"/>
              <a:ext cx="71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 txBox="1"/>
            <p:nvPr/>
          </p:nvSpPr>
          <p:spPr>
            <a:xfrm>
              <a:off x="3605040" y="4146480"/>
              <a:ext cx="7603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S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 txBox="1"/>
            <p:nvPr/>
          </p:nvSpPr>
          <p:spPr>
            <a:xfrm>
              <a:off x="3576600" y="4432320"/>
              <a:ext cx="7430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W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762280" y="3733920"/>
              <a:ext cx="714240" cy="54288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762280" y="4019400"/>
              <a:ext cx="714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 txBox="1"/>
            <p:nvPr/>
          </p:nvSpPr>
          <p:spPr>
            <a:xfrm>
              <a:off x="2786040" y="3699000"/>
              <a:ext cx="7603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S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 txBox="1"/>
            <p:nvPr/>
          </p:nvSpPr>
          <p:spPr>
            <a:xfrm>
              <a:off x="2757600" y="3956040"/>
              <a:ext cx="7430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W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05120" y="4124160"/>
              <a:ext cx="686160" cy="152640"/>
            </a:xfrm>
            <a:custGeom>
              <a:avLst/>
              <a:gdLst/>
              <a:ahLst/>
              <a:rect l="0" t="0" r="r" b="b"/>
              <a:pathLst>
                <a:path fill="none" w="1906" h="424">
                  <a:moveTo>
                    <a:pt x="0" y="424"/>
                  </a:moveTo>
                  <a:lnTo>
                    <a:pt x="1059" y="0"/>
                  </a:lnTo>
                  <a:lnTo>
                    <a:pt x="846" y="424"/>
                  </a:lnTo>
                  <a:lnTo>
                    <a:pt x="190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3486240" y="3629160"/>
              <a:ext cx="399960" cy="314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343400" y="3800520"/>
              <a:ext cx="285840" cy="228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4286160" y="4486320"/>
              <a:ext cx="371520" cy="571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3657600" y="5114880"/>
              <a:ext cx="142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4286160" y="4314960"/>
              <a:ext cx="142920" cy="142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53280" y="3981600"/>
              <a:ext cx="66600" cy="52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6362640" y="4038480"/>
              <a:ext cx="57240" cy="14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357960" y="4052880"/>
              <a:ext cx="71280" cy="47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519200" y="2419200"/>
              <a:ext cx="538560" cy="124200"/>
            </a:xfrm>
            <a:custGeom>
              <a:avLst/>
              <a:gdLst/>
              <a:ahLst/>
              <a:rect l="0" t="0" r="r" b="b"/>
              <a:pathLst>
                <a:path fill="none" w="1496" h="345">
                  <a:moveTo>
                    <a:pt x="0" y="345"/>
                  </a:moveTo>
                  <a:lnTo>
                    <a:pt x="830" y="0"/>
                  </a:lnTo>
                  <a:lnTo>
                    <a:pt x="666" y="345"/>
                  </a:lnTo>
                  <a:lnTo>
                    <a:pt x="1496" y="0"/>
                  </a:lnTo>
                </a:path>
              </a:pathLst>
            </a:custGeom>
            <a:ln w="12600">
              <a:solidFill>
                <a:srgbClr val="000000"/>
              </a:solidFill>
              <a:custDash>
                <a:ds d="402857" sp="4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747800" y="2448000"/>
              <a:ext cx="14400" cy="85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 txBox="1"/>
            <p:nvPr/>
          </p:nvSpPr>
          <p:spPr>
            <a:xfrm>
              <a:off x="652320" y="0"/>
              <a:ext cx="539100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WATM Reference Model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3314880" y="1057320"/>
            <a:ext cx="5143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2714760" y="76320"/>
            <a:ext cx="6353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" y="1771560"/>
            <a:ext cx="2057400" cy="4543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09840" y="1771560"/>
            <a:ext cx="2057400" cy="4543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62640" y="1771560"/>
            <a:ext cx="2057400" cy="4543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72320" y="1771560"/>
            <a:ext cx="2057400" cy="4543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14280" y="3276720"/>
            <a:ext cx="1886040" cy="1057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14280" y="4734000"/>
            <a:ext cx="1886040" cy="1457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495520" y="3276720"/>
            <a:ext cx="1886040" cy="1057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495520" y="4734000"/>
            <a:ext cx="1886040" cy="1457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48320" y="3276720"/>
            <a:ext cx="1886040" cy="1057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48320" y="4734000"/>
            <a:ext cx="1886040" cy="1457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858000" y="3276720"/>
            <a:ext cx="1886040" cy="1057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58000" y="4734000"/>
            <a:ext cx="1886040" cy="1457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0880" y="1843200"/>
            <a:ext cx="17938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reless 88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548080" y="1843200"/>
            <a:ext cx="176544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reless 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hort Ra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629240" y="1843200"/>
            <a:ext cx="196200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reless 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mot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937200" y="1843200"/>
            <a:ext cx="176544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reless 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738360" y="361332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005280" y="3613320"/>
            <a:ext cx="7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184720" y="3613320"/>
            <a:ext cx="7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7394400" y="3613320"/>
            <a:ext cx="7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2700360" y="4898880"/>
            <a:ext cx="1471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0M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509760" y="4898880"/>
            <a:ext cx="1471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9M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842000" y="4898880"/>
            <a:ext cx="14716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20M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939000" y="4898880"/>
            <a:ext cx="16416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7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55M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85920" y="4334040"/>
            <a:ext cx="0" cy="39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438360" y="4334040"/>
            <a:ext cx="0" cy="39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533920" y="4362480"/>
            <a:ext cx="0" cy="39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772400" y="4334040"/>
            <a:ext cx="0" cy="39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2714760" y="76320"/>
            <a:ext cx="6353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and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628640" y="1971720"/>
            <a:ext cx="7143840" cy="4000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628640" y="3914640"/>
            <a:ext cx="7143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38240" y="2452680"/>
            <a:ext cx="145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95120" y="4594320"/>
            <a:ext cx="14256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766880" y="1386000"/>
            <a:ext cx="1014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4F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2652840" y="1386000"/>
            <a:ext cx="1031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4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622760" y="1203480"/>
            <a:ext cx="861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1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8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5548320" y="1203480"/>
            <a:ext cx="7430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357960" y="1203480"/>
            <a:ext cx="7430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m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7956720" y="1203480"/>
            <a:ext cx="946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657600" y="1343160"/>
            <a:ext cx="0" cy="4628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67320" y="1380960"/>
            <a:ext cx="0" cy="4629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276960" y="1333440"/>
            <a:ext cx="0" cy="4629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201080" y="1371600"/>
            <a:ext cx="0" cy="4629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638600" y="1324080"/>
            <a:ext cx="0" cy="4628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1881360" y="2481120"/>
            <a:ext cx="55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2805120" y="2481120"/>
            <a:ext cx="55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8131320" y="4613400"/>
            <a:ext cx="55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451560" y="4613400"/>
            <a:ext cx="55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5632560" y="4613400"/>
            <a:ext cx="55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737240" y="2481120"/>
            <a:ext cx="495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784760" y="4613400"/>
            <a:ext cx="55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638440" y="1324080"/>
            <a:ext cx="0" cy="4628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691080" y="1203480"/>
            <a:ext cx="861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8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43360" y="2519280"/>
            <a:ext cx="5572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7178760" y="1203480"/>
            <a:ext cx="8953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-N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10360" y="1352520"/>
            <a:ext cx="0" cy="4629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7346880" y="2519280"/>
            <a:ext cx="495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7169040" y="4651200"/>
            <a:ext cx="960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7950240" y="2519280"/>
            <a:ext cx="960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600280" y="12384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O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57400" y="1514520"/>
            <a:ext cx="0" cy="4600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057400" y="6114960"/>
            <a:ext cx="6572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8629560" y="1514520"/>
            <a:ext cx="0" cy="4600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2057400" y="1739880"/>
            <a:ext cx="5054760" cy="3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7880" bIns="-47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115040" y="151452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572080" y="1486080"/>
            <a:ext cx="9720" cy="463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057400" y="3343320"/>
            <a:ext cx="5057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057400" y="4629240"/>
            <a:ext cx="3514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172120" y="2600280"/>
            <a:ext cx="7430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981600"/>
            <a:ext cx="7426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162400" y="5305320"/>
            <a:ext cx="7430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47920" y="1628640"/>
            <a:ext cx="12286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753160" y="3238560"/>
            <a:ext cx="12286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247920" y="3219480"/>
            <a:ext cx="12286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247920" y="4514760"/>
            <a:ext cx="12286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986520" y="4081320"/>
            <a:ext cx="228600" cy="1228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996240" y="1919160"/>
            <a:ext cx="228600" cy="1228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024360" y="1881360"/>
            <a:ext cx="164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024360" y="2795760"/>
            <a:ext cx="159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738520" y="2367000"/>
            <a:ext cx="2251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2776680" y="3660840"/>
            <a:ext cx="2368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CP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081240" y="4108320"/>
            <a:ext cx="164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MD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2719440" y="5118120"/>
            <a:ext cx="2233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MD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6000840" y="1749600"/>
            <a:ext cx="8190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g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5603760" y="3535200"/>
            <a:ext cx="1525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ME_S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971640" y="334332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995400" y="125244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020600" y="3565440"/>
            <a:ext cx="811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260360" y="1771560"/>
            <a:ext cx="3301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260360" y="4094280"/>
            <a:ext cx="3301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7213680" y="4556160"/>
            <a:ext cx="179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ME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7308720" y="2309760"/>
            <a:ext cx="184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LME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7050240" y="3154320"/>
            <a:ext cx="1736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hard Paine</dc:creator>
  <dc:description/>
  <dc:language>en-US</dc:language>
  <cp:lastModifiedBy>Richard Paine</cp:lastModifiedBy>
  <cp:revision>0</cp:revision>
  <dc:subject/>
  <dc:title>Proposal for a 5.1Ghz PHY for IEEE 802</dc:title>
</cp:coreProperties>
</file>