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05ABE1E-52E9-4A53-BA11-B926BB6D4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371600" y="768240"/>
            <a:ext cx="5029200" cy="3767400"/>
          </a:xfrm>
          <a:prstGeom prst="rect">
            <a:avLst/>
          </a:prstGeom>
          <a:ln w="0">
            <a:noFill/>
          </a:ln>
        </p:spPr>
      </p:sp>
      <p:sp>
        <p:nvSpPr>
          <p:cNvPr id="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371600" y="768240"/>
            <a:ext cx="5029200" cy="3767400"/>
          </a:xfrm>
          <a:prstGeom prst="rect">
            <a:avLst/>
          </a:prstGeom>
          <a:ln w="0">
            <a:noFill/>
          </a:ln>
        </p:spPr>
      </p:sp>
      <p:sp>
        <p:nvSpPr>
          <p:cNvPr id="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371600" y="768240"/>
            <a:ext cx="5029200" cy="3767400"/>
          </a:xfrm>
          <a:prstGeom prst="rect">
            <a:avLst/>
          </a:prstGeom>
          <a:ln w="0">
            <a:noFill/>
          </a:ln>
        </p:spPr>
      </p:sp>
      <p:sp>
        <p:nvSpPr>
          <p:cNvPr id="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768240"/>
            <a:ext cx="5029200" cy="3767400"/>
          </a:xfrm>
          <a:prstGeom prst="rect">
            <a:avLst/>
          </a:prstGeom>
          <a:ln w="0">
            <a:noFill/>
          </a:ln>
        </p:spPr>
      </p:sp>
      <p:sp>
        <p:nvSpPr>
          <p:cNvPr id="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371600" y="768240"/>
            <a:ext cx="5029200" cy="3767400"/>
          </a:xfrm>
          <a:prstGeom prst="rect">
            <a:avLst/>
          </a:prstGeom>
          <a:ln w="0">
            <a:noFill/>
          </a:ln>
        </p:spPr>
      </p:sp>
      <p:sp>
        <p:nvSpPr>
          <p:cNvPr id="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71600" y="768240"/>
            <a:ext cx="5029200" cy="3767400"/>
          </a:xfrm>
          <a:prstGeom prst="rect">
            <a:avLst/>
          </a:prstGeom>
          <a:ln w="0">
            <a:noFill/>
          </a:ln>
        </p:spPr>
      </p:sp>
      <p:sp>
        <p:nvSpPr>
          <p:cNvPr id="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371600" y="768240"/>
            <a:ext cx="5029200" cy="3767400"/>
          </a:xfrm>
          <a:prstGeom prst="rect">
            <a:avLst/>
          </a:prstGeom>
          <a:ln w="0">
            <a:noFill/>
          </a:ln>
        </p:spPr>
      </p:sp>
      <p:sp>
        <p:nvSpPr>
          <p:cNvPr id="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768240"/>
            <a:ext cx="5029200" cy="3767400"/>
          </a:xfrm>
          <a:prstGeom prst="rect">
            <a:avLst/>
          </a:prstGeom>
          <a:ln w="0">
            <a:noFill/>
          </a:ln>
        </p:spPr>
      </p:sp>
      <p:sp>
        <p:nvSpPr>
          <p:cNvPr id="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33</a:t>
            </a:r>
            <a:endParaRPr b="0" lang="en-US" sz="1400" spc="-1" strike="noStrike">
              <a:solidFill>
                <a:srgbClr val="000000"/>
              </a:solidFill>
              <a:latin typeface="Arial"/>
            </a:endParaRPr>
          </a:p>
        </p:txBody>
      </p:sp>
      <p:sp>
        <p:nvSpPr>
          <p:cNvPr id="1"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Speed PAR Study Group Repor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ftali Chayat, BreezeCom</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SSG PAR Proposal- a Report</a:t>
            </a:r>
            <a:endParaRPr b="0" lang="en-US" sz="44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Naftali Chayat, Breez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13 March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Feasibility</a:t>
            </a:r>
            <a:endParaRPr b="0" lang="en-US" sz="44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technology exi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plexity comparable to XDSL, cable modems, satellite DVB</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ell radius reduced by 40%.</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interference from microwave ov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conomic Feasibilit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radio cost dr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odem ASICs will be somewhat more expensive than current 2.4 GHz mode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verall cost of a 5 GHz high speed LAN adapter almost same as current 802.11 adapt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stallation of 5 GHz devices at the stations s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frastructure cost higher; compensated by through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ges from Yesterday</a:t>
            </a:r>
            <a:endParaRPr b="0" lang="en-US" sz="4400" spc="-1" strike="noStrike">
              <a:solidFill>
                <a:srgbClr val="000000"/>
              </a:solidFill>
              <a:latin typeface="Arial"/>
            </a:endParaRPr>
          </a:p>
        </p:txBody>
      </p:sp>
      <p:sp>
        <p:nvSpPr>
          <p:cNvPr id="69" name=""/>
          <p:cNvSpPr txBox="1"/>
          <p:nvPr/>
        </p:nvSpPr>
        <p:spPr>
          <a:xfrm>
            <a:off x="685800" y="2057400"/>
            <a:ext cx="7772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25Mbps to 20 Mbp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specific to GII</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ority to correspond with Reg Bod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CA independent from MA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s 802.11 MAC as i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Quality of service mention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duced Liasons (No Reg, No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Title</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ndard for Physical Layer (PHY) for High Speed Wireless Local Area Networks (LAN) in the 5 GHz 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Scope</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develop a High Speed (circa 20 Mbps) PHY for use in fixed, moving or portable Wireless Local Area Networks. The PHY will be used in conjunction with the 802.11 Medium Access Control (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Purpose</a:t>
            </a:r>
            <a:endParaRPr b="0" lang="en-US" sz="4400" spc="-1" strike="noStrike">
              <a:solidFill>
                <a:srgbClr val="000000"/>
              </a:solidFill>
              <a:latin typeface="Arial"/>
            </a:endParaRPr>
          </a:p>
        </p:txBody>
      </p:sp>
      <p:sp>
        <p:nvSpPr>
          <p:cNvPr id="53" name=""/>
          <p:cNvSpPr txBox="1"/>
          <p:nvPr/>
        </p:nvSpPr>
        <p:spPr>
          <a:xfrm>
            <a:off x="68580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create a high speed wireless access technology suitable for data, voice and image information services. This technology should be beneficial for improved access  to the Global Information Infrastructure and wired LANs, as well as creation of high performance ad hoc network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project will focus on communication techniques which use the spectrum efficiently and enable a high aggregate throughput, as well as high speed for an individua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ordination</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 TAG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TSI - RES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mon Memb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ive Criteria</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oad Market Potentia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formance with 802</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stinct Ident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echnical Feasibil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 Fea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road Market Potential</a:t>
            </a:r>
            <a:endParaRPr b="0" lang="en-US" sz="4400" spc="-1" strike="noStrike">
              <a:solidFill>
                <a:srgbClr val="000000"/>
              </a:solidFill>
              <a:latin typeface="Arial"/>
            </a:endParaRPr>
          </a:p>
        </p:txBody>
      </p:sp>
      <p:sp>
        <p:nvSpPr>
          <p:cNvPr id="59"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pplications (per FCC docket 96-102): education, medical, business,  consumer, telecommunication extensions and community Internet acces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Voice,Video an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wireless LAN speed matches WA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US government supports wireless access to inform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Overlap with a 5.2 GHz band in W. Europ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ordination with worldwide regulatory bod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High degree of interest ensures multiple vend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cceptable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tibility with 802</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ompatibility with IEEE 802 requirements will result from the use of 802.11 MAC, which itself was developed to be compatible with those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stinct Identity</a:t>
            </a:r>
            <a:endParaRPr b="0" lang="en-US" sz="44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age of spread spectrum techniques in no longer requir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d wider bandwidths are allow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HY standard will provide for high performance (circa 20 Mbp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ynchronous wireless data communication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bounde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ftali Chayat</dc:creator>
  <dc:description/>
  <dc:language>en-US</dc:language>
  <cp:lastModifiedBy>Naftali Chayat</cp:lastModifiedBy>
  <cp:revision>0</cp:revision>
  <dc:subject/>
  <dc:title>HSSG PAR Proposal</dc:title>
</cp:coreProperties>
</file>