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93640" y="403200"/>
            <a:ext cx="791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Doc: IEEE P802.11-97/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828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10-Mbps PHY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38862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kefield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10-Mbps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: Low Current Drain for PC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TRAN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40976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0"/>
                </a:moveTo>
                <a:lnTo>
                  <a:pt x="0" y="636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10-Mbps in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-Sequence Spread-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16 Chips/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12 dB Processing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-Orthogonal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Data Bandwidth to SS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7 dB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Combination for DS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-Level Re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nsmission Protocol also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Error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Selection Diver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P-C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 Optimized for Multi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Preamble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ata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Persistent CSMA Channel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Security (TRANS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-to-Symbol DSSS Code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3200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on M10 in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10-Mbps Transmission  and  DSSS Privacy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AN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7.5 Mbps throughput  @100m Indoor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6 Mbps throughput  @20 mi. (high-gain a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on P10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Card . . . Low Current Drain and Small Form-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10 Access Point with DSSS Authentication and BSS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rms to 802.11 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2400" y="1743120"/>
            <a:ext cx="100980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43120" y="1743120"/>
            <a:ext cx="100980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33840" y="1743120"/>
            <a:ext cx="100980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24200" y="1743120"/>
            <a:ext cx="100980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14920" y="1743120"/>
            <a:ext cx="100980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05640" y="1743120"/>
            <a:ext cx="100980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696000" y="1743120"/>
            <a:ext cx="100980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86720" y="1743120"/>
            <a:ext cx="100980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209680"/>
            <a:ext cx="1219320" cy="609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209680"/>
            <a:ext cx="990720" cy="609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2209680"/>
            <a:ext cx="3429000" cy="609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29280" y="2155680"/>
            <a:ext cx="25830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on M10 Bridge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arent encapsulation of 802.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.    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pro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18120" y="2155680"/>
            <a:ext cx="8874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d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1880" y="2057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65280" y="2155680"/>
            <a:ext cx="8874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819520"/>
            <a:ext cx="1676520" cy="609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52880" y="2841480"/>
            <a:ext cx="1676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Army DUW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&amp;1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2819520"/>
            <a:ext cx="762120" cy="609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1880" y="2819520"/>
            <a:ext cx="304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43800" y="284148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on P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MC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Between 2- and 10-Mbps Standard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Access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-Media Access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-Mode Wireless 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 Performance for Backward Compatibility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Future, Higher Data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H. Cafarella</dc:creator>
  <dc:description/>
  <dc:language>en-US</dc:language>
  <cp:lastModifiedBy>John H. Cafarella</cp:lastModifiedBy>
  <cp:revision>0</cp:revision>
  <dc:subject/>
  <dc:title>ROBUST 10-Mbps DATA COMMUNICATIONS</dc:title>
</cp:coreProperties>
</file>