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9B8A54-DF87-4D2D-BEEC-E721B89C0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the parameters of connection or informs the nomad of loss of paramet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nomad transfers from one communications system to another. This hand-off may occur within a network, between networks, or between different types of network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s nomads and their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cluded in this need is a requirement to track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ity of capabilities and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e is a need to uniquely address all appliances used by the nomad and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perating characteristics of these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pliance characteristics, devices, and their service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communications for a nomad needs to be deliv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r if the communications can be spooled or deferred. Further, if the nomad is to receive the communication, the mechanism needs to determine the appropriate destination device an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in which to send the com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provid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&amp; efficient rou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data can be routed effectively to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identify nomads and their 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eed to allow anonymous identitie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ds (anonymous provision), Device Ids (minimum identification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network servic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track and support the current context of the nomad's activit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omad's default or dominant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nd privacy needs should be supported in the nomadic environment, or the nomad must be informed if required protection mechanisms are not avai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important that the implementation of security features 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to the capabilities of the network and the appli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, a low bandwidth network with a battery-powered applian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allow the nomad or application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ommunications service most appropriate for the fun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carried ou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for establishing, validating, and enforcing various persona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quired. This capability enables billing, quality of service, call filtering, etc., to be determined based o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contingencies for the unavailability or non-validity of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's persona, application, or servi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for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-to-logical network mapp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nomad and the NII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64008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American National Standards Inst. (ANS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680" y="76320"/>
            <a:ext cx="433404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00200" y="26668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- Identifying GII Standard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914400"/>
            <a:ext cx="8610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k Hayden - Director, Information Infrastructu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20 or Email: chayden@ansi.or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. Lefkin -Program Manager, Information Infrastruc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79 or Email: plefkin@ans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est 42nd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, NY  1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212-642-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212-398-0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nsi.org/iis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572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7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and accelerate the cross-industry coordination of national and global voluntary standards for the deployment of the informa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is a coordinating and facilitating function to bring all players to the table to identify GII standards requirements or needs ("gaps" in existing stand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was established by ANSI in mid-1994 to ensure the rapid deployment of the NII/G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ector initiative - Support and involvement of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66680"/>
            <a:ext cx="86868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and Non-ANSI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Developers, Industry Associations, Consortia, Architecture Groups, Companies, an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Industry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, Telecommunications, Software, Cable, Cellular, Satellite, Broadcast, and Entertainment industries are all represented in II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fu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ees from the participating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704880"/>
            <a:ext cx="7772400" cy="10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1295280"/>
            <a:ext cx="3886200" cy="51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tech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 Incorpo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Television Lab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q Computer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search Associate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 Corpo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ance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ton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57800" y="1219320"/>
            <a:ext cx="32004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ton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I Communications Co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ens A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76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3352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HI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 X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S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Clearance Ct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11430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WOS                              T1 - Tele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ES                                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SG                               TS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meri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de Coun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W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U - Applied Research Labor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1371600"/>
            <a:ext cx="73152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- Defense Information System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- Environmental Protection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- Federal Communications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 - National Communications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T - National Inst. of Stds. &amp;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Lewis Research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 - National Security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 CECOM Res. Dev. and Eng. C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43000" y="461880"/>
            <a:ext cx="64198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tandards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Applicatio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Computer (User)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(Industry)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Publi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Transpo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Standards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6 - Nomadicity: Hand-Off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7 - Nomadicity: Person / Devic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8 - Nomadicity: Device Coord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9 - Nomadicity: Communications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0 - Nomadicity: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1 - Nomadicity: Unique and Anonymous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2 - Nomadicity: Contex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3 - Nomadicity: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4 - Nomadicity: Dynamic Service 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5 - Nomadicity: Persona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6 - Nomadicity: Exce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7 - Nomadicity: Logical Network / Infrastructur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7 IISP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30-31, 199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ey Bridge Marriot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el - 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5 - 2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18 - 19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20 - 21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5 - 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Fishel</dc:creator>
  <dc:description/>
  <dc:language>en-US</dc:language>
  <cp:lastModifiedBy>George Fishel</cp:lastModifiedBy>
  <cp:revision>0</cp:revision>
  <dc:subject/>
  <dc:title>IISP - Identifying GII Standards Requirements</dc:title>
</cp:coreProperties>
</file>