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18340B-346C-4321-8F79-6B012E3B8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ance for progression to Standar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ed for Recirculation ballot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Vic Hayes,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228600"/>
            <a:ext cx="7772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762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esentation gives the most important actions 802.11 have to take to progress its draft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ives the schedule for the recirculation ballot after the January meeting to reach the June Standards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back-up it gives the schedule for getting a second recirculation ballot to reach the June Standards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s in 1997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0, June 26,  September 16, December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tandard due at IEEE offi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 7, May 16, Aug 1, Oct 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09480" y="228600"/>
            <a:ext cx="7772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o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762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a thorough WG review and submit to Sponsor Recirculation ballot from the March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reduce the number of no-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 have a face-to-face meeting or have a tele-conference call after closure of the sponsor recirculation ballot for decision to send to Standards 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228600"/>
            <a:ext cx="7772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04920" y="946080"/>
            <a:ext cx="8153280" cy="930240"/>
            <a:chOff x="304920" y="946080"/>
            <a:chExt cx="8153280" cy="930240"/>
          </a:xfrm>
        </p:grpSpPr>
        <p:sp>
          <p:nvSpPr>
            <p:cNvPr id="66" name=""/>
            <p:cNvSpPr/>
            <p:nvPr/>
          </p:nvSpPr>
          <p:spPr>
            <a:xfrm>
              <a:off x="53352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2388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712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8640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9568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0532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1460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6748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519120" y="14796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150984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257652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341460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4479840" y="14796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539424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638496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745164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1143000"/>
              <a:ext cx="403848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19720" y="1143000"/>
              <a:ext cx="3657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1281240" y="946080"/>
              <a:ext cx="6494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5089680" y="946080"/>
              <a:ext cx="6494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523880" y="3886200"/>
            <a:ext cx="99072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795840" y="201312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981080"/>
            <a:ext cx="99072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3962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0560" y="2133720"/>
            <a:ext cx="3887640" cy="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33520" y="4145040"/>
            <a:ext cx="960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110040" y="946080"/>
            <a:ext cx="701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6840" y="2165400"/>
            <a:ext cx="3146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 resolution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420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06360" y="51354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7160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11004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17672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89680" y="51354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08004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14708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4800600"/>
            <a:ext cx="6858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800600"/>
            <a:ext cx="41148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347920" y="4525920"/>
            <a:ext cx="776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8240" y="452592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5334120"/>
            <a:ext cx="0" cy="30456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470560" y="4068720"/>
            <a:ext cx="140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rc b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19120" y="34592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50984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7652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41460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47984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94240" y="34592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38496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45164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3124080"/>
            <a:ext cx="42670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3124080"/>
            <a:ext cx="373392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81240" y="2927520"/>
            <a:ext cx="763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89680" y="292752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3124080"/>
            <a:ext cx="76320" cy="8380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124080"/>
            <a:ext cx="76320" cy="8380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5638680"/>
            <a:ext cx="45720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14200" y="5975280"/>
            <a:ext cx="3575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onference or actual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198108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6386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39625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041560" y="5594400"/>
            <a:ext cx="876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32280" y="5670720"/>
            <a:ext cx="3429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dline for June SAB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51440" y="2241720"/>
            <a:ext cx="1362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G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563868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74880" y="5592600"/>
            <a:ext cx="565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228600"/>
            <a:ext cx="7772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RCULATION BALLOT D6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762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14 (F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1 (Fri) 7 days to pro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5 (T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at IEE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6 (W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mail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 4 (F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 24 (Thu) 20 days (30  days from ser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 29 (Tue) face to face or tele-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dlin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 mt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 24-26 Cleveland OH (Th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>adjusted for required time in conf bllt</dc:subject>
  <dc:title>SCHEDULE FOR  WORKING GROUP CONFIRMATION BALLOT</dc:title>
</cp:coreProperties>
</file>