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76720" y="91440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1960" y="674640"/>
            <a:ext cx="95076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61960" y="826920"/>
            <a:ext cx="198108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ffuse I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17680" y="98280"/>
            <a:ext cx="793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7/14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380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3244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1379520"/>
            <a:ext cx="7031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EE 802.11 IR AD HOC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1/12/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62485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257800" y="4191120"/>
            <a:ext cx="182880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181480" y="46483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438280" y="4267080"/>
            <a:ext cx="1828800" cy="198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267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38280" y="2592360"/>
            <a:ext cx="182880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668680"/>
            <a:ext cx="182880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10280" y="2590920"/>
            <a:ext cx="0" cy="16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67080" y="2590920"/>
            <a:ext cx="0" cy="16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38280" y="4648320"/>
            <a:ext cx="0" cy="16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40320" y="4489560"/>
            <a:ext cx="295200" cy="31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4800600" y="3429000"/>
            <a:ext cx="38088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86200" y="3429000"/>
            <a:ext cx="1295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886200" y="3657600"/>
            <a:ext cx="152280" cy="190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30480" y="5403960"/>
            <a:ext cx="295200" cy="31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464832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91120" y="4952880"/>
            <a:ext cx="152388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97180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3480" y="1308240"/>
            <a:ext cx="7297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rrol Dr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com  (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cisco Lope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M (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fael Pere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.L.P.G.C. (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chard Pa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(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en Rosenf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dat (Isra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oru Togu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VC (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970360" y="38088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aft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89280" y="1841400"/>
            <a:ext cx="54230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ground - Fran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Desires and Propos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2640" y="304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et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0520" y="1155600"/>
            <a:ext cx="8558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nt and need more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IR vendors are avail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ite IR vendors to con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ter to invite IR vendors to next plenary - signed by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Desires and Propos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s OK for 20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k for contributions outside 1 and 2 Mbps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for a PAR proposal at the March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 - PAR for 20Mbps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6320" y="304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55760" y="1508040"/>
            <a:ext cx="69897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val to send a letter (97/149) to IR vendors from the IEEE 802.11 committee.  This letter  requests their participation in the next plenary for an ad hoc meeting on the interest in developing a higher speed IR wireless LAN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from 802.11 Chair: 802.11 disapproved the submittal of this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ine, Richard .H.</dc:creator>
  <dc:description/>
  <dc:language>en-US</dc:language>
  <cp:lastModifiedBy>Paine, Richard .H.</cp:lastModifiedBy>
  <cp:revision>0</cp:revision>
  <dc:subject/>
  <dc:title>No Slide Title</dc:title>
</cp:coreProperties>
</file>