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for 5-GHz 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H. Cafar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ILOR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" descr=""/>
          <p:cNvPicPr/>
          <p:nvPr/>
        </p:nvPicPr>
        <p:blipFill>
          <a:blip r:embed="rId1"/>
          <a:stretch/>
        </p:blipFill>
        <p:spPr>
          <a:xfrm>
            <a:off x="4781520" y="3971880"/>
            <a:ext cx="3666960" cy="2619360"/>
          </a:xfrm>
          <a:prstGeom prst="rect">
            <a:avLst/>
          </a:prstGeom>
          <a:ln w="0">
            <a:noFill/>
          </a:ln>
        </p:spPr>
      </p:pic>
      <p:sp>
        <p:nvSpPr>
          <p:cNvPr id="1438" name=""/>
          <p:cNvSpPr txBox="1"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Through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380880" y="1600200"/>
            <a:ext cx="10666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coherent 16-ary BiOrthogonal Sign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1828800" y="2133720"/>
            <a:ext cx="1295280" cy="3387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Acquisi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4343400" y="2158920"/>
            <a:ext cx="1752480" cy="39384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reamble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44792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124080" y="2362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447920" y="198108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6705720" y="1752480"/>
            <a:ext cx="17524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       Through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60958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6095880" y="23623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2666880" y="1600200"/>
            <a:ext cx="1447920" cy="228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” PN Code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3429000" y="1828800"/>
            <a:ext cx="0" cy="30492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3124080" y="2133720"/>
            <a:ext cx="30492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380880" y="4038480"/>
            <a:ext cx="48769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coherent: no PLL, no settling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PN codes: no equalizer, no adaptatio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SK on SFD &amp; SIGNAL: no CRC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5943600" y="3191040"/>
            <a:ext cx="228600" cy="324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6172200" y="3191040"/>
            <a:ext cx="685800" cy="324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762120" y="3191040"/>
            <a:ext cx="5181480" cy="324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6858000" y="3191040"/>
            <a:ext cx="685800" cy="324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 txBox="1"/>
          <p:nvPr/>
        </p:nvSpPr>
        <p:spPr>
          <a:xfrm>
            <a:off x="3108240" y="3527280"/>
            <a:ext cx="1638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header  ~2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4876920" y="365760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6080040" y="2986200"/>
            <a:ext cx="649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SK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 flipH="1">
            <a:off x="6705720" y="3124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 flipH="1">
            <a:off x="5943600" y="3124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762120" y="2986200"/>
            <a:ext cx="4419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C |                                     Search                                      |            Select largest path                 |   wa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 flipH="1">
            <a:off x="762120" y="365760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7219800" y="4352760"/>
            <a:ext cx="619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Mb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7248600" y="4800600"/>
            <a:ext cx="619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Mb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7172280" y="5419800"/>
            <a:ext cx="619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b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4343400" y="1828800"/>
            <a:ext cx="1752480" cy="30492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-/18-Mbps Data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 txBox="1"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Effici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1828800" y="1600200"/>
            <a:ext cx="1295280" cy="304920"/>
          </a:xfrm>
          <a:prstGeom prst="rect">
            <a:avLst/>
          </a:prstGeom>
          <a:solidFill>
            <a:srgbClr val="dadad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E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380880" y="1143000"/>
            <a:ext cx="10666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coherent 16-ary BiOrthogonal Sign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 txBox="1"/>
          <p:nvPr/>
        </p:nvSpPr>
        <p:spPr>
          <a:xfrm>
            <a:off x="4343400" y="1752480"/>
            <a:ext cx="1752480" cy="4572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Efficient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447920" y="1752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380880" y="1981080"/>
            <a:ext cx="10666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Spreading Mod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1828800" y="1981080"/>
            <a:ext cx="1295280" cy="3387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urated Power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447920" y="2133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3124080" y="18288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124080" y="21337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6705720" y="1752480"/>
            <a:ext cx="17524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Battery D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0958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380880" y="3657600"/>
            <a:ext cx="33526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oits bandwidth for robust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3 to 10.5 dB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in efficiency t0 DP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0" name="" descr=""/>
          <p:cNvPicPr/>
          <p:nvPr/>
        </p:nvPicPr>
        <p:blipFill>
          <a:blip r:embed="rId1"/>
          <a:stretch/>
        </p:blipFill>
        <p:spPr>
          <a:xfrm>
            <a:off x="4800600" y="3409920"/>
            <a:ext cx="3398760" cy="2462040"/>
          </a:xfrm>
          <a:prstGeom prst="rect">
            <a:avLst/>
          </a:prstGeom>
          <a:ln w="0">
            <a:noFill/>
          </a:ln>
        </p:spPr>
      </p:pic>
      <p:sp>
        <p:nvSpPr>
          <p:cNvPr id="1481" name=""/>
          <p:cNvSpPr txBox="1"/>
          <p:nvPr/>
        </p:nvSpPr>
        <p:spPr>
          <a:xfrm>
            <a:off x="5410080" y="3505320"/>
            <a:ext cx="609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7391520" y="4495680"/>
            <a:ext cx="609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nnon    lim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 txBox="1"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Effici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1828800" y="1600200"/>
            <a:ext cx="129528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880" y="1143000"/>
            <a:ext cx="10666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coherent 16-ary BiOrthogonal Sign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 txBox="1"/>
          <p:nvPr/>
        </p:nvSpPr>
        <p:spPr>
          <a:xfrm>
            <a:off x="4343400" y="1752480"/>
            <a:ext cx="1752480" cy="4572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Efficient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447920" y="1752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380880" y="1981080"/>
            <a:ext cx="10666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Spreading Mod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1828800" y="1938240"/>
            <a:ext cx="1295280" cy="376200"/>
          </a:xfrm>
          <a:prstGeom prst="rect">
            <a:avLst/>
          </a:prstGeom>
          <a:solidFill>
            <a:srgbClr val="dadad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urated Power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447920" y="2133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124080" y="18288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3124080" y="21337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6705720" y="1752480"/>
            <a:ext cx="17524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Battery D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60958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880" y="3657600"/>
            <a:ext cx="4572000" cy="21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allows operation into power-amp sat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ained-amplitude mode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bits/symb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6-dB greater average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efficiency greatly impro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1-97/118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s generation an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6" name="" descr=""/>
          <p:cNvPicPr/>
          <p:nvPr/>
        </p:nvPicPr>
        <p:blipFill>
          <a:blip r:embed="rId1"/>
          <a:stretch/>
        </p:blipFill>
        <p:spPr>
          <a:xfrm>
            <a:off x="4724280" y="2666880"/>
            <a:ext cx="4106880" cy="293364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5715000" y="2743200"/>
            <a:ext cx="0" cy="1828800"/>
          </a:xfrm>
          <a:prstGeom prst="line">
            <a:avLst/>
          </a:prstGeom>
          <a:ln w="12600">
            <a:solidFill>
              <a:srgbClr val="919191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6400800" y="2743200"/>
            <a:ext cx="0" cy="838080"/>
          </a:xfrm>
          <a:prstGeom prst="line">
            <a:avLst/>
          </a:prstGeom>
          <a:ln w="12600">
            <a:solidFill>
              <a:srgbClr val="919191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6004080" y="2441520"/>
            <a:ext cx="9302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bit/symbol operating po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 txBox="1"/>
          <p:nvPr/>
        </p:nvSpPr>
        <p:spPr>
          <a:xfrm>
            <a:off x="5165640" y="2441520"/>
            <a:ext cx="9302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bit/symbol operating po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"/>
          <p:cNvSpPr txBox="1"/>
          <p:nvPr/>
        </p:nvSpPr>
        <p:spPr>
          <a:xfrm>
            <a:off x="533520" y="6094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ization and Coexist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3200400" y="1523880"/>
            <a:ext cx="838080" cy="4910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343400" y="1590840"/>
            <a:ext cx="1752480" cy="314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Channe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 txBox="1"/>
          <p:nvPr/>
        </p:nvSpPr>
        <p:spPr>
          <a:xfrm>
            <a:off x="380880" y="1523880"/>
            <a:ext cx="10666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Spreading Mod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 txBox="1"/>
          <p:nvPr/>
        </p:nvSpPr>
        <p:spPr>
          <a:xfrm>
            <a:off x="1828800" y="2057400"/>
            <a:ext cx="1295280" cy="3387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al Confi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447920" y="22096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4343400" y="1981080"/>
            <a:ext cx="1752480" cy="3808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Channe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3124080" y="2209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4038480" y="1752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 txBox="1"/>
          <p:nvPr/>
        </p:nvSpPr>
        <p:spPr>
          <a:xfrm>
            <a:off x="6705720" y="1600200"/>
            <a:ext cx="17524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apped B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6095880" y="17524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6095880" y="22096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380880" y="3200400"/>
            <a:ext cx="4952880" cy="25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r MSK shaping) enhances channe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-Mchip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wideband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100-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s if 16-Mchip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ideband and two narrowband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100-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 narrowband  per 100-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8 to 144 Mbps capacity in 6 to 12 frequency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898560" y="6087960"/>
            <a:ext cx="22543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11-97/118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s MSK gen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3336840" y="6087960"/>
            <a:ext cx="1633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deband = 24 or 18 Mb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5241960" y="6087960"/>
            <a:ext cx="1682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rrowband = 12 or 9 Mb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7" name="" descr=""/>
          <p:cNvPicPr/>
          <p:nvPr/>
        </p:nvPicPr>
        <p:blipFill>
          <a:blip r:embed="rId1"/>
          <a:stretch/>
        </p:blipFill>
        <p:spPr>
          <a:xfrm>
            <a:off x="5410080" y="2819520"/>
            <a:ext cx="3267000" cy="936720"/>
          </a:xfrm>
          <a:prstGeom prst="rect">
            <a:avLst/>
          </a:prstGeom>
          <a:ln w="0">
            <a:noFill/>
          </a:ln>
        </p:spPr>
      </p:pic>
      <p:pic>
        <p:nvPicPr>
          <p:cNvPr id="1518" name="" descr=""/>
          <p:cNvPicPr/>
          <p:nvPr/>
        </p:nvPicPr>
        <p:blipFill>
          <a:blip r:embed="rId2"/>
          <a:stretch/>
        </p:blipFill>
        <p:spPr>
          <a:xfrm>
            <a:off x="5410080" y="5105520"/>
            <a:ext cx="3267000" cy="914400"/>
          </a:xfrm>
          <a:prstGeom prst="rect">
            <a:avLst/>
          </a:prstGeom>
          <a:ln w="0">
            <a:noFill/>
          </a:ln>
        </p:spPr>
      </p:pic>
      <p:pic>
        <p:nvPicPr>
          <p:cNvPr id="1519" name="" descr=""/>
          <p:cNvPicPr/>
          <p:nvPr/>
        </p:nvPicPr>
        <p:blipFill>
          <a:blip r:embed="rId3"/>
          <a:stretch/>
        </p:blipFill>
        <p:spPr>
          <a:xfrm>
            <a:off x="5181480" y="3809880"/>
            <a:ext cx="3571920" cy="1104840"/>
          </a:xfrm>
          <a:prstGeom prst="rect">
            <a:avLst/>
          </a:prstGeom>
          <a:ln w="0">
            <a:noFill/>
          </a:ln>
        </p:spPr>
      </p:pic>
      <p:sp>
        <p:nvSpPr>
          <p:cNvPr id="1520" name=""/>
          <p:cNvSpPr/>
          <p:nvPr/>
        </p:nvSpPr>
        <p:spPr>
          <a:xfrm>
            <a:off x="8248680" y="3695760"/>
            <a:ext cx="5144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5257800" y="2743200"/>
            <a:ext cx="1143000" cy="33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8147160" y="4819680"/>
            <a:ext cx="5842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8204040" y="5943600"/>
            <a:ext cx="4762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 txBox="1"/>
          <p:nvPr/>
        </p:nvSpPr>
        <p:spPr>
          <a:xfrm>
            <a:off x="6004080" y="3252960"/>
            <a:ext cx="488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0 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6022800" y="4294080"/>
            <a:ext cx="488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0 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6016680" y="5532480"/>
            <a:ext cx="488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0 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6105600" y="2820960"/>
            <a:ext cx="379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6118200" y="3830760"/>
            <a:ext cx="379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 txBox="1"/>
          <p:nvPr/>
        </p:nvSpPr>
        <p:spPr>
          <a:xfrm>
            <a:off x="6118200" y="5100480"/>
            <a:ext cx="379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 txBox="1"/>
          <p:nvPr/>
        </p:nvSpPr>
        <p:spPr>
          <a:xfrm>
            <a:off x="533520" y="6094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ization and Coexist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3200400" y="1523880"/>
            <a:ext cx="838080" cy="4910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4343400" y="1590840"/>
            <a:ext cx="1752480" cy="3142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Channe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380880" y="1523880"/>
            <a:ext cx="10666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Spreading Mod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1828800" y="2057400"/>
            <a:ext cx="1295280" cy="3387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al Confi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1447920" y="22096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4343400" y="1981080"/>
            <a:ext cx="1752480" cy="38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Channe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3124080" y="2209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4038480" y="1752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6705720" y="1523880"/>
            <a:ext cx="17524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apped B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095880" y="17524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095880" y="22096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380880" y="3124080"/>
            <a:ext cx="6400800" cy="29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ed best 8 codes (of 2048) for demodulating data in multi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ed best 8 codes for preamble search (and acquisition) in multi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tual rejection much better than “random” implied by processing g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strategies for code assig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 pairing of data/search codes gives 8 code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pairing of data/search codes gives 64 code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frame code changing greatly expands the possi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combined with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wel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equency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6689880" y="6316560"/>
            <a:ext cx="1866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1-97/117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s data c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Possible Data M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2057400" y="2362320"/>
            <a:ext cx="38098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-ary BiOrthog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2057400" y="3276720"/>
            <a:ext cx="38098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x 4-ary BiOrthog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2057400" y="3733920"/>
            <a:ext cx="38098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-ary BiOrthog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5867280" y="236232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5867280" y="281952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5867280" y="327672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5867280" y="373392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5867280" y="419112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5867280" y="464832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7315200" y="-129528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6781680" y="236232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92 dB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6781680" y="281952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6 dB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6781680" y="327672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6 dB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6781680" y="373392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95 dB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 txBox="1"/>
          <p:nvPr/>
        </p:nvSpPr>
        <p:spPr>
          <a:xfrm>
            <a:off x="6781680" y="419112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9 dB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6781680" y="464832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9 dB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1143000" y="2362320"/>
            <a:ext cx="9144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MHz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-4876920" y="-129528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1143000" y="3733920"/>
            <a:ext cx="9144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MHz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2057400" y="4648320"/>
            <a:ext cx="38098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x 4-ary BiOrthog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2057400" y="1905120"/>
            <a:ext cx="38098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O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5867280" y="190512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6781680" y="190512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sh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1143000" y="190512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1143000" y="2362320"/>
            <a:ext cx="6553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1143000" y="3733920"/>
            <a:ext cx="6553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1143000" y="5105520"/>
            <a:ext cx="6553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1143000" y="1905120"/>
            <a:ext cx="6553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1143000" y="190512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7696080" y="190512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 txBox="1"/>
          <p:nvPr/>
        </p:nvSpPr>
        <p:spPr>
          <a:xfrm>
            <a:off x="1143000" y="5715000"/>
            <a:ext cx="2209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welve total channels in UNII b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 txBox="1"/>
          <p:nvPr/>
        </p:nvSpPr>
        <p:spPr>
          <a:xfrm>
            <a:off x="1143000" y="5410080"/>
            <a:ext cx="19810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x total channels in UNII b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2057400" y="2819520"/>
            <a:ext cx="38098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x 4-ary BiOrthogonal (constrained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2057400" y="4191120"/>
            <a:ext cx="38098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x 4-ary BiOrthogonal (constrain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4343400" y="5410080"/>
            <a:ext cx="1523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stant envelope M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4343400" y="5715000"/>
            <a:ext cx="25909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verage transmitter power increases by 6 d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905120"/>
            <a:ext cx="106668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Transmission Bandwid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5120" y="4495680"/>
            <a:ext cx="129528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05120" y="2286000"/>
            <a:ext cx="91440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Chip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124080" y="3276720"/>
            <a:ext cx="838080" cy="4910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3429000"/>
            <a:ext cx="1066680" cy="12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coherent 4 x 4-ary BiOrthogonal Sign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419720" y="3809880"/>
            <a:ext cx="1752480" cy="30492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-/18-Mbps Data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124080" y="2590920"/>
            <a:ext cx="838080" cy="4910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419720" y="4648320"/>
            <a:ext cx="1752480" cy="4572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Efficient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419720" y="2666880"/>
            <a:ext cx="1752480" cy="38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Symbol    Multipath 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419720" y="3581280"/>
            <a:ext cx="1752480" cy="15228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ransmission Secur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419720" y="5172120"/>
            <a:ext cx="1752480" cy="314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Channe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419720" y="3124080"/>
            <a:ext cx="1752480" cy="38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Symbol    Multipath 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6668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523880" y="2971800"/>
            <a:ext cx="381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3124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46483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2819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3352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3657600"/>
            <a:ext cx="45720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4952880"/>
            <a:ext cx="10666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Spreading Mod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05120" y="4876920"/>
            <a:ext cx="1295280" cy="3387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urated Power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905120" y="5638680"/>
            <a:ext cx="1295280" cy="3387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al Confi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5029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57913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419720" y="5562720"/>
            <a:ext cx="1752480" cy="38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Channe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47242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5029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5791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7680" y="1500120"/>
            <a:ext cx="1022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937040" y="1500120"/>
            <a:ext cx="565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498760" y="1500120"/>
            <a:ext cx="806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147080" y="1500120"/>
            <a:ext cx="844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905120" y="4114800"/>
            <a:ext cx="1295280" cy="3387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Acquisi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419720" y="4181400"/>
            <a:ext cx="1752480" cy="314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reamble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42670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8195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5105520"/>
            <a:ext cx="38124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3962520"/>
            <a:ext cx="2895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781680" y="1905120"/>
            <a:ext cx="1752480" cy="16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781680" y="5181480"/>
            <a:ext cx="17524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apped B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781680" y="3809880"/>
            <a:ext cx="17524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       Through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419720" y="2276640"/>
            <a:ext cx="1752480" cy="314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dB Processing  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24382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781680" y="4648320"/>
            <a:ext cx="17524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Battery D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48769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39625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43434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3148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4382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2857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419720" y="1895400"/>
            <a:ext cx="1752480" cy="314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2057400"/>
            <a:ext cx="2895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72200" y="20574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5334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34320" y="19051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72200" y="57913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304812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3124080"/>
            <a:ext cx="0" cy="1981440"/>
          </a:xfrm>
          <a:prstGeom prst="line">
            <a:avLst/>
          </a:prstGeom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200400" y="4038480"/>
            <a:ext cx="838080" cy="152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0880" y="1905120"/>
            <a:ext cx="106668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Transmission Bandwid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28800" y="2286000"/>
            <a:ext cx="91440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Chip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8120" y="3276720"/>
            <a:ext cx="838080" cy="4910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8120" y="2590920"/>
            <a:ext cx="838080" cy="4910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343400" y="2666880"/>
            <a:ext cx="1752480" cy="38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Symbol    Multipath 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343400" y="3124080"/>
            <a:ext cx="1752480" cy="38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Symbol    Multipath 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2666880"/>
            <a:ext cx="38088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2819520"/>
            <a:ext cx="45720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3352680"/>
            <a:ext cx="45720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2819520"/>
            <a:ext cx="30492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705720" y="1905120"/>
            <a:ext cx="1752480" cy="16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343400" y="2276640"/>
            <a:ext cx="1752480" cy="314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dB Processing  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2438280"/>
            <a:ext cx="160020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5880" y="3314880"/>
            <a:ext cx="60984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2438280"/>
            <a:ext cx="60984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5880" y="2857680"/>
            <a:ext cx="60984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343400" y="1895400"/>
            <a:ext cx="1752480" cy="3142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2057400"/>
            <a:ext cx="289548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2057400"/>
            <a:ext cx="60984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19051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3048120"/>
            <a:ext cx="0" cy="22860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81520" y="3733920"/>
            <a:ext cx="3693960" cy="2741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6858000" y="4038480"/>
            <a:ext cx="990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prea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880" y="4038480"/>
            <a:ext cx="419112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ing paths gives more independent t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strength per path, b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robability that all f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1-97/119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s for diffuse Rayle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 better with specular multi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880" y="1905120"/>
            <a:ext cx="106668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Transmission Bandwid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828800" y="2286000"/>
            <a:ext cx="91440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Chip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8120" y="3276720"/>
            <a:ext cx="838080" cy="4910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8120" y="2590920"/>
            <a:ext cx="838080" cy="4910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343400" y="2666880"/>
            <a:ext cx="1752480" cy="38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Symbol    Multipath 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343400" y="3124080"/>
            <a:ext cx="1752480" cy="38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Symbol    Multipath 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2666880"/>
            <a:ext cx="38088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2819520"/>
            <a:ext cx="45720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3352680"/>
            <a:ext cx="45720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43200" y="2819520"/>
            <a:ext cx="30492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705720" y="1905120"/>
            <a:ext cx="1752480" cy="16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343400" y="2247840"/>
            <a:ext cx="1752480" cy="385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dB Processing  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2438280"/>
            <a:ext cx="160020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3314880"/>
            <a:ext cx="60984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2438280"/>
            <a:ext cx="60984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2857680"/>
            <a:ext cx="60984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343400" y="1895400"/>
            <a:ext cx="1752480" cy="314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2057400"/>
            <a:ext cx="289548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2057400"/>
            <a:ext cx="60984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3048120"/>
            <a:ext cx="0" cy="22860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0880" y="4038480"/>
            <a:ext cx="415296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processing gain (PG) of 12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ly required as the UNII band fills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5433840" y="4191120"/>
            <a:ext cx="105120" cy="152280"/>
            <a:chOff x="5433840" y="4191120"/>
            <a:chExt cx="105120" cy="152280"/>
          </a:xfrm>
        </p:grpSpPr>
        <p:sp>
          <p:nvSpPr>
            <p:cNvPr id="151" name=""/>
            <p:cNvSpPr/>
            <p:nvPr/>
          </p:nvSpPr>
          <p:spPr>
            <a:xfrm>
              <a:off x="5486400" y="4191120"/>
              <a:ext cx="5256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433840" y="4191120"/>
              <a:ext cx="5256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738760" y="3886200"/>
            <a:ext cx="104760" cy="228600"/>
            <a:chOff x="5738760" y="3886200"/>
            <a:chExt cx="104760" cy="228600"/>
          </a:xfrm>
        </p:grpSpPr>
        <p:sp>
          <p:nvSpPr>
            <p:cNvPr id="154" name=""/>
            <p:cNvSpPr/>
            <p:nvPr/>
          </p:nvSpPr>
          <p:spPr>
            <a:xfrm>
              <a:off x="5791320" y="3886200"/>
              <a:ext cx="522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5738760" y="3886200"/>
              <a:ext cx="5256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0880" y="1905120"/>
            <a:ext cx="106668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Transmission Bandwid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828800" y="2286000"/>
            <a:ext cx="91440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Chip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8120" y="3276720"/>
            <a:ext cx="838080" cy="4910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8120" y="2590920"/>
            <a:ext cx="838080" cy="4910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343400" y="2666880"/>
            <a:ext cx="1752480" cy="3808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Symbol Multipath 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343400" y="3124080"/>
            <a:ext cx="1752480" cy="38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Symbol Multipath 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2666880"/>
            <a:ext cx="38088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2819520"/>
            <a:ext cx="45720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3352680"/>
            <a:ext cx="45720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2819520"/>
            <a:ext cx="30492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705720" y="1905120"/>
            <a:ext cx="1752480" cy="16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343400" y="2276640"/>
            <a:ext cx="1752480" cy="314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dB Processing  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43200" y="2438280"/>
            <a:ext cx="160020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3314880"/>
            <a:ext cx="60984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5880" y="2438280"/>
            <a:ext cx="60984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5880" y="2857680"/>
            <a:ext cx="60984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343400" y="1895400"/>
            <a:ext cx="1752480" cy="314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2057400"/>
            <a:ext cx="289548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2057400"/>
            <a:ext cx="60984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3048120"/>
            <a:ext cx="0" cy="22860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0880" y="4038480"/>
            <a:ext cx="443880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with specular multipath, without 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consider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rosscorrel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de lo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1-97/117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s preferred 16-bit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8 of 2048 co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analyze self-interference with sum of f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876920" y="3809880"/>
            <a:ext cx="380880" cy="762120"/>
            <a:chOff x="4876920" y="3809880"/>
            <a:chExt cx="380880" cy="762120"/>
          </a:xfrm>
        </p:grpSpPr>
        <p:sp>
          <p:nvSpPr>
            <p:cNvPr id="179" name=""/>
            <p:cNvSpPr/>
            <p:nvPr/>
          </p:nvSpPr>
          <p:spPr>
            <a:xfrm>
              <a:off x="4876920" y="3809880"/>
              <a:ext cx="380880" cy="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76920" y="3857760"/>
              <a:ext cx="380880" cy="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76920" y="3905280"/>
              <a:ext cx="380880" cy="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920" y="3952800"/>
              <a:ext cx="380880" cy="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76920" y="4000680"/>
              <a:ext cx="380880" cy="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920" y="4048200"/>
              <a:ext cx="380880" cy="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76920" y="4095720"/>
              <a:ext cx="380880" cy="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76920" y="4143240"/>
              <a:ext cx="380880" cy="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76920" y="4191120"/>
              <a:ext cx="380880" cy="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76920" y="4238640"/>
              <a:ext cx="380880" cy="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76920" y="4286160"/>
              <a:ext cx="380880" cy="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76920" y="4334040"/>
              <a:ext cx="380880" cy="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76920" y="4381560"/>
              <a:ext cx="380880" cy="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76920" y="4429080"/>
              <a:ext cx="380880" cy="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76920" y="4476600"/>
              <a:ext cx="380880" cy="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76920" y="4524480"/>
              <a:ext cx="380880" cy="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 txBox="1"/>
          <p:nvPr/>
        </p:nvSpPr>
        <p:spPr>
          <a:xfrm>
            <a:off x="4632480" y="4586400"/>
            <a:ext cx="7779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lator outpu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433840" y="3809880"/>
            <a:ext cx="105120" cy="304920"/>
            <a:chOff x="5433840" y="3809880"/>
            <a:chExt cx="105120" cy="304920"/>
          </a:xfrm>
        </p:grpSpPr>
        <p:sp>
          <p:nvSpPr>
            <p:cNvPr id="197" name=""/>
            <p:cNvSpPr/>
            <p:nvPr/>
          </p:nvSpPr>
          <p:spPr>
            <a:xfrm>
              <a:off x="5486400" y="3809880"/>
              <a:ext cx="52560" cy="304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433840" y="3809880"/>
              <a:ext cx="52560" cy="304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334120" y="411480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4120" y="434340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433840" y="4038480"/>
            <a:ext cx="105120" cy="76320"/>
            <a:chOff x="5433840" y="4038480"/>
            <a:chExt cx="105120" cy="76320"/>
          </a:xfrm>
        </p:grpSpPr>
        <p:sp>
          <p:nvSpPr>
            <p:cNvPr id="202" name=""/>
            <p:cNvSpPr/>
            <p:nvPr/>
          </p:nvSpPr>
          <p:spPr>
            <a:xfrm>
              <a:off x="5486400" y="4038480"/>
              <a:ext cx="5256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433840" y="4038480"/>
              <a:ext cx="5256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 txBox="1"/>
          <p:nvPr/>
        </p:nvSpPr>
        <p:spPr>
          <a:xfrm>
            <a:off x="6705720" y="396252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ct chann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705720" y="419112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ther chann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0880" y="1905120"/>
            <a:ext cx="106668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Transmission Bandwid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828800" y="2286000"/>
            <a:ext cx="91440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Chip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8120" y="3276720"/>
            <a:ext cx="838080" cy="4910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8120" y="2590920"/>
            <a:ext cx="838080" cy="4910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343400" y="2666880"/>
            <a:ext cx="1752480" cy="38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Symbol Multipath 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343400" y="3124080"/>
            <a:ext cx="1752480" cy="3808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Symbol Multipath 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2666880"/>
            <a:ext cx="38088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2819520"/>
            <a:ext cx="45720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3352680"/>
            <a:ext cx="45720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2819520"/>
            <a:ext cx="30492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705720" y="1905120"/>
            <a:ext cx="1752480" cy="16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343400" y="2276640"/>
            <a:ext cx="1752480" cy="314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dB Processing  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43200" y="2438280"/>
            <a:ext cx="160020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3314880"/>
            <a:ext cx="60984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2438280"/>
            <a:ext cx="60984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5880" y="2857680"/>
            <a:ext cx="60984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343400" y="1895400"/>
            <a:ext cx="1752480" cy="314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2057400"/>
            <a:ext cx="289548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95880" y="2057400"/>
            <a:ext cx="60984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3048120"/>
            <a:ext cx="0" cy="22860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880" y="4038480"/>
            <a:ext cx="5181480" cy="25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ed spreading code correlates with far-out multi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ng intersymbol interference (IS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4 cosets cyclic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orrelated ISI for four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ld use 8 cosets, b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really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to have 2 groups of 4 codes for spatial re-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562720" y="4114800"/>
            <a:ext cx="1981080" cy="457200"/>
            <a:chOff x="5562720" y="4114800"/>
            <a:chExt cx="1981080" cy="457200"/>
          </a:xfrm>
        </p:grpSpPr>
        <p:sp>
          <p:nvSpPr>
            <p:cNvPr id="229" name=""/>
            <p:cNvSpPr/>
            <p:nvPr/>
          </p:nvSpPr>
          <p:spPr>
            <a:xfrm>
              <a:off x="5562720" y="457200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15000" y="41148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91320" y="4226040"/>
              <a:ext cx="0" cy="34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67280" y="42670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43600" y="44197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19920" y="43308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2200" y="4219560"/>
              <a:ext cx="0" cy="352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48520" y="43941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24480" y="43308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00800" y="4429080"/>
              <a:ext cx="0" cy="142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77120" y="443880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29400" y="446724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05720" y="4479840"/>
              <a:ext cx="0" cy="92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81680" y="4340160"/>
              <a:ext cx="0" cy="231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58000" y="44956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10280" y="451152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62920" y="4524480"/>
              <a:ext cx="0" cy="4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38880" y="453708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15200" y="4530600"/>
              <a:ext cx="0" cy="41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 txBox="1"/>
          <p:nvPr/>
        </p:nvSpPr>
        <p:spPr>
          <a:xfrm>
            <a:off x="5715000" y="4648320"/>
            <a:ext cx="380880" cy="1522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5562720" y="4876920"/>
            <a:ext cx="1981080" cy="457200"/>
            <a:chOff x="5562720" y="4876920"/>
            <a:chExt cx="1981080" cy="457200"/>
          </a:xfrm>
        </p:grpSpPr>
        <p:sp>
          <p:nvSpPr>
            <p:cNvPr id="250" name=""/>
            <p:cNvSpPr/>
            <p:nvPr/>
          </p:nvSpPr>
          <p:spPr>
            <a:xfrm>
              <a:off x="5562720" y="533412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5000" y="4876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91320" y="4987800"/>
              <a:ext cx="0" cy="34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867280" y="50292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43600" y="5181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19920" y="50925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72200" y="4981680"/>
              <a:ext cx="0" cy="352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48520" y="515628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24480" y="50925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00800" y="5191200"/>
              <a:ext cx="0" cy="142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477120" y="520056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29400" y="522936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05720" y="5241960"/>
              <a:ext cx="0" cy="92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81680" y="5102280"/>
              <a:ext cx="0" cy="231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58000" y="52578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10280" y="527364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62920" y="5286240"/>
              <a:ext cx="0" cy="47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38880" y="52992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15200" y="5292720"/>
              <a:ext cx="0" cy="41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5562720" y="60958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15000" y="5638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91320" y="5749920"/>
            <a:ext cx="0" cy="34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5791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943600" y="59436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19920" y="58546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72200" y="6064200"/>
            <a:ext cx="0" cy="3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248520" y="606744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24480" y="603576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00800" y="6058080"/>
            <a:ext cx="0" cy="37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77120" y="6039000"/>
            <a:ext cx="0" cy="5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629400" y="60768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781680" y="6054840"/>
            <a:ext cx="0" cy="41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114800" y="4572000"/>
            <a:ext cx="1447920" cy="457200"/>
          </a:xfrm>
          <a:prstGeom prst="line">
            <a:avLst/>
          </a:prstGeom>
          <a:ln w="12600">
            <a:solidFill>
              <a:srgbClr val="919191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308640" y="4129200"/>
            <a:ext cx="982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ed multipa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86200" y="5334120"/>
            <a:ext cx="1752480" cy="533160"/>
          </a:xfrm>
          <a:prstGeom prst="line">
            <a:avLst/>
          </a:prstGeom>
          <a:ln w="12600">
            <a:solidFill>
              <a:srgbClr val="919191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 flipH="1">
            <a:off x="6118200" y="3925800"/>
            <a:ext cx="6336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118200" y="4002120"/>
            <a:ext cx="6336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118200" y="4078440"/>
            <a:ext cx="6336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6118200" y="4154400"/>
            <a:ext cx="6336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Through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0880" y="1600200"/>
            <a:ext cx="10666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coherent 4 x 4-ary BiOrthogonal Sign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828800" y="2133720"/>
            <a:ext cx="1295280" cy="3387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Acquisi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343400" y="2200320"/>
            <a:ext cx="1752480" cy="314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reamble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362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47920" y="198108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705720" y="1676520"/>
            <a:ext cx="17524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       Through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958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95880" y="23623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666880" y="1600200"/>
            <a:ext cx="1447920" cy="2286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” PN Code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29000" y="1828800"/>
            <a:ext cx="0" cy="304920"/>
          </a:xfrm>
          <a:prstGeom prst="line">
            <a:avLst/>
          </a:prstGeom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124080" y="2133720"/>
            <a:ext cx="30492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57200" y="3429000"/>
            <a:ext cx="838080" cy="2819520"/>
            <a:chOff x="457200" y="3429000"/>
            <a:chExt cx="838080" cy="2819520"/>
          </a:xfrm>
        </p:grpSpPr>
        <p:sp>
          <p:nvSpPr>
            <p:cNvPr id="303" name=""/>
            <p:cNvSpPr/>
            <p:nvPr/>
          </p:nvSpPr>
          <p:spPr>
            <a:xfrm>
              <a:off x="457200" y="34290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" y="36082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76240" y="372744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7200" y="3786120"/>
              <a:ext cx="209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6720" y="3908520"/>
              <a:ext cx="209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76240" y="3786120"/>
              <a:ext cx="209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85760" y="3908520"/>
              <a:ext cx="209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7200" y="41497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6720" y="41497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76240" y="41497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085760" y="41497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1960" y="426888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1480" y="426888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81000" y="426888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90520" y="426888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7200" y="48690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1960" y="48690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6720" y="48690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71480" y="48690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76240" y="48690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81000" y="48690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85760" y="48690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90520" y="48690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09760" y="49863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4520" y="49863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19280" y="49863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4040" y="49863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1243080" y="49863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1138320" y="49863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1033560" y="49863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928800" y="49863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9760" y="486900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1960" y="486900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4520" y="486900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720" y="486900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9280" y="486900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71480" y="486900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24040" y="486900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76240" y="486900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28800" y="486900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81000" y="486900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33560" y="486900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85760" y="486900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138320" y="486900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190520" y="486900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43080" y="486900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1960" y="414972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6720" y="414972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71480" y="414972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76240" y="414972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81000" y="414972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85760" y="414972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90520" y="414972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6720" y="378612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76240" y="378612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85760" y="378612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6240" y="360828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57200" y="3970440"/>
              <a:ext cx="209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6720" y="4087800"/>
              <a:ext cx="209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76240" y="4087800"/>
              <a:ext cx="209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85760" y="3970440"/>
              <a:ext cx="209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6720" y="397044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85760" y="397044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7200" y="432756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6720" y="432756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76240" y="444816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85760" y="444816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1960" y="444816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1480" y="444816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81000" y="432756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90520" y="432756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1960" y="43275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6720" y="43275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71480" y="43275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81000" y="43275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85760" y="43275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90520" y="43275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200" y="450684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6720" y="462924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76240" y="450684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85760" y="462924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61960" y="462924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1480" y="450684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81000" y="462924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90520" y="450684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1960" y="4506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71480" y="4506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81000" y="4506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90520" y="4506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7200" y="469116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6720" y="48085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76240" y="48085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85760" y="469116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61960" y="48085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71480" y="469116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81000" y="469116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90520" y="48085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1960" y="469116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71480" y="469116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76240" y="469116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81000" y="469116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190520" y="469116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57200" y="50482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61960" y="50482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6720" y="50482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71480" y="50482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76240" y="51703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981000" y="51703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085760" y="51703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90520" y="51703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9760" y="51703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14520" y="51703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19280" y="51703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24040" y="51703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1243080" y="50482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138320" y="50482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1033560" y="50482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928800" y="50482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9760" y="504828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1960" y="504828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4520" y="504828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6720" y="504828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19280" y="504828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1480" y="504828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24040" y="504828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928800" y="504828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81000" y="504828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33560" y="504828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85760" y="504828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38320" y="504828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190520" y="504828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43080" y="504828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7200" y="522936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1960" y="522936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6720" y="534996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71480" y="534996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6240" y="522936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81000" y="522936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85760" y="534996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190520" y="534996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9760" y="53499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14520" y="53499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280" y="52293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24040" y="52293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1243080" y="52293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1138320" y="52293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1033560" y="53499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928800" y="53499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09760" y="52293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61960" y="52293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14520" y="52293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9280" y="52293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1480" y="52293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24040" y="52293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28800" y="52293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81000" y="52293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033560" y="52293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38320" y="52293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90520" y="52293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43080" y="52293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57200" y="540864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61960" y="540864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66720" y="55278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71480" y="55278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76240" y="55278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81000" y="55278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85760" y="540864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90520" y="540864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9760" y="552780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14520" y="552780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19280" y="540864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4040" y="540864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1243080" y="552780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1138320" y="552780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1033560" y="540864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928800" y="540864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9760" y="540864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61960" y="540864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14520" y="540864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19280" y="540864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71480" y="540864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24040" y="540864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76240" y="540864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28800" y="540864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981000" y="540864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033560" y="540864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138320" y="540864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190520" y="540864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43080" y="540864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7200" y="55897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1960" y="57070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66720" y="55897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71480" y="57070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76240" y="55897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81000" y="57070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085760" y="55897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190520" y="57070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09760" y="57070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4520" y="55897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9280" y="57070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24040" y="55897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1243080" y="55897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1138320" y="57070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1033560" y="55897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928800" y="57070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09760" y="558972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14520" y="558972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19280" y="558972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24040" y="558972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28800" y="558972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033560" y="558972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38320" y="558972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243080" y="558972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57200" y="57690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1960" y="589104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66720" y="57690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71480" y="589104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76240" y="589104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81000" y="57690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085760" y="589104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190520" y="57690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9760" y="589104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14520" y="576900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19280" y="589104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24040" y="576900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1243080" y="589104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1138320" y="576900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1033560" y="589104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928800" y="576900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9760" y="576900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14520" y="576900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19280" y="576900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24040" y="576900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76240" y="576900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28800" y="576900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033560" y="576900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138320" y="576900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243080" y="576900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57200" y="59500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61960" y="60688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66720" y="60688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71480" y="59500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76240" y="59500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81000" y="60688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085760" y="60688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90520" y="59500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09760" y="60688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14520" y="59500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19280" y="59500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24040" y="60688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1243080" y="60688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1138320" y="59500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1033560" y="59500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928800" y="60688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9760" y="595008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4520" y="595008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6720" y="595008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19280" y="595008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24040" y="595008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76240" y="595008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28800" y="595008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33560" y="595008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85760" y="595008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38320" y="595008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243080" y="595008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57200" y="61279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61960" y="62485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66720" y="62485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71480" y="61279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76240" y="62485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81000" y="61279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085760" y="61279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190520" y="62485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9760" y="62485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4520" y="61279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19280" y="61279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24040" y="62485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1243080" y="61279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1138320" y="62485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1033560" y="62485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928800" y="61279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09760" y="612792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4520" y="612792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66720" y="612792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9280" y="612792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24040" y="612792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928800" y="612792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033560" y="612792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085760" y="612792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138320" y="612792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243080" y="612792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"/>
          <p:cNvSpPr txBox="1"/>
          <p:nvPr/>
        </p:nvSpPr>
        <p:spPr>
          <a:xfrm>
            <a:off x="457200" y="3124080"/>
            <a:ext cx="838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Walsh Fun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247920" y="4210200"/>
            <a:ext cx="685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 Tx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676520" y="3200400"/>
            <a:ext cx="685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bit DPS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1447920" y="3429000"/>
            <a:ext cx="457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371600" y="3638520"/>
            <a:ext cx="304920" cy="572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676520" y="3695760"/>
            <a:ext cx="244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920960" y="3581280"/>
            <a:ext cx="2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041560" y="363852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981080" y="3695760"/>
            <a:ext cx="12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981080" y="3638520"/>
            <a:ext cx="122400" cy="1144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646280" y="3665520"/>
            <a:ext cx="6048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63600" y="3695760"/>
            <a:ext cx="42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04156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2895480" y="5424480"/>
            <a:ext cx="762120" cy="61920"/>
            <a:chOff x="2895480" y="5424480"/>
            <a:chExt cx="762120" cy="61920"/>
          </a:xfrm>
        </p:grpSpPr>
        <p:sp>
          <p:nvSpPr>
            <p:cNvPr id="608" name=""/>
            <p:cNvSpPr/>
            <p:nvPr/>
          </p:nvSpPr>
          <p:spPr>
            <a:xfrm>
              <a:off x="2895480" y="542448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990880" y="548640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181320" y="54244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276720" y="548640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371760" y="542448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467160" y="54244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562200" y="548640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943360" y="548640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044880" y="5424480"/>
              <a:ext cx="136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228840" y="548640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3610080" y="54244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3514680" y="548640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3419640" y="548640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3324240" y="54244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943360" y="54244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038400" y="54244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228840" y="54244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24240" y="54244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419640" y="54244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467160" y="54244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514680" y="54244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610080" y="54244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"/>
          <p:cNvSpPr txBox="1"/>
          <p:nvPr/>
        </p:nvSpPr>
        <p:spPr>
          <a:xfrm>
            <a:off x="2819520" y="5181480"/>
            <a:ext cx="6858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4734000" y="3421080"/>
            <a:ext cx="1066680" cy="1989000"/>
            <a:chOff x="4734000" y="3421080"/>
            <a:chExt cx="1066680" cy="1989000"/>
          </a:xfrm>
        </p:grpSpPr>
        <p:sp>
          <p:nvSpPr>
            <p:cNvPr id="632" name=""/>
            <p:cNvSpPr/>
            <p:nvPr/>
          </p:nvSpPr>
          <p:spPr>
            <a:xfrm>
              <a:off x="4809960" y="3429000"/>
              <a:ext cx="990720" cy="19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572080" y="350532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572080" y="373392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572080" y="396252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572080" y="419112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72080" y="441972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72080" y="464832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72080" y="487692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572080" y="510552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343480" y="361944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43480" y="40798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43480" y="451476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43480" y="49816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114880" y="474336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14880" y="38512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886280" y="43084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 txBox="1"/>
            <p:nvPr/>
          </p:nvSpPr>
          <p:spPr>
            <a:xfrm>
              <a:off x="4734000" y="3421080"/>
              <a:ext cx="9144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alsh correla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 txBox="1"/>
          <p:nvPr/>
        </p:nvSpPr>
        <p:spPr>
          <a:xfrm>
            <a:off x="4124160" y="403848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 Rx I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048200" y="48006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 Rx Q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6181560" y="388620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of 4 Magnitu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181560" y="434340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of 4 Magnitu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181560" y="480060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of 4 Magnitu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181560" y="525780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of 4 Magnitu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5800680" y="3581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5800680" y="3657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5800680" y="3733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5800680" y="3809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105600" y="3575160"/>
            <a:ext cx="0" cy="585720"/>
          </a:xfrm>
          <a:prstGeom prst="line">
            <a:avLst/>
          </a:prstGeom>
          <a:ln w="3816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6029280" y="3962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6029280" y="4038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6029280" y="41148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6029280" y="4191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791400" y="3886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7324560" y="3733920"/>
            <a:ext cx="1066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b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791400" y="3962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with prev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7553160" y="3962520"/>
            <a:ext cx="8380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bit DP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400880" y="41148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505400" y="5791320"/>
            <a:ext cx="1905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efficient implementation of 16 complex correla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371600" y="4324320"/>
            <a:ext cx="304920" cy="572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676520" y="4381560"/>
            <a:ext cx="244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920960" y="4267080"/>
            <a:ext cx="2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041560" y="432432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981080" y="4381560"/>
            <a:ext cx="12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981080" y="4324320"/>
            <a:ext cx="122400" cy="1144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646280" y="4351320"/>
            <a:ext cx="6048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163600" y="4381560"/>
            <a:ext cx="42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041560" y="4038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371600" y="5162400"/>
            <a:ext cx="304920" cy="572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676520" y="5219640"/>
            <a:ext cx="244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920960" y="5105520"/>
            <a:ext cx="2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041560" y="51624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981080" y="5219640"/>
            <a:ext cx="12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981080" y="5162400"/>
            <a:ext cx="122400" cy="1144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646280" y="5189400"/>
            <a:ext cx="6048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163600" y="5219640"/>
            <a:ext cx="42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041560" y="487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371600" y="5924520"/>
            <a:ext cx="304920" cy="572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676520" y="5981760"/>
            <a:ext cx="244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920960" y="5867280"/>
            <a:ext cx="2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041560" y="592452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981080" y="5981760"/>
            <a:ext cx="12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81080" y="5924520"/>
            <a:ext cx="122400" cy="1144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646280" y="5951520"/>
            <a:ext cx="6048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163600" y="5981760"/>
            <a:ext cx="42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041560" y="56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447920" y="4114800"/>
            <a:ext cx="457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1447920" y="4952880"/>
            <a:ext cx="457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1447920" y="5715000"/>
            <a:ext cx="457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1676520" y="3886200"/>
            <a:ext cx="685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bit DPS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676520" y="4724280"/>
            <a:ext cx="685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bit DPS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1676520" y="5486400"/>
            <a:ext cx="685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bit DPS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6791400" y="44197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with prev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6791400" y="48769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with prev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6791400" y="53341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with prev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791400" y="4343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79140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791400" y="52578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400880" y="4572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40088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7400880" y="5486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7324560" y="4191120"/>
            <a:ext cx="1066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b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7324560" y="4648320"/>
            <a:ext cx="1066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b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7324560" y="5105520"/>
            <a:ext cx="1066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b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7553160" y="4419720"/>
            <a:ext cx="8380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bit DP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7553160" y="4876920"/>
            <a:ext cx="8380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bit DP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7553160" y="5334120"/>
            <a:ext cx="8380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bit DP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2666880" y="4632480"/>
            <a:ext cx="3240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H="1" flipV="1">
            <a:off x="2587680" y="4378320"/>
            <a:ext cx="17460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2587680" y="4924440"/>
            <a:ext cx="181080" cy="2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590920" y="4937040"/>
            <a:ext cx="237960" cy="1044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90920" y="3692520"/>
            <a:ext cx="237960" cy="94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3057480" y="4641840"/>
            <a:ext cx="3240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987640" y="4788000"/>
            <a:ext cx="73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378240" y="47880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209760" y="495288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2270160" y="6094440"/>
            <a:ext cx="4162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bits/symbol with 6-dB peak/average envel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4343400" y="1828800"/>
            <a:ext cx="175248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-/18-Mbps Data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981680" y="3801960"/>
            <a:ext cx="1066680" cy="1989000"/>
            <a:chOff x="4981680" y="3801960"/>
            <a:chExt cx="1066680" cy="1989000"/>
          </a:xfrm>
        </p:grpSpPr>
        <p:sp>
          <p:nvSpPr>
            <p:cNvPr id="730" name=""/>
            <p:cNvSpPr/>
            <p:nvPr/>
          </p:nvSpPr>
          <p:spPr>
            <a:xfrm>
              <a:off x="5057640" y="3809880"/>
              <a:ext cx="990720" cy="19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19760" y="388620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819760" y="411480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19760" y="434340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819760" y="457200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19760" y="480060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819760" y="502920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19760" y="525780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819760" y="548640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591160" y="40006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591160" y="446076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591160" y="489600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91160" y="536256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362560" y="512460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362560" y="423216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133960" y="468936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>
              <a:off x="4981680" y="3801960"/>
              <a:ext cx="9144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alsh correla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4505400" y="4800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276800" y="44197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 flipH="1">
            <a:off x="6118200" y="3925800"/>
            <a:ext cx="6336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6118200" y="4002120"/>
            <a:ext cx="6336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118200" y="4078440"/>
            <a:ext cx="6336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6118200" y="4154400"/>
            <a:ext cx="6336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Through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380880" y="1600200"/>
            <a:ext cx="10666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coherent 4 x 4-ary BiOrthogonal Sign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1828800" y="2133720"/>
            <a:ext cx="1295280" cy="3387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Acquisi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4343400" y="2200320"/>
            <a:ext cx="1752480" cy="314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reamble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44792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124080" y="2362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198108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6705720" y="1676520"/>
            <a:ext cx="17524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       Through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0958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095880" y="23623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2666880" y="1600200"/>
            <a:ext cx="1447920" cy="2286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” PN Code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429000" y="1828800"/>
            <a:ext cx="0" cy="304920"/>
          </a:xfrm>
          <a:prstGeom prst="line">
            <a:avLst/>
          </a:prstGeom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3124080" y="2133720"/>
            <a:ext cx="30492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457200" y="3429000"/>
            <a:ext cx="838080" cy="2819520"/>
            <a:chOff x="457200" y="3429000"/>
            <a:chExt cx="838080" cy="2819520"/>
          </a:xfrm>
        </p:grpSpPr>
        <p:sp>
          <p:nvSpPr>
            <p:cNvPr id="767" name=""/>
            <p:cNvSpPr/>
            <p:nvPr/>
          </p:nvSpPr>
          <p:spPr>
            <a:xfrm>
              <a:off x="457200" y="34290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" y="36082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76240" y="372744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57200" y="3786120"/>
              <a:ext cx="209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66720" y="3908520"/>
              <a:ext cx="209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76240" y="3786120"/>
              <a:ext cx="209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85760" y="3908520"/>
              <a:ext cx="209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57200" y="41497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66720" y="41497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76240" y="41497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85760" y="41497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61960" y="426888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71480" y="426888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981000" y="426888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190520" y="426888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57200" y="48690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61960" y="48690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66720" y="48690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71480" y="48690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76240" y="48690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981000" y="48690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085760" y="48690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190520" y="48690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09760" y="49863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14520" y="49863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19280" y="49863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24040" y="49863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1243080" y="49863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1138320" y="49863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1033560" y="49863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928800" y="49863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09760" y="486900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61960" y="486900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14520" y="486900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66720" y="486900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19280" y="486900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71480" y="486900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24040" y="486900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76240" y="486900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928800" y="486900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981000" y="486900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033560" y="486900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085760" y="486900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138320" y="486900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190520" y="486900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243080" y="486900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61960" y="414972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66720" y="414972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71480" y="414972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76240" y="414972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81000" y="414972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085760" y="414972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190520" y="414972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6720" y="378612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76240" y="378612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085760" y="378612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76240" y="360828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57200" y="3970440"/>
              <a:ext cx="209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66720" y="4087800"/>
              <a:ext cx="209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76240" y="4087800"/>
              <a:ext cx="209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085760" y="3970440"/>
              <a:ext cx="209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66720" y="397044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085760" y="397044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57200" y="432756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66720" y="432756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76240" y="444816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085760" y="444816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61960" y="444816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71480" y="444816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981000" y="432756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190520" y="432756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61960" y="43275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66720" y="43275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71480" y="43275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981000" y="43275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085760" y="43275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190520" y="43275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57200" y="450684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66720" y="462924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76240" y="450684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85760" y="462924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61960" y="462924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71480" y="450684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981000" y="462924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190520" y="450684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61960" y="4506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71480" y="4506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981000" y="4506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190520" y="4506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57200" y="469116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66720" y="48085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76240" y="48085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085760" y="469116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61960" y="48085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71480" y="469116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981000" y="469116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190520" y="48085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61960" y="469116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71480" y="469116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76240" y="469116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981000" y="469116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190520" y="469116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57200" y="50482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61960" y="50482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66720" y="50482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71480" y="50482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76240" y="51703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81000" y="51703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085760" y="51703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190520" y="51703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9760" y="51703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14520" y="51703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19280" y="51703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24040" y="51703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1243080" y="50482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1138320" y="50482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1033560" y="50482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928800" y="50482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09760" y="504828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61960" y="504828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14520" y="504828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66720" y="504828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19280" y="504828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71480" y="504828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24040" y="504828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928800" y="504828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981000" y="504828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033560" y="504828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085760" y="504828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138320" y="504828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190520" y="504828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243080" y="504828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57200" y="522936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61960" y="522936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66720" y="534996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71480" y="534996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76240" y="522936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981000" y="522936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5760" y="534996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190520" y="534996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09760" y="53499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14520" y="53499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19280" y="52293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24040" y="52293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1243080" y="52293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1138320" y="52293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1033560" y="53499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928800" y="53499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09760" y="52293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61960" y="52293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14520" y="52293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19280" y="52293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71480" y="52293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24040" y="52293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928800" y="52293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981000" y="52293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033560" y="52293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138320" y="52293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190520" y="52293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243080" y="522936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57200" y="540864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61960" y="540864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66720" y="55278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71480" y="55278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76240" y="55278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81000" y="55278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085760" y="540864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90520" y="540864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09760" y="552780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14520" y="552780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19280" y="540864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24040" y="540864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1243080" y="552780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1138320" y="552780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1033560" y="540864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928800" y="540864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09760" y="540864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61960" y="540864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14520" y="540864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19280" y="540864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71480" y="540864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24040" y="540864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76240" y="540864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928800" y="540864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981000" y="540864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033560" y="540864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138320" y="540864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190520" y="540864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243080" y="540864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57200" y="55897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61960" y="57070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66720" y="55897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71480" y="57070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76240" y="55897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981000" y="57070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085760" y="55897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190520" y="57070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09760" y="57070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14520" y="55897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19280" y="57070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24040" y="55897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1243080" y="55897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1138320" y="57070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1033560" y="55897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928800" y="57070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09760" y="558972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14520" y="558972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19280" y="558972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24040" y="558972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928800" y="558972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033560" y="558972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138320" y="558972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243080" y="558972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7200" y="57690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61960" y="589104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66720" y="57690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71480" y="589104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76240" y="589104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981000" y="57690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085760" y="589104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190520" y="57690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09760" y="589104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14520" y="576900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19280" y="589104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24040" y="576900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1243080" y="589104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1138320" y="576900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1033560" y="589104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928800" y="576900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09760" y="576900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14520" y="576900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19280" y="576900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24040" y="576900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76240" y="576900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928800" y="576900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033560" y="576900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138320" y="576900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243080" y="5769000"/>
              <a:ext cx="0" cy="12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57200" y="59500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61960" y="60688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66720" y="60688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71480" y="59500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76240" y="59500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81000" y="60688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085760" y="60688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190520" y="59500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09760" y="60688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14520" y="59500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19280" y="59500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824040" y="60688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1243080" y="60688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1138320" y="59500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1033560" y="59500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928800" y="60688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09760" y="595008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14520" y="595008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66720" y="595008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19280" y="595008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24040" y="595008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76240" y="595008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928800" y="595008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033560" y="595008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085760" y="595008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138320" y="595008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243080" y="595008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57200" y="61279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61960" y="62485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66720" y="62485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71480" y="61279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76240" y="62485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981000" y="61279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085760" y="61279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190520" y="62485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09760" y="62485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4520" y="61279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19280" y="61279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824040" y="62485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1243080" y="61279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1138320" y="62485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1033560" y="62485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928800" y="612792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09760" y="612792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14520" y="612792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66720" y="612792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19280" y="612792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24040" y="612792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928800" y="612792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033560" y="612792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085760" y="612792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138320" y="612792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243080" y="612792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8" name=""/>
          <p:cNvSpPr txBox="1"/>
          <p:nvPr/>
        </p:nvSpPr>
        <p:spPr>
          <a:xfrm>
            <a:off x="457200" y="3124080"/>
            <a:ext cx="838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Walsh Fun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3247920" y="4210200"/>
            <a:ext cx="685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 Tx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1676520" y="3200400"/>
            <a:ext cx="685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bit DPS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1447920" y="3429000"/>
            <a:ext cx="457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371600" y="3638520"/>
            <a:ext cx="304920" cy="572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1676520" y="3695760"/>
            <a:ext cx="244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920960" y="3581280"/>
            <a:ext cx="2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041560" y="363852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981080" y="3695760"/>
            <a:ext cx="12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981080" y="3638520"/>
            <a:ext cx="122400" cy="1144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646280" y="3665520"/>
            <a:ext cx="6048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163600" y="3695760"/>
            <a:ext cx="42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04156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2895480" y="5424480"/>
            <a:ext cx="762120" cy="61920"/>
            <a:chOff x="2895480" y="5424480"/>
            <a:chExt cx="762120" cy="61920"/>
          </a:xfrm>
        </p:grpSpPr>
        <p:sp>
          <p:nvSpPr>
            <p:cNvPr id="1072" name=""/>
            <p:cNvSpPr/>
            <p:nvPr/>
          </p:nvSpPr>
          <p:spPr>
            <a:xfrm>
              <a:off x="2895480" y="542448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990880" y="548640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181320" y="54244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276720" y="548640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71760" y="542448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467160" y="54244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562200" y="548640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943360" y="548640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044880" y="5424480"/>
              <a:ext cx="136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228840" y="548640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3610080" y="54244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3514680" y="548640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3419640" y="548640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3324240" y="54244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43360" y="54244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038400" y="54244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228840" y="54244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24240" y="54244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419640" y="54244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467160" y="54244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514680" y="54244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610080" y="54244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4" name=""/>
          <p:cNvSpPr txBox="1"/>
          <p:nvPr/>
        </p:nvSpPr>
        <p:spPr>
          <a:xfrm>
            <a:off x="2819520" y="5181480"/>
            <a:ext cx="6858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4734000" y="3421080"/>
            <a:ext cx="1066680" cy="1989000"/>
            <a:chOff x="4734000" y="3421080"/>
            <a:chExt cx="1066680" cy="1989000"/>
          </a:xfrm>
        </p:grpSpPr>
        <p:sp>
          <p:nvSpPr>
            <p:cNvPr id="1096" name=""/>
            <p:cNvSpPr/>
            <p:nvPr/>
          </p:nvSpPr>
          <p:spPr>
            <a:xfrm>
              <a:off x="4809960" y="3429000"/>
              <a:ext cx="990720" cy="19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572080" y="350532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572080" y="373392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572080" y="396252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572080" y="419112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572080" y="441972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572080" y="464832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572080" y="487692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572080" y="510552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343480" y="361944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343480" y="40798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43480" y="451476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343480" y="49816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114880" y="474336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114880" y="38512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886280" y="43084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 txBox="1"/>
            <p:nvPr/>
          </p:nvSpPr>
          <p:spPr>
            <a:xfrm>
              <a:off x="4734000" y="3421080"/>
              <a:ext cx="9144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alsh correla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3" name=""/>
          <p:cNvSpPr txBox="1"/>
          <p:nvPr/>
        </p:nvSpPr>
        <p:spPr>
          <a:xfrm>
            <a:off x="4124160" y="403848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 Rx I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048200" y="48006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 Rx Q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6181560" y="388620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of 4 Magnitu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6181560" y="434340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of 4 Magnitu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6181560" y="480060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of 4 Magnitu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6181560" y="525780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of 4 Magnitu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5800680" y="3581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5800680" y="3657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5800680" y="3733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5800680" y="3809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105600" y="3575160"/>
            <a:ext cx="0" cy="585720"/>
          </a:xfrm>
          <a:prstGeom prst="line">
            <a:avLst/>
          </a:prstGeom>
          <a:ln w="3816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6029280" y="3962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 flipH="1">
            <a:off x="6029280" y="4038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6029280" y="41148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6029280" y="4191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791400" y="3886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7324560" y="3733920"/>
            <a:ext cx="1066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b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6791400" y="3962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with prev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7553160" y="3962520"/>
            <a:ext cx="8380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bit DP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7400880" y="41148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4505400" y="5791320"/>
            <a:ext cx="1905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efficient implementation of 16 complex correla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371600" y="4324320"/>
            <a:ext cx="304920" cy="572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676520" y="4381560"/>
            <a:ext cx="244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920960" y="4267080"/>
            <a:ext cx="2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041560" y="432432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981080" y="4381560"/>
            <a:ext cx="12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981080" y="4324320"/>
            <a:ext cx="122400" cy="1144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646280" y="4351320"/>
            <a:ext cx="6048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163600" y="4381560"/>
            <a:ext cx="42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041560" y="4038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371600" y="5162400"/>
            <a:ext cx="304920" cy="572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676520" y="5219640"/>
            <a:ext cx="244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920960" y="5105520"/>
            <a:ext cx="2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041560" y="51624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981080" y="5219640"/>
            <a:ext cx="12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981080" y="5162400"/>
            <a:ext cx="122400" cy="1144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646280" y="5189400"/>
            <a:ext cx="6048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163600" y="5219640"/>
            <a:ext cx="42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041560" y="487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371600" y="5924520"/>
            <a:ext cx="304920" cy="572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676520" y="5981760"/>
            <a:ext cx="244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920960" y="5867280"/>
            <a:ext cx="2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041560" y="592452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981080" y="5981760"/>
            <a:ext cx="12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981080" y="5924520"/>
            <a:ext cx="122400" cy="1144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646280" y="5951520"/>
            <a:ext cx="6048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163600" y="5981760"/>
            <a:ext cx="42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2041560" y="5486400"/>
            <a:ext cx="396720" cy="380880"/>
          </a:xfrm>
          <a:prstGeom prst="line">
            <a:avLst/>
          </a:prstGeom>
          <a:ln w="12600">
            <a:solidFill>
              <a:srgbClr val="919191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1447920" y="4114800"/>
            <a:ext cx="457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1447920" y="4952880"/>
            <a:ext cx="457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1676520" y="3886200"/>
            <a:ext cx="685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bit DPS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1676520" y="4724280"/>
            <a:ext cx="685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bit DPS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6791400" y="44197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with prev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6791400" y="48769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with prev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6791400" y="53341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with prev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6791400" y="4343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79140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6791400" y="52578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7400880" y="4572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740088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7400880" y="5486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7324560" y="4191120"/>
            <a:ext cx="1066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b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7324560" y="4648320"/>
            <a:ext cx="1066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b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7553160" y="4419720"/>
            <a:ext cx="8380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bit DP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7553160" y="4876920"/>
            <a:ext cx="8380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bit DP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666880" y="4632480"/>
            <a:ext cx="3240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H="1" flipV="1">
            <a:off x="2587680" y="4378320"/>
            <a:ext cx="17460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2587680" y="4924440"/>
            <a:ext cx="181080" cy="2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2590920" y="4937040"/>
            <a:ext cx="237960" cy="1044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2590920" y="3692520"/>
            <a:ext cx="237960" cy="94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3057480" y="4641840"/>
            <a:ext cx="3240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2987640" y="4788000"/>
            <a:ext cx="73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378240" y="47880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3209760" y="495288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2270160" y="6094440"/>
            <a:ext cx="5133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bits/symbol constrains the modulator to constant envelop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2286000" y="3276720"/>
            <a:ext cx="152640" cy="2210040"/>
          </a:xfrm>
          <a:custGeom>
            <a:avLst/>
            <a:gdLst/>
            <a:ahLst/>
            <a:rect l="0" t="0" r="r" b="b"/>
            <a:pathLst>
              <a:path fill="none" w="424" h="6139">
                <a:moveTo>
                  <a:pt x="424" y="6139"/>
                </a:moveTo>
                <a:lnTo>
                  <a:pt x="424" y="6139"/>
                </a:lnTo>
                <a:lnTo>
                  <a:pt x="424" y="6139"/>
                </a:lnTo>
                <a:cubicBezTo>
                  <a:pt x="424" y="5061"/>
                  <a:pt x="404" y="4003"/>
                  <a:pt x="367" y="3069"/>
                </a:cubicBezTo>
                <a:cubicBezTo>
                  <a:pt x="330" y="2136"/>
                  <a:pt x="276" y="1361"/>
                  <a:pt x="212" y="822"/>
                </a:cubicBezTo>
                <a:cubicBezTo>
                  <a:pt x="148" y="284"/>
                  <a:pt x="74" y="0"/>
                  <a:pt x="0" y="0"/>
                </a:cubicBezTo>
              </a:path>
            </a:pathLst>
          </a:custGeom>
          <a:ln w="12600">
            <a:solidFill>
              <a:srgbClr val="919191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2286000" y="4038480"/>
            <a:ext cx="152640" cy="1448280"/>
          </a:xfrm>
          <a:custGeom>
            <a:avLst/>
            <a:gdLst/>
            <a:ahLst/>
            <a:rect l="0" t="0" r="r" b="b"/>
            <a:pathLst>
              <a:path fill="none" w="424" h="4023">
                <a:moveTo>
                  <a:pt x="424" y="4023"/>
                </a:moveTo>
                <a:lnTo>
                  <a:pt x="424" y="4023"/>
                </a:lnTo>
                <a:lnTo>
                  <a:pt x="424" y="4023"/>
                </a:lnTo>
                <a:cubicBezTo>
                  <a:pt x="424" y="3317"/>
                  <a:pt x="404" y="2623"/>
                  <a:pt x="367" y="2011"/>
                </a:cubicBezTo>
                <a:cubicBezTo>
                  <a:pt x="330" y="1400"/>
                  <a:pt x="276" y="892"/>
                  <a:pt x="212" y="539"/>
                </a:cubicBezTo>
                <a:cubicBezTo>
                  <a:pt x="148" y="186"/>
                  <a:pt x="74" y="0"/>
                  <a:pt x="0" y="0"/>
                </a:cubicBezTo>
              </a:path>
            </a:pathLst>
          </a:custGeom>
          <a:ln w="12600">
            <a:solidFill>
              <a:srgbClr val="919191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2286000" y="4800600"/>
            <a:ext cx="152640" cy="686160"/>
          </a:xfrm>
          <a:custGeom>
            <a:avLst/>
            <a:gdLst/>
            <a:ahLst/>
            <a:rect l="0" t="0" r="r" b="b"/>
            <a:pathLst>
              <a:path fill="none" w="424" h="1906">
                <a:moveTo>
                  <a:pt x="424" y="1906"/>
                </a:moveTo>
                <a:lnTo>
                  <a:pt x="424" y="1906"/>
                </a:lnTo>
                <a:lnTo>
                  <a:pt x="424" y="1906"/>
                </a:lnTo>
                <a:cubicBezTo>
                  <a:pt x="424" y="1571"/>
                  <a:pt x="404" y="1243"/>
                  <a:pt x="367" y="953"/>
                </a:cubicBezTo>
                <a:cubicBezTo>
                  <a:pt x="330" y="663"/>
                  <a:pt x="276" y="423"/>
                  <a:pt x="212" y="255"/>
                </a:cubicBezTo>
                <a:cubicBezTo>
                  <a:pt x="148" y="88"/>
                  <a:pt x="74" y="0"/>
                  <a:pt x="0" y="0"/>
                </a:cubicBezTo>
              </a:path>
            </a:pathLst>
          </a:custGeom>
          <a:ln w="12600">
            <a:solidFill>
              <a:srgbClr val="919191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1447920" y="3581280"/>
            <a:ext cx="152640" cy="1981440"/>
          </a:xfrm>
          <a:custGeom>
            <a:avLst/>
            <a:gdLst/>
            <a:ahLst/>
            <a:rect l="0" t="0" r="r" b="b"/>
            <a:pathLst>
              <a:path fill="none" w="424" h="5504">
                <a:moveTo>
                  <a:pt x="424" y="0"/>
                </a:moveTo>
                <a:lnTo>
                  <a:pt x="424" y="0"/>
                </a:lnTo>
                <a:cubicBezTo>
                  <a:pt x="350" y="0"/>
                  <a:pt x="276" y="254"/>
                  <a:pt x="212" y="737"/>
                </a:cubicBezTo>
                <a:cubicBezTo>
                  <a:pt x="148" y="1220"/>
                  <a:pt x="94" y="1915"/>
                  <a:pt x="57" y="2752"/>
                </a:cubicBezTo>
                <a:cubicBezTo>
                  <a:pt x="20" y="3589"/>
                  <a:pt x="0" y="4538"/>
                  <a:pt x="0" y="5504"/>
                </a:cubicBezTo>
              </a:path>
            </a:pathLst>
          </a:custGeom>
          <a:ln w="12600">
            <a:solidFill>
              <a:srgbClr val="919191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1447920" y="4267080"/>
            <a:ext cx="152640" cy="1219680"/>
          </a:xfrm>
          <a:custGeom>
            <a:avLst/>
            <a:gdLst/>
            <a:ahLst/>
            <a:rect l="0" t="0" r="r" b="b"/>
            <a:pathLst>
              <a:path fill="none" w="424" h="3388">
                <a:moveTo>
                  <a:pt x="424" y="0"/>
                </a:moveTo>
                <a:lnTo>
                  <a:pt x="424" y="0"/>
                </a:lnTo>
                <a:cubicBezTo>
                  <a:pt x="350" y="0"/>
                  <a:pt x="276" y="157"/>
                  <a:pt x="212" y="454"/>
                </a:cubicBezTo>
                <a:cubicBezTo>
                  <a:pt x="148" y="751"/>
                  <a:pt x="94" y="1179"/>
                  <a:pt x="57" y="1694"/>
                </a:cubicBezTo>
                <a:cubicBezTo>
                  <a:pt x="20" y="2209"/>
                  <a:pt x="0" y="2793"/>
                  <a:pt x="0" y="3388"/>
                </a:cubicBezTo>
              </a:path>
            </a:pathLst>
          </a:custGeom>
          <a:ln w="12600">
            <a:solidFill>
              <a:srgbClr val="919191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1447920" y="5105520"/>
            <a:ext cx="152640" cy="457560"/>
          </a:xfrm>
          <a:custGeom>
            <a:avLst/>
            <a:gdLst/>
            <a:ahLst/>
            <a:rect l="0" t="0" r="r" b="b"/>
            <a:pathLst>
              <a:path fill="none" w="424" h="1271">
                <a:moveTo>
                  <a:pt x="424" y="0"/>
                </a:moveTo>
                <a:lnTo>
                  <a:pt x="424" y="0"/>
                </a:lnTo>
                <a:cubicBezTo>
                  <a:pt x="350" y="0"/>
                  <a:pt x="276" y="59"/>
                  <a:pt x="212" y="170"/>
                </a:cubicBezTo>
                <a:cubicBezTo>
                  <a:pt x="148" y="282"/>
                  <a:pt x="94" y="442"/>
                  <a:pt x="57" y="636"/>
                </a:cubicBezTo>
                <a:cubicBezTo>
                  <a:pt x="20" y="829"/>
                  <a:pt x="0" y="1048"/>
                  <a:pt x="0" y="1271"/>
                </a:cubicBezTo>
              </a:path>
            </a:pathLst>
          </a:custGeom>
          <a:ln w="12600">
            <a:solidFill>
              <a:srgbClr val="919191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1447920" y="5562720"/>
            <a:ext cx="136440" cy="304560"/>
          </a:xfrm>
          <a:prstGeom prst="line">
            <a:avLst/>
          </a:prstGeom>
          <a:ln w="12600">
            <a:solidFill>
              <a:srgbClr val="919191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7553160" y="518148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ncy check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4343400" y="1828800"/>
            <a:ext cx="175248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-/18-Mbps Data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7" name=""/>
          <p:cNvGrpSpPr/>
          <p:nvPr/>
        </p:nvGrpSpPr>
        <p:grpSpPr>
          <a:xfrm>
            <a:off x="4987800" y="3821040"/>
            <a:ext cx="1067040" cy="1989000"/>
            <a:chOff x="4987800" y="3821040"/>
            <a:chExt cx="1067040" cy="1989000"/>
          </a:xfrm>
        </p:grpSpPr>
        <p:sp>
          <p:nvSpPr>
            <p:cNvPr id="1198" name=""/>
            <p:cNvSpPr/>
            <p:nvPr/>
          </p:nvSpPr>
          <p:spPr>
            <a:xfrm>
              <a:off x="5064120" y="3828960"/>
              <a:ext cx="990720" cy="19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826240" y="39052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826240" y="41338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826240" y="43624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826240" y="45910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826240" y="48196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826240" y="50482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826240" y="52768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826240" y="55054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597640" y="401940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597640" y="447984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597640" y="49150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597640" y="538164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369040" y="51436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369040" y="425124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140440" y="470844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 txBox="1"/>
            <p:nvPr/>
          </p:nvSpPr>
          <p:spPr>
            <a:xfrm>
              <a:off x="4987800" y="3821040"/>
              <a:ext cx="9144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alsh correla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5" name=""/>
          <p:cNvSpPr/>
          <p:nvPr/>
        </p:nvSpPr>
        <p:spPr>
          <a:xfrm>
            <a:off x="4276800" y="44197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511520" y="48322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7" name="" descr=""/>
          <p:cNvPicPr/>
          <p:nvPr/>
        </p:nvPicPr>
        <p:blipFill>
          <a:blip r:embed="rId1"/>
          <a:stretch/>
        </p:blipFill>
        <p:spPr>
          <a:xfrm>
            <a:off x="781200" y="4400640"/>
            <a:ext cx="3394080" cy="1995480"/>
          </a:xfrm>
          <a:prstGeom prst="rect">
            <a:avLst/>
          </a:prstGeom>
          <a:ln w="0">
            <a:noFill/>
          </a:ln>
        </p:spPr>
      </p:pic>
      <p:pic>
        <p:nvPicPr>
          <p:cNvPr id="1218" name="" descr=""/>
          <p:cNvPicPr/>
          <p:nvPr/>
        </p:nvPicPr>
        <p:blipFill>
          <a:blip r:embed="rId2"/>
          <a:stretch/>
        </p:blipFill>
        <p:spPr>
          <a:xfrm>
            <a:off x="4514760" y="4400640"/>
            <a:ext cx="3394080" cy="1995480"/>
          </a:xfrm>
          <a:prstGeom prst="rect">
            <a:avLst/>
          </a:prstGeom>
          <a:ln w="0">
            <a:noFill/>
          </a:ln>
        </p:spPr>
      </p:pic>
      <p:pic>
        <p:nvPicPr>
          <p:cNvPr id="1219" name="" descr=""/>
          <p:cNvPicPr/>
          <p:nvPr/>
        </p:nvPicPr>
        <p:blipFill>
          <a:blip r:embed="rId3"/>
          <a:stretch/>
        </p:blipFill>
        <p:spPr>
          <a:xfrm>
            <a:off x="4514760" y="2190600"/>
            <a:ext cx="3394080" cy="1995480"/>
          </a:xfrm>
          <a:prstGeom prst="rect">
            <a:avLst/>
          </a:prstGeom>
          <a:ln w="0">
            <a:noFill/>
          </a:ln>
        </p:spPr>
      </p:pic>
      <p:pic>
        <p:nvPicPr>
          <p:cNvPr id="1220" name="" descr=""/>
          <p:cNvPicPr/>
          <p:nvPr/>
        </p:nvPicPr>
        <p:blipFill>
          <a:blip r:embed="rId4"/>
          <a:stretch/>
        </p:blipFill>
        <p:spPr>
          <a:xfrm>
            <a:off x="781200" y="2190600"/>
            <a:ext cx="3394080" cy="1995480"/>
          </a:xfrm>
          <a:prstGeom prst="rect">
            <a:avLst/>
          </a:prstGeom>
          <a:ln w="0">
            <a:noFill/>
          </a:ln>
        </p:spPr>
      </p:pic>
      <p:sp>
        <p:nvSpPr>
          <p:cNvPr id="122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Tx Wavefo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162320" y="31910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4238640" y="4181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162320" y="5400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1676520" y="1676520"/>
            <a:ext cx="152640" cy="152640"/>
            <a:chOff x="1676520" y="1676520"/>
            <a:chExt cx="152640" cy="152640"/>
          </a:xfrm>
        </p:grpSpPr>
        <p:sp>
          <p:nvSpPr>
            <p:cNvPr id="1226" name=""/>
            <p:cNvSpPr/>
            <p:nvPr/>
          </p:nvSpPr>
          <p:spPr>
            <a:xfrm>
              <a:off x="175248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424"/>
                  </a:moveTo>
                  <a:lnTo>
                    <a:pt x="213" y="424"/>
                  </a:lnTo>
                  <a:lnTo>
                    <a:pt x="213" y="424"/>
                  </a:lnTo>
                  <a:lnTo>
                    <a:pt x="213" y="424"/>
                  </a:lnTo>
                  <a:cubicBezTo>
                    <a:pt x="213" y="350"/>
                    <a:pt x="203" y="276"/>
                    <a:pt x="184" y="212"/>
                  </a:cubicBezTo>
                  <a:cubicBezTo>
                    <a:pt x="166" y="148"/>
                    <a:pt x="139" y="94"/>
                    <a:pt x="106" y="57"/>
                  </a:cubicBezTo>
                  <a:cubicBezTo>
                    <a:pt x="74" y="20"/>
                    <a:pt x="37" y="0"/>
                    <a:pt x="0" y="0"/>
                  </a:cubicBezTo>
                  <a:lnTo>
                    <a:pt x="0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67652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424"/>
                  </a:moveTo>
                  <a:lnTo>
                    <a:pt x="213" y="0"/>
                  </a:lnTo>
                  <a:lnTo>
                    <a:pt x="213" y="0"/>
                  </a:lnTo>
                  <a:cubicBezTo>
                    <a:pt x="176" y="0"/>
                    <a:pt x="139" y="20"/>
                    <a:pt x="106" y="57"/>
                  </a:cubicBezTo>
                  <a:cubicBezTo>
                    <a:pt x="74" y="94"/>
                    <a:pt x="47" y="148"/>
                    <a:pt x="29" y="212"/>
                  </a:cubicBezTo>
                  <a:cubicBezTo>
                    <a:pt x="10" y="276"/>
                    <a:pt x="0" y="350"/>
                    <a:pt x="0" y="424"/>
                  </a:cubicBezTo>
                  <a:lnTo>
                    <a:pt x="213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67652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1752480" y="1676520"/>
            <a:ext cx="153000" cy="152640"/>
            <a:chOff x="1752480" y="1676520"/>
            <a:chExt cx="153000" cy="152640"/>
          </a:xfrm>
        </p:grpSpPr>
        <p:sp>
          <p:nvSpPr>
            <p:cNvPr id="1230" name=""/>
            <p:cNvSpPr/>
            <p:nvPr/>
          </p:nvSpPr>
          <p:spPr>
            <a:xfrm>
              <a:off x="182880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424"/>
                  </a:moveTo>
                  <a:lnTo>
                    <a:pt x="213" y="424"/>
                  </a:lnTo>
                  <a:lnTo>
                    <a:pt x="213" y="424"/>
                  </a:lnTo>
                  <a:lnTo>
                    <a:pt x="213" y="424"/>
                  </a:lnTo>
                  <a:cubicBezTo>
                    <a:pt x="213" y="350"/>
                    <a:pt x="203" y="276"/>
                    <a:pt x="184" y="212"/>
                  </a:cubicBezTo>
                  <a:cubicBezTo>
                    <a:pt x="166" y="148"/>
                    <a:pt x="139" y="94"/>
                    <a:pt x="106" y="57"/>
                  </a:cubicBezTo>
                  <a:cubicBezTo>
                    <a:pt x="74" y="20"/>
                    <a:pt x="37" y="0"/>
                    <a:pt x="0" y="0"/>
                  </a:cubicBezTo>
                  <a:lnTo>
                    <a:pt x="0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75248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424"/>
                  </a:moveTo>
                  <a:lnTo>
                    <a:pt x="213" y="0"/>
                  </a:lnTo>
                  <a:lnTo>
                    <a:pt x="213" y="0"/>
                  </a:lnTo>
                  <a:cubicBezTo>
                    <a:pt x="176" y="0"/>
                    <a:pt x="139" y="20"/>
                    <a:pt x="106" y="57"/>
                  </a:cubicBezTo>
                  <a:cubicBezTo>
                    <a:pt x="74" y="94"/>
                    <a:pt x="47" y="148"/>
                    <a:pt x="29" y="212"/>
                  </a:cubicBezTo>
                  <a:cubicBezTo>
                    <a:pt x="10" y="276"/>
                    <a:pt x="0" y="350"/>
                    <a:pt x="0" y="424"/>
                  </a:cubicBezTo>
                  <a:lnTo>
                    <a:pt x="213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752480" y="1828800"/>
              <a:ext cx="152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3" name=""/>
          <p:cNvGrpSpPr/>
          <p:nvPr/>
        </p:nvGrpSpPr>
        <p:grpSpPr>
          <a:xfrm>
            <a:off x="1828800" y="1676520"/>
            <a:ext cx="153000" cy="152640"/>
            <a:chOff x="1828800" y="1676520"/>
            <a:chExt cx="153000" cy="152640"/>
          </a:xfrm>
        </p:grpSpPr>
        <p:sp>
          <p:nvSpPr>
            <p:cNvPr id="1234" name=""/>
            <p:cNvSpPr/>
            <p:nvPr/>
          </p:nvSpPr>
          <p:spPr>
            <a:xfrm>
              <a:off x="190512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424"/>
                  </a:moveTo>
                  <a:lnTo>
                    <a:pt x="213" y="424"/>
                  </a:lnTo>
                  <a:lnTo>
                    <a:pt x="213" y="424"/>
                  </a:lnTo>
                  <a:lnTo>
                    <a:pt x="213" y="424"/>
                  </a:lnTo>
                  <a:cubicBezTo>
                    <a:pt x="213" y="350"/>
                    <a:pt x="203" y="276"/>
                    <a:pt x="184" y="212"/>
                  </a:cubicBezTo>
                  <a:cubicBezTo>
                    <a:pt x="166" y="148"/>
                    <a:pt x="139" y="94"/>
                    <a:pt x="106" y="57"/>
                  </a:cubicBezTo>
                  <a:cubicBezTo>
                    <a:pt x="74" y="20"/>
                    <a:pt x="37" y="0"/>
                    <a:pt x="0" y="0"/>
                  </a:cubicBezTo>
                  <a:lnTo>
                    <a:pt x="0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82880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424"/>
                  </a:moveTo>
                  <a:lnTo>
                    <a:pt x="213" y="0"/>
                  </a:lnTo>
                  <a:lnTo>
                    <a:pt x="213" y="0"/>
                  </a:lnTo>
                  <a:cubicBezTo>
                    <a:pt x="176" y="0"/>
                    <a:pt x="139" y="20"/>
                    <a:pt x="106" y="57"/>
                  </a:cubicBezTo>
                  <a:cubicBezTo>
                    <a:pt x="74" y="94"/>
                    <a:pt x="47" y="148"/>
                    <a:pt x="29" y="212"/>
                  </a:cubicBezTo>
                  <a:cubicBezTo>
                    <a:pt x="10" y="276"/>
                    <a:pt x="0" y="350"/>
                    <a:pt x="0" y="424"/>
                  </a:cubicBezTo>
                  <a:lnTo>
                    <a:pt x="213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82880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1905120" y="1676520"/>
            <a:ext cx="152640" cy="152640"/>
            <a:chOff x="1905120" y="1676520"/>
            <a:chExt cx="152640" cy="152640"/>
          </a:xfrm>
        </p:grpSpPr>
        <p:sp>
          <p:nvSpPr>
            <p:cNvPr id="1238" name=""/>
            <p:cNvSpPr/>
            <p:nvPr/>
          </p:nvSpPr>
          <p:spPr>
            <a:xfrm>
              <a:off x="198108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424"/>
                  </a:moveTo>
                  <a:lnTo>
                    <a:pt x="213" y="424"/>
                  </a:lnTo>
                  <a:lnTo>
                    <a:pt x="213" y="424"/>
                  </a:lnTo>
                  <a:lnTo>
                    <a:pt x="213" y="424"/>
                  </a:lnTo>
                  <a:cubicBezTo>
                    <a:pt x="213" y="350"/>
                    <a:pt x="203" y="276"/>
                    <a:pt x="184" y="212"/>
                  </a:cubicBezTo>
                  <a:cubicBezTo>
                    <a:pt x="166" y="148"/>
                    <a:pt x="139" y="94"/>
                    <a:pt x="106" y="57"/>
                  </a:cubicBezTo>
                  <a:cubicBezTo>
                    <a:pt x="74" y="20"/>
                    <a:pt x="37" y="0"/>
                    <a:pt x="0" y="0"/>
                  </a:cubicBezTo>
                  <a:lnTo>
                    <a:pt x="0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90512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424"/>
                  </a:moveTo>
                  <a:lnTo>
                    <a:pt x="213" y="0"/>
                  </a:lnTo>
                  <a:lnTo>
                    <a:pt x="213" y="0"/>
                  </a:lnTo>
                  <a:cubicBezTo>
                    <a:pt x="176" y="0"/>
                    <a:pt x="139" y="20"/>
                    <a:pt x="106" y="57"/>
                  </a:cubicBezTo>
                  <a:cubicBezTo>
                    <a:pt x="74" y="94"/>
                    <a:pt x="47" y="148"/>
                    <a:pt x="29" y="212"/>
                  </a:cubicBezTo>
                  <a:cubicBezTo>
                    <a:pt x="10" y="276"/>
                    <a:pt x="0" y="350"/>
                    <a:pt x="0" y="424"/>
                  </a:cubicBezTo>
                  <a:lnTo>
                    <a:pt x="213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90512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1981080" y="1676520"/>
            <a:ext cx="153000" cy="152640"/>
            <a:chOff x="1981080" y="1676520"/>
            <a:chExt cx="153000" cy="152640"/>
          </a:xfrm>
        </p:grpSpPr>
        <p:sp>
          <p:nvSpPr>
            <p:cNvPr id="1242" name=""/>
            <p:cNvSpPr/>
            <p:nvPr/>
          </p:nvSpPr>
          <p:spPr>
            <a:xfrm>
              <a:off x="205740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424"/>
                  </a:moveTo>
                  <a:lnTo>
                    <a:pt x="213" y="424"/>
                  </a:lnTo>
                  <a:lnTo>
                    <a:pt x="213" y="424"/>
                  </a:lnTo>
                  <a:lnTo>
                    <a:pt x="213" y="424"/>
                  </a:lnTo>
                  <a:cubicBezTo>
                    <a:pt x="213" y="350"/>
                    <a:pt x="203" y="276"/>
                    <a:pt x="184" y="212"/>
                  </a:cubicBezTo>
                  <a:cubicBezTo>
                    <a:pt x="166" y="148"/>
                    <a:pt x="139" y="94"/>
                    <a:pt x="106" y="57"/>
                  </a:cubicBezTo>
                  <a:cubicBezTo>
                    <a:pt x="74" y="20"/>
                    <a:pt x="37" y="0"/>
                    <a:pt x="0" y="0"/>
                  </a:cubicBezTo>
                  <a:lnTo>
                    <a:pt x="0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98108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424"/>
                  </a:moveTo>
                  <a:lnTo>
                    <a:pt x="213" y="0"/>
                  </a:lnTo>
                  <a:lnTo>
                    <a:pt x="213" y="0"/>
                  </a:lnTo>
                  <a:cubicBezTo>
                    <a:pt x="176" y="0"/>
                    <a:pt x="139" y="20"/>
                    <a:pt x="106" y="57"/>
                  </a:cubicBezTo>
                  <a:cubicBezTo>
                    <a:pt x="74" y="94"/>
                    <a:pt x="47" y="148"/>
                    <a:pt x="29" y="212"/>
                  </a:cubicBezTo>
                  <a:cubicBezTo>
                    <a:pt x="10" y="276"/>
                    <a:pt x="0" y="350"/>
                    <a:pt x="0" y="424"/>
                  </a:cubicBezTo>
                  <a:lnTo>
                    <a:pt x="213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981080" y="1828800"/>
              <a:ext cx="152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2057400" y="1676520"/>
            <a:ext cx="153000" cy="152640"/>
            <a:chOff x="2057400" y="1676520"/>
            <a:chExt cx="153000" cy="152640"/>
          </a:xfrm>
        </p:grpSpPr>
        <p:sp>
          <p:nvSpPr>
            <p:cNvPr id="1246" name=""/>
            <p:cNvSpPr/>
            <p:nvPr/>
          </p:nvSpPr>
          <p:spPr>
            <a:xfrm>
              <a:off x="213372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424"/>
                  </a:moveTo>
                  <a:lnTo>
                    <a:pt x="213" y="424"/>
                  </a:lnTo>
                  <a:lnTo>
                    <a:pt x="213" y="424"/>
                  </a:lnTo>
                  <a:lnTo>
                    <a:pt x="213" y="424"/>
                  </a:lnTo>
                  <a:cubicBezTo>
                    <a:pt x="213" y="350"/>
                    <a:pt x="203" y="276"/>
                    <a:pt x="184" y="212"/>
                  </a:cubicBezTo>
                  <a:cubicBezTo>
                    <a:pt x="166" y="148"/>
                    <a:pt x="139" y="94"/>
                    <a:pt x="106" y="57"/>
                  </a:cubicBezTo>
                  <a:cubicBezTo>
                    <a:pt x="74" y="20"/>
                    <a:pt x="37" y="0"/>
                    <a:pt x="0" y="0"/>
                  </a:cubicBezTo>
                  <a:lnTo>
                    <a:pt x="0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05740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424"/>
                  </a:moveTo>
                  <a:lnTo>
                    <a:pt x="213" y="0"/>
                  </a:lnTo>
                  <a:lnTo>
                    <a:pt x="213" y="0"/>
                  </a:lnTo>
                  <a:cubicBezTo>
                    <a:pt x="176" y="0"/>
                    <a:pt x="139" y="20"/>
                    <a:pt x="106" y="57"/>
                  </a:cubicBezTo>
                  <a:cubicBezTo>
                    <a:pt x="74" y="94"/>
                    <a:pt x="47" y="148"/>
                    <a:pt x="29" y="212"/>
                  </a:cubicBezTo>
                  <a:cubicBezTo>
                    <a:pt x="10" y="276"/>
                    <a:pt x="0" y="350"/>
                    <a:pt x="0" y="424"/>
                  </a:cubicBezTo>
                  <a:lnTo>
                    <a:pt x="213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05740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2133720" y="1676520"/>
            <a:ext cx="152640" cy="152640"/>
            <a:chOff x="2133720" y="1676520"/>
            <a:chExt cx="152640" cy="152640"/>
          </a:xfrm>
        </p:grpSpPr>
        <p:sp>
          <p:nvSpPr>
            <p:cNvPr id="1250" name=""/>
            <p:cNvSpPr/>
            <p:nvPr/>
          </p:nvSpPr>
          <p:spPr>
            <a:xfrm>
              <a:off x="220968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424"/>
                  </a:moveTo>
                  <a:lnTo>
                    <a:pt x="213" y="424"/>
                  </a:lnTo>
                  <a:lnTo>
                    <a:pt x="213" y="424"/>
                  </a:lnTo>
                  <a:lnTo>
                    <a:pt x="213" y="424"/>
                  </a:lnTo>
                  <a:cubicBezTo>
                    <a:pt x="213" y="350"/>
                    <a:pt x="203" y="276"/>
                    <a:pt x="184" y="212"/>
                  </a:cubicBezTo>
                  <a:cubicBezTo>
                    <a:pt x="166" y="148"/>
                    <a:pt x="139" y="94"/>
                    <a:pt x="106" y="57"/>
                  </a:cubicBezTo>
                  <a:cubicBezTo>
                    <a:pt x="74" y="20"/>
                    <a:pt x="37" y="0"/>
                    <a:pt x="0" y="0"/>
                  </a:cubicBezTo>
                  <a:lnTo>
                    <a:pt x="0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13372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424"/>
                  </a:moveTo>
                  <a:lnTo>
                    <a:pt x="213" y="0"/>
                  </a:lnTo>
                  <a:lnTo>
                    <a:pt x="213" y="0"/>
                  </a:lnTo>
                  <a:cubicBezTo>
                    <a:pt x="176" y="0"/>
                    <a:pt x="139" y="20"/>
                    <a:pt x="106" y="57"/>
                  </a:cubicBezTo>
                  <a:cubicBezTo>
                    <a:pt x="74" y="94"/>
                    <a:pt x="47" y="148"/>
                    <a:pt x="29" y="212"/>
                  </a:cubicBezTo>
                  <a:cubicBezTo>
                    <a:pt x="10" y="276"/>
                    <a:pt x="0" y="350"/>
                    <a:pt x="0" y="424"/>
                  </a:cubicBezTo>
                  <a:lnTo>
                    <a:pt x="213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13372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2209680" y="1676520"/>
            <a:ext cx="153000" cy="152640"/>
            <a:chOff x="2209680" y="1676520"/>
            <a:chExt cx="153000" cy="152640"/>
          </a:xfrm>
        </p:grpSpPr>
        <p:sp>
          <p:nvSpPr>
            <p:cNvPr id="1254" name=""/>
            <p:cNvSpPr/>
            <p:nvPr/>
          </p:nvSpPr>
          <p:spPr>
            <a:xfrm>
              <a:off x="228600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424"/>
                  </a:moveTo>
                  <a:lnTo>
                    <a:pt x="213" y="424"/>
                  </a:lnTo>
                  <a:lnTo>
                    <a:pt x="213" y="424"/>
                  </a:lnTo>
                  <a:lnTo>
                    <a:pt x="213" y="424"/>
                  </a:lnTo>
                  <a:cubicBezTo>
                    <a:pt x="213" y="350"/>
                    <a:pt x="203" y="276"/>
                    <a:pt x="184" y="212"/>
                  </a:cubicBezTo>
                  <a:cubicBezTo>
                    <a:pt x="166" y="148"/>
                    <a:pt x="139" y="94"/>
                    <a:pt x="106" y="57"/>
                  </a:cubicBezTo>
                  <a:cubicBezTo>
                    <a:pt x="74" y="20"/>
                    <a:pt x="37" y="0"/>
                    <a:pt x="0" y="0"/>
                  </a:cubicBezTo>
                  <a:lnTo>
                    <a:pt x="0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20968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424"/>
                  </a:moveTo>
                  <a:lnTo>
                    <a:pt x="213" y="0"/>
                  </a:lnTo>
                  <a:lnTo>
                    <a:pt x="213" y="0"/>
                  </a:lnTo>
                  <a:cubicBezTo>
                    <a:pt x="176" y="0"/>
                    <a:pt x="139" y="20"/>
                    <a:pt x="106" y="57"/>
                  </a:cubicBezTo>
                  <a:cubicBezTo>
                    <a:pt x="74" y="94"/>
                    <a:pt x="47" y="148"/>
                    <a:pt x="29" y="212"/>
                  </a:cubicBezTo>
                  <a:cubicBezTo>
                    <a:pt x="10" y="276"/>
                    <a:pt x="0" y="350"/>
                    <a:pt x="0" y="424"/>
                  </a:cubicBezTo>
                  <a:lnTo>
                    <a:pt x="213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209680" y="1828800"/>
              <a:ext cx="152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"/>
          <p:cNvGrpSpPr/>
          <p:nvPr/>
        </p:nvGrpSpPr>
        <p:grpSpPr>
          <a:xfrm>
            <a:off x="2286000" y="1676520"/>
            <a:ext cx="153000" cy="152640"/>
            <a:chOff x="2286000" y="1676520"/>
            <a:chExt cx="153000" cy="152640"/>
          </a:xfrm>
        </p:grpSpPr>
        <p:sp>
          <p:nvSpPr>
            <p:cNvPr id="1258" name=""/>
            <p:cNvSpPr/>
            <p:nvPr/>
          </p:nvSpPr>
          <p:spPr>
            <a:xfrm>
              <a:off x="236232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424"/>
                  </a:moveTo>
                  <a:lnTo>
                    <a:pt x="213" y="424"/>
                  </a:lnTo>
                  <a:lnTo>
                    <a:pt x="213" y="424"/>
                  </a:lnTo>
                  <a:lnTo>
                    <a:pt x="213" y="424"/>
                  </a:lnTo>
                  <a:cubicBezTo>
                    <a:pt x="213" y="350"/>
                    <a:pt x="203" y="276"/>
                    <a:pt x="184" y="212"/>
                  </a:cubicBezTo>
                  <a:cubicBezTo>
                    <a:pt x="166" y="148"/>
                    <a:pt x="139" y="94"/>
                    <a:pt x="106" y="57"/>
                  </a:cubicBezTo>
                  <a:cubicBezTo>
                    <a:pt x="74" y="20"/>
                    <a:pt x="37" y="0"/>
                    <a:pt x="0" y="0"/>
                  </a:cubicBezTo>
                  <a:lnTo>
                    <a:pt x="0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28600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424"/>
                  </a:moveTo>
                  <a:lnTo>
                    <a:pt x="213" y="0"/>
                  </a:lnTo>
                  <a:lnTo>
                    <a:pt x="213" y="0"/>
                  </a:lnTo>
                  <a:cubicBezTo>
                    <a:pt x="176" y="0"/>
                    <a:pt x="139" y="20"/>
                    <a:pt x="106" y="57"/>
                  </a:cubicBezTo>
                  <a:cubicBezTo>
                    <a:pt x="74" y="94"/>
                    <a:pt x="47" y="148"/>
                    <a:pt x="29" y="212"/>
                  </a:cubicBezTo>
                  <a:cubicBezTo>
                    <a:pt x="10" y="276"/>
                    <a:pt x="0" y="350"/>
                    <a:pt x="0" y="424"/>
                  </a:cubicBezTo>
                  <a:lnTo>
                    <a:pt x="213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28600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1" name=""/>
          <p:cNvGrpSpPr/>
          <p:nvPr/>
        </p:nvGrpSpPr>
        <p:grpSpPr>
          <a:xfrm>
            <a:off x="2362320" y="1676520"/>
            <a:ext cx="152640" cy="152640"/>
            <a:chOff x="2362320" y="1676520"/>
            <a:chExt cx="152640" cy="152640"/>
          </a:xfrm>
        </p:grpSpPr>
        <p:sp>
          <p:nvSpPr>
            <p:cNvPr id="1262" name=""/>
            <p:cNvSpPr/>
            <p:nvPr/>
          </p:nvSpPr>
          <p:spPr>
            <a:xfrm>
              <a:off x="243828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424"/>
                  </a:moveTo>
                  <a:lnTo>
                    <a:pt x="213" y="424"/>
                  </a:lnTo>
                  <a:lnTo>
                    <a:pt x="213" y="424"/>
                  </a:lnTo>
                  <a:lnTo>
                    <a:pt x="213" y="424"/>
                  </a:lnTo>
                  <a:cubicBezTo>
                    <a:pt x="213" y="350"/>
                    <a:pt x="203" y="276"/>
                    <a:pt x="184" y="212"/>
                  </a:cubicBezTo>
                  <a:cubicBezTo>
                    <a:pt x="166" y="148"/>
                    <a:pt x="139" y="94"/>
                    <a:pt x="106" y="57"/>
                  </a:cubicBezTo>
                  <a:cubicBezTo>
                    <a:pt x="74" y="20"/>
                    <a:pt x="37" y="0"/>
                    <a:pt x="0" y="0"/>
                  </a:cubicBezTo>
                  <a:lnTo>
                    <a:pt x="0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36232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424"/>
                  </a:moveTo>
                  <a:lnTo>
                    <a:pt x="213" y="0"/>
                  </a:lnTo>
                  <a:lnTo>
                    <a:pt x="213" y="0"/>
                  </a:lnTo>
                  <a:cubicBezTo>
                    <a:pt x="176" y="0"/>
                    <a:pt x="139" y="20"/>
                    <a:pt x="106" y="57"/>
                  </a:cubicBezTo>
                  <a:cubicBezTo>
                    <a:pt x="74" y="94"/>
                    <a:pt x="47" y="148"/>
                    <a:pt x="29" y="212"/>
                  </a:cubicBezTo>
                  <a:cubicBezTo>
                    <a:pt x="10" y="276"/>
                    <a:pt x="0" y="350"/>
                    <a:pt x="0" y="424"/>
                  </a:cubicBezTo>
                  <a:lnTo>
                    <a:pt x="213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36232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5" name=""/>
          <p:cNvGrpSpPr/>
          <p:nvPr/>
        </p:nvGrpSpPr>
        <p:grpSpPr>
          <a:xfrm>
            <a:off x="2438280" y="1676520"/>
            <a:ext cx="153000" cy="152640"/>
            <a:chOff x="2438280" y="1676520"/>
            <a:chExt cx="153000" cy="152640"/>
          </a:xfrm>
        </p:grpSpPr>
        <p:sp>
          <p:nvSpPr>
            <p:cNvPr id="1266" name=""/>
            <p:cNvSpPr/>
            <p:nvPr/>
          </p:nvSpPr>
          <p:spPr>
            <a:xfrm>
              <a:off x="251460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424"/>
                  </a:moveTo>
                  <a:lnTo>
                    <a:pt x="213" y="424"/>
                  </a:lnTo>
                  <a:lnTo>
                    <a:pt x="213" y="424"/>
                  </a:lnTo>
                  <a:lnTo>
                    <a:pt x="213" y="424"/>
                  </a:lnTo>
                  <a:cubicBezTo>
                    <a:pt x="213" y="350"/>
                    <a:pt x="203" y="276"/>
                    <a:pt x="184" y="212"/>
                  </a:cubicBezTo>
                  <a:cubicBezTo>
                    <a:pt x="166" y="148"/>
                    <a:pt x="139" y="94"/>
                    <a:pt x="106" y="57"/>
                  </a:cubicBezTo>
                  <a:cubicBezTo>
                    <a:pt x="74" y="20"/>
                    <a:pt x="37" y="0"/>
                    <a:pt x="0" y="0"/>
                  </a:cubicBezTo>
                  <a:lnTo>
                    <a:pt x="0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43828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424"/>
                  </a:moveTo>
                  <a:lnTo>
                    <a:pt x="213" y="0"/>
                  </a:lnTo>
                  <a:lnTo>
                    <a:pt x="213" y="0"/>
                  </a:lnTo>
                  <a:cubicBezTo>
                    <a:pt x="176" y="0"/>
                    <a:pt x="139" y="20"/>
                    <a:pt x="106" y="57"/>
                  </a:cubicBezTo>
                  <a:cubicBezTo>
                    <a:pt x="74" y="94"/>
                    <a:pt x="47" y="148"/>
                    <a:pt x="29" y="212"/>
                  </a:cubicBezTo>
                  <a:cubicBezTo>
                    <a:pt x="10" y="276"/>
                    <a:pt x="0" y="350"/>
                    <a:pt x="0" y="424"/>
                  </a:cubicBezTo>
                  <a:lnTo>
                    <a:pt x="213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438280" y="1828800"/>
              <a:ext cx="152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"/>
          <p:cNvGrpSpPr/>
          <p:nvPr/>
        </p:nvGrpSpPr>
        <p:grpSpPr>
          <a:xfrm>
            <a:off x="2514600" y="1676520"/>
            <a:ext cx="153000" cy="152640"/>
            <a:chOff x="2514600" y="1676520"/>
            <a:chExt cx="153000" cy="152640"/>
          </a:xfrm>
        </p:grpSpPr>
        <p:sp>
          <p:nvSpPr>
            <p:cNvPr id="1270" name=""/>
            <p:cNvSpPr/>
            <p:nvPr/>
          </p:nvSpPr>
          <p:spPr>
            <a:xfrm>
              <a:off x="259092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424"/>
                  </a:moveTo>
                  <a:lnTo>
                    <a:pt x="213" y="424"/>
                  </a:lnTo>
                  <a:lnTo>
                    <a:pt x="213" y="424"/>
                  </a:lnTo>
                  <a:lnTo>
                    <a:pt x="213" y="424"/>
                  </a:lnTo>
                  <a:cubicBezTo>
                    <a:pt x="213" y="350"/>
                    <a:pt x="203" y="276"/>
                    <a:pt x="184" y="212"/>
                  </a:cubicBezTo>
                  <a:cubicBezTo>
                    <a:pt x="166" y="148"/>
                    <a:pt x="139" y="94"/>
                    <a:pt x="106" y="57"/>
                  </a:cubicBezTo>
                  <a:cubicBezTo>
                    <a:pt x="74" y="20"/>
                    <a:pt x="37" y="0"/>
                    <a:pt x="0" y="0"/>
                  </a:cubicBezTo>
                  <a:lnTo>
                    <a:pt x="0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51460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424"/>
                  </a:moveTo>
                  <a:lnTo>
                    <a:pt x="213" y="0"/>
                  </a:lnTo>
                  <a:lnTo>
                    <a:pt x="213" y="0"/>
                  </a:lnTo>
                  <a:cubicBezTo>
                    <a:pt x="176" y="0"/>
                    <a:pt x="139" y="20"/>
                    <a:pt x="106" y="57"/>
                  </a:cubicBezTo>
                  <a:cubicBezTo>
                    <a:pt x="74" y="94"/>
                    <a:pt x="47" y="148"/>
                    <a:pt x="29" y="212"/>
                  </a:cubicBezTo>
                  <a:cubicBezTo>
                    <a:pt x="10" y="276"/>
                    <a:pt x="0" y="350"/>
                    <a:pt x="0" y="424"/>
                  </a:cubicBezTo>
                  <a:lnTo>
                    <a:pt x="213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51460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3" name=""/>
          <p:cNvGrpSpPr/>
          <p:nvPr/>
        </p:nvGrpSpPr>
        <p:grpSpPr>
          <a:xfrm>
            <a:off x="2590920" y="1676520"/>
            <a:ext cx="152640" cy="152640"/>
            <a:chOff x="2590920" y="1676520"/>
            <a:chExt cx="152640" cy="152640"/>
          </a:xfrm>
        </p:grpSpPr>
        <p:sp>
          <p:nvSpPr>
            <p:cNvPr id="1274" name=""/>
            <p:cNvSpPr/>
            <p:nvPr/>
          </p:nvSpPr>
          <p:spPr>
            <a:xfrm>
              <a:off x="266688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424"/>
                  </a:moveTo>
                  <a:lnTo>
                    <a:pt x="213" y="424"/>
                  </a:lnTo>
                  <a:lnTo>
                    <a:pt x="213" y="424"/>
                  </a:lnTo>
                  <a:lnTo>
                    <a:pt x="213" y="424"/>
                  </a:lnTo>
                  <a:cubicBezTo>
                    <a:pt x="213" y="350"/>
                    <a:pt x="203" y="276"/>
                    <a:pt x="184" y="212"/>
                  </a:cubicBezTo>
                  <a:cubicBezTo>
                    <a:pt x="166" y="148"/>
                    <a:pt x="139" y="94"/>
                    <a:pt x="106" y="57"/>
                  </a:cubicBezTo>
                  <a:cubicBezTo>
                    <a:pt x="74" y="20"/>
                    <a:pt x="37" y="0"/>
                    <a:pt x="0" y="0"/>
                  </a:cubicBezTo>
                  <a:lnTo>
                    <a:pt x="0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59092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424"/>
                  </a:moveTo>
                  <a:lnTo>
                    <a:pt x="213" y="0"/>
                  </a:lnTo>
                  <a:lnTo>
                    <a:pt x="213" y="0"/>
                  </a:lnTo>
                  <a:cubicBezTo>
                    <a:pt x="176" y="0"/>
                    <a:pt x="139" y="20"/>
                    <a:pt x="106" y="57"/>
                  </a:cubicBezTo>
                  <a:cubicBezTo>
                    <a:pt x="74" y="94"/>
                    <a:pt x="47" y="148"/>
                    <a:pt x="29" y="212"/>
                  </a:cubicBezTo>
                  <a:cubicBezTo>
                    <a:pt x="10" y="276"/>
                    <a:pt x="0" y="350"/>
                    <a:pt x="0" y="424"/>
                  </a:cubicBezTo>
                  <a:lnTo>
                    <a:pt x="213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59092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2666880" y="1676520"/>
            <a:ext cx="153000" cy="152640"/>
            <a:chOff x="2666880" y="1676520"/>
            <a:chExt cx="153000" cy="152640"/>
          </a:xfrm>
        </p:grpSpPr>
        <p:sp>
          <p:nvSpPr>
            <p:cNvPr id="1278" name=""/>
            <p:cNvSpPr/>
            <p:nvPr/>
          </p:nvSpPr>
          <p:spPr>
            <a:xfrm>
              <a:off x="274320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424"/>
                  </a:moveTo>
                  <a:lnTo>
                    <a:pt x="213" y="424"/>
                  </a:lnTo>
                  <a:lnTo>
                    <a:pt x="213" y="424"/>
                  </a:lnTo>
                  <a:lnTo>
                    <a:pt x="213" y="424"/>
                  </a:lnTo>
                  <a:cubicBezTo>
                    <a:pt x="213" y="350"/>
                    <a:pt x="203" y="276"/>
                    <a:pt x="184" y="212"/>
                  </a:cubicBezTo>
                  <a:cubicBezTo>
                    <a:pt x="166" y="148"/>
                    <a:pt x="139" y="94"/>
                    <a:pt x="106" y="57"/>
                  </a:cubicBezTo>
                  <a:cubicBezTo>
                    <a:pt x="74" y="20"/>
                    <a:pt x="37" y="0"/>
                    <a:pt x="0" y="0"/>
                  </a:cubicBezTo>
                  <a:lnTo>
                    <a:pt x="0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66688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424"/>
                  </a:moveTo>
                  <a:lnTo>
                    <a:pt x="213" y="0"/>
                  </a:lnTo>
                  <a:lnTo>
                    <a:pt x="213" y="0"/>
                  </a:lnTo>
                  <a:cubicBezTo>
                    <a:pt x="176" y="0"/>
                    <a:pt x="139" y="20"/>
                    <a:pt x="106" y="57"/>
                  </a:cubicBezTo>
                  <a:cubicBezTo>
                    <a:pt x="74" y="94"/>
                    <a:pt x="47" y="148"/>
                    <a:pt x="29" y="212"/>
                  </a:cubicBezTo>
                  <a:cubicBezTo>
                    <a:pt x="10" y="276"/>
                    <a:pt x="0" y="350"/>
                    <a:pt x="0" y="424"/>
                  </a:cubicBezTo>
                  <a:lnTo>
                    <a:pt x="213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666880" y="1828800"/>
              <a:ext cx="152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2743200" y="1676520"/>
            <a:ext cx="153000" cy="152640"/>
            <a:chOff x="2743200" y="1676520"/>
            <a:chExt cx="153000" cy="152640"/>
          </a:xfrm>
        </p:grpSpPr>
        <p:sp>
          <p:nvSpPr>
            <p:cNvPr id="1282" name=""/>
            <p:cNvSpPr/>
            <p:nvPr/>
          </p:nvSpPr>
          <p:spPr>
            <a:xfrm>
              <a:off x="281952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424"/>
                  </a:moveTo>
                  <a:lnTo>
                    <a:pt x="213" y="424"/>
                  </a:lnTo>
                  <a:lnTo>
                    <a:pt x="213" y="424"/>
                  </a:lnTo>
                  <a:lnTo>
                    <a:pt x="213" y="424"/>
                  </a:lnTo>
                  <a:cubicBezTo>
                    <a:pt x="213" y="350"/>
                    <a:pt x="203" y="276"/>
                    <a:pt x="184" y="212"/>
                  </a:cubicBezTo>
                  <a:cubicBezTo>
                    <a:pt x="166" y="148"/>
                    <a:pt x="139" y="94"/>
                    <a:pt x="106" y="57"/>
                  </a:cubicBezTo>
                  <a:cubicBezTo>
                    <a:pt x="74" y="20"/>
                    <a:pt x="37" y="0"/>
                    <a:pt x="0" y="0"/>
                  </a:cubicBezTo>
                  <a:lnTo>
                    <a:pt x="0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74320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424"/>
                  </a:moveTo>
                  <a:lnTo>
                    <a:pt x="213" y="0"/>
                  </a:lnTo>
                  <a:lnTo>
                    <a:pt x="213" y="0"/>
                  </a:lnTo>
                  <a:cubicBezTo>
                    <a:pt x="176" y="0"/>
                    <a:pt x="139" y="20"/>
                    <a:pt x="106" y="57"/>
                  </a:cubicBezTo>
                  <a:cubicBezTo>
                    <a:pt x="74" y="94"/>
                    <a:pt x="47" y="148"/>
                    <a:pt x="29" y="212"/>
                  </a:cubicBezTo>
                  <a:cubicBezTo>
                    <a:pt x="10" y="276"/>
                    <a:pt x="0" y="350"/>
                    <a:pt x="0" y="424"/>
                  </a:cubicBezTo>
                  <a:lnTo>
                    <a:pt x="213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74320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2819520" y="1676520"/>
            <a:ext cx="152640" cy="152640"/>
            <a:chOff x="2819520" y="1676520"/>
            <a:chExt cx="152640" cy="152640"/>
          </a:xfrm>
        </p:grpSpPr>
        <p:sp>
          <p:nvSpPr>
            <p:cNvPr id="1286" name=""/>
            <p:cNvSpPr/>
            <p:nvPr/>
          </p:nvSpPr>
          <p:spPr>
            <a:xfrm>
              <a:off x="289548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424"/>
                  </a:moveTo>
                  <a:lnTo>
                    <a:pt x="213" y="424"/>
                  </a:lnTo>
                  <a:lnTo>
                    <a:pt x="213" y="424"/>
                  </a:lnTo>
                  <a:lnTo>
                    <a:pt x="213" y="424"/>
                  </a:lnTo>
                  <a:cubicBezTo>
                    <a:pt x="213" y="350"/>
                    <a:pt x="203" y="276"/>
                    <a:pt x="184" y="212"/>
                  </a:cubicBezTo>
                  <a:cubicBezTo>
                    <a:pt x="166" y="148"/>
                    <a:pt x="139" y="94"/>
                    <a:pt x="106" y="57"/>
                  </a:cubicBezTo>
                  <a:cubicBezTo>
                    <a:pt x="74" y="20"/>
                    <a:pt x="37" y="0"/>
                    <a:pt x="0" y="0"/>
                  </a:cubicBezTo>
                  <a:lnTo>
                    <a:pt x="0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81952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424"/>
                  </a:moveTo>
                  <a:lnTo>
                    <a:pt x="213" y="0"/>
                  </a:lnTo>
                  <a:lnTo>
                    <a:pt x="213" y="0"/>
                  </a:lnTo>
                  <a:cubicBezTo>
                    <a:pt x="176" y="0"/>
                    <a:pt x="139" y="20"/>
                    <a:pt x="106" y="57"/>
                  </a:cubicBezTo>
                  <a:cubicBezTo>
                    <a:pt x="74" y="94"/>
                    <a:pt x="47" y="148"/>
                    <a:pt x="29" y="212"/>
                  </a:cubicBezTo>
                  <a:cubicBezTo>
                    <a:pt x="10" y="276"/>
                    <a:pt x="0" y="350"/>
                    <a:pt x="0" y="424"/>
                  </a:cubicBezTo>
                  <a:lnTo>
                    <a:pt x="213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81952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1676520" y="1828800"/>
            <a:ext cx="152640" cy="152640"/>
            <a:chOff x="1676520" y="1828800"/>
            <a:chExt cx="152640" cy="152640"/>
          </a:xfrm>
        </p:grpSpPr>
        <p:sp>
          <p:nvSpPr>
            <p:cNvPr id="1290" name=""/>
            <p:cNvSpPr/>
            <p:nvPr/>
          </p:nvSpPr>
          <p:spPr>
            <a:xfrm>
              <a:off x="175248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0"/>
                  </a:moveTo>
                  <a:lnTo>
                    <a:pt x="0" y="424"/>
                  </a:lnTo>
                  <a:lnTo>
                    <a:pt x="0" y="424"/>
                  </a:lnTo>
                  <a:cubicBezTo>
                    <a:pt x="37" y="424"/>
                    <a:pt x="74" y="404"/>
                    <a:pt x="107" y="367"/>
                  </a:cubicBezTo>
                  <a:cubicBezTo>
                    <a:pt x="139" y="330"/>
                    <a:pt x="166" y="276"/>
                    <a:pt x="184" y="212"/>
                  </a:cubicBezTo>
                  <a:cubicBezTo>
                    <a:pt x="203" y="148"/>
                    <a:pt x="213" y="74"/>
                    <a:pt x="21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67652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74"/>
                    <a:pt x="10" y="148"/>
                    <a:pt x="29" y="212"/>
                  </a:cubicBezTo>
                  <a:cubicBezTo>
                    <a:pt x="47" y="276"/>
                    <a:pt x="74" y="330"/>
                    <a:pt x="107" y="367"/>
                  </a:cubicBezTo>
                  <a:cubicBezTo>
                    <a:pt x="139" y="404"/>
                    <a:pt x="176" y="424"/>
                    <a:pt x="213" y="424"/>
                  </a:cubicBezTo>
                  <a:lnTo>
                    <a:pt x="21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67652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3" name=""/>
          <p:cNvGrpSpPr/>
          <p:nvPr/>
        </p:nvGrpSpPr>
        <p:grpSpPr>
          <a:xfrm>
            <a:off x="1752480" y="1828800"/>
            <a:ext cx="153000" cy="152640"/>
            <a:chOff x="1752480" y="1828800"/>
            <a:chExt cx="153000" cy="152640"/>
          </a:xfrm>
        </p:grpSpPr>
        <p:sp>
          <p:nvSpPr>
            <p:cNvPr id="1294" name=""/>
            <p:cNvSpPr/>
            <p:nvPr/>
          </p:nvSpPr>
          <p:spPr>
            <a:xfrm>
              <a:off x="182880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0"/>
                  </a:moveTo>
                  <a:lnTo>
                    <a:pt x="0" y="424"/>
                  </a:lnTo>
                  <a:lnTo>
                    <a:pt x="0" y="424"/>
                  </a:lnTo>
                  <a:cubicBezTo>
                    <a:pt x="37" y="424"/>
                    <a:pt x="74" y="404"/>
                    <a:pt x="107" y="367"/>
                  </a:cubicBezTo>
                  <a:cubicBezTo>
                    <a:pt x="139" y="330"/>
                    <a:pt x="166" y="276"/>
                    <a:pt x="184" y="212"/>
                  </a:cubicBezTo>
                  <a:cubicBezTo>
                    <a:pt x="203" y="148"/>
                    <a:pt x="213" y="74"/>
                    <a:pt x="21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75248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74"/>
                    <a:pt x="10" y="148"/>
                    <a:pt x="29" y="212"/>
                  </a:cubicBezTo>
                  <a:cubicBezTo>
                    <a:pt x="47" y="276"/>
                    <a:pt x="74" y="330"/>
                    <a:pt x="107" y="367"/>
                  </a:cubicBezTo>
                  <a:cubicBezTo>
                    <a:pt x="139" y="404"/>
                    <a:pt x="176" y="424"/>
                    <a:pt x="213" y="424"/>
                  </a:cubicBezTo>
                  <a:lnTo>
                    <a:pt x="21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752480" y="1828800"/>
              <a:ext cx="152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1828800" y="1828800"/>
            <a:ext cx="153000" cy="152640"/>
            <a:chOff x="1828800" y="1828800"/>
            <a:chExt cx="153000" cy="152640"/>
          </a:xfrm>
        </p:grpSpPr>
        <p:sp>
          <p:nvSpPr>
            <p:cNvPr id="1298" name=""/>
            <p:cNvSpPr/>
            <p:nvPr/>
          </p:nvSpPr>
          <p:spPr>
            <a:xfrm>
              <a:off x="190512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0"/>
                  </a:moveTo>
                  <a:lnTo>
                    <a:pt x="0" y="424"/>
                  </a:lnTo>
                  <a:lnTo>
                    <a:pt x="0" y="424"/>
                  </a:lnTo>
                  <a:cubicBezTo>
                    <a:pt x="37" y="424"/>
                    <a:pt x="74" y="404"/>
                    <a:pt x="107" y="367"/>
                  </a:cubicBezTo>
                  <a:cubicBezTo>
                    <a:pt x="139" y="330"/>
                    <a:pt x="166" y="276"/>
                    <a:pt x="184" y="212"/>
                  </a:cubicBezTo>
                  <a:cubicBezTo>
                    <a:pt x="203" y="148"/>
                    <a:pt x="213" y="74"/>
                    <a:pt x="21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82880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74"/>
                    <a:pt x="10" y="148"/>
                    <a:pt x="29" y="212"/>
                  </a:cubicBezTo>
                  <a:cubicBezTo>
                    <a:pt x="47" y="276"/>
                    <a:pt x="74" y="330"/>
                    <a:pt x="107" y="367"/>
                  </a:cubicBezTo>
                  <a:cubicBezTo>
                    <a:pt x="139" y="404"/>
                    <a:pt x="176" y="424"/>
                    <a:pt x="213" y="424"/>
                  </a:cubicBezTo>
                  <a:lnTo>
                    <a:pt x="21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82880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1905120" y="1828800"/>
            <a:ext cx="152640" cy="152640"/>
            <a:chOff x="1905120" y="1828800"/>
            <a:chExt cx="152640" cy="152640"/>
          </a:xfrm>
        </p:grpSpPr>
        <p:sp>
          <p:nvSpPr>
            <p:cNvPr id="1302" name=""/>
            <p:cNvSpPr/>
            <p:nvPr/>
          </p:nvSpPr>
          <p:spPr>
            <a:xfrm>
              <a:off x="198108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0"/>
                  </a:moveTo>
                  <a:lnTo>
                    <a:pt x="0" y="424"/>
                  </a:lnTo>
                  <a:lnTo>
                    <a:pt x="0" y="424"/>
                  </a:lnTo>
                  <a:cubicBezTo>
                    <a:pt x="37" y="424"/>
                    <a:pt x="74" y="404"/>
                    <a:pt x="107" y="367"/>
                  </a:cubicBezTo>
                  <a:cubicBezTo>
                    <a:pt x="139" y="330"/>
                    <a:pt x="166" y="276"/>
                    <a:pt x="184" y="212"/>
                  </a:cubicBezTo>
                  <a:cubicBezTo>
                    <a:pt x="203" y="148"/>
                    <a:pt x="213" y="74"/>
                    <a:pt x="21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90512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74"/>
                    <a:pt x="10" y="148"/>
                    <a:pt x="29" y="212"/>
                  </a:cubicBezTo>
                  <a:cubicBezTo>
                    <a:pt x="47" y="276"/>
                    <a:pt x="74" y="330"/>
                    <a:pt x="107" y="367"/>
                  </a:cubicBezTo>
                  <a:cubicBezTo>
                    <a:pt x="139" y="404"/>
                    <a:pt x="176" y="424"/>
                    <a:pt x="213" y="424"/>
                  </a:cubicBezTo>
                  <a:lnTo>
                    <a:pt x="21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90512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5" name=""/>
          <p:cNvGrpSpPr/>
          <p:nvPr/>
        </p:nvGrpSpPr>
        <p:grpSpPr>
          <a:xfrm>
            <a:off x="1981080" y="1828800"/>
            <a:ext cx="153000" cy="152640"/>
            <a:chOff x="1981080" y="1828800"/>
            <a:chExt cx="153000" cy="152640"/>
          </a:xfrm>
        </p:grpSpPr>
        <p:sp>
          <p:nvSpPr>
            <p:cNvPr id="1306" name=""/>
            <p:cNvSpPr/>
            <p:nvPr/>
          </p:nvSpPr>
          <p:spPr>
            <a:xfrm>
              <a:off x="205740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0"/>
                  </a:moveTo>
                  <a:lnTo>
                    <a:pt x="0" y="424"/>
                  </a:lnTo>
                  <a:lnTo>
                    <a:pt x="0" y="424"/>
                  </a:lnTo>
                  <a:cubicBezTo>
                    <a:pt x="37" y="424"/>
                    <a:pt x="74" y="404"/>
                    <a:pt x="107" y="367"/>
                  </a:cubicBezTo>
                  <a:cubicBezTo>
                    <a:pt x="139" y="330"/>
                    <a:pt x="166" y="276"/>
                    <a:pt x="184" y="212"/>
                  </a:cubicBezTo>
                  <a:cubicBezTo>
                    <a:pt x="203" y="148"/>
                    <a:pt x="213" y="74"/>
                    <a:pt x="21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98108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74"/>
                    <a:pt x="10" y="148"/>
                    <a:pt x="29" y="212"/>
                  </a:cubicBezTo>
                  <a:cubicBezTo>
                    <a:pt x="47" y="276"/>
                    <a:pt x="74" y="330"/>
                    <a:pt x="107" y="367"/>
                  </a:cubicBezTo>
                  <a:cubicBezTo>
                    <a:pt x="139" y="404"/>
                    <a:pt x="176" y="424"/>
                    <a:pt x="213" y="424"/>
                  </a:cubicBezTo>
                  <a:lnTo>
                    <a:pt x="21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981080" y="1828800"/>
              <a:ext cx="152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9" name=""/>
          <p:cNvGrpSpPr/>
          <p:nvPr/>
        </p:nvGrpSpPr>
        <p:grpSpPr>
          <a:xfrm>
            <a:off x="2057400" y="1828800"/>
            <a:ext cx="153000" cy="152640"/>
            <a:chOff x="2057400" y="1828800"/>
            <a:chExt cx="153000" cy="152640"/>
          </a:xfrm>
        </p:grpSpPr>
        <p:sp>
          <p:nvSpPr>
            <p:cNvPr id="1310" name=""/>
            <p:cNvSpPr/>
            <p:nvPr/>
          </p:nvSpPr>
          <p:spPr>
            <a:xfrm>
              <a:off x="213372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0"/>
                  </a:moveTo>
                  <a:lnTo>
                    <a:pt x="0" y="424"/>
                  </a:lnTo>
                  <a:lnTo>
                    <a:pt x="0" y="424"/>
                  </a:lnTo>
                  <a:cubicBezTo>
                    <a:pt x="37" y="424"/>
                    <a:pt x="74" y="404"/>
                    <a:pt x="107" y="367"/>
                  </a:cubicBezTo>
                  <a:cubicBezTo>
                    <a:pt x="139" y="330"/>
                    <a:pt x="166" y="276"/>
                    <a:pt x="184" y="212"/>
                  </a:cubicBezTo>
                  <a:cubicBezTo>
                    <a:pt x="203" y="148"/>
                    <a:pt x="213" y="74"/>
                    <a:pt x="21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05740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74"/>
                    <a:pt x="10" y="148"/>
                    <a:pt x="29" y="212"/>
                  </a:cubicBezTo>
                  <a:cubicBezTo>
                    <a:pt x="47" y="276"/>
                    <a:pt x="74" y="330"/>
                    <a:pt x="107" y="367"/>
                  </a:cubicBezTo>
                  <a:cubicBezTo>
                    <a:pt x="139" y="404"/>
                    <a:pt x="176" y="424"/>
                    <a:pt x="213" y="424"/>
                  </a:cubicBezTo>
                  <a:lnTo>
                    <a:pt x="21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05740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2133720" y="1828800"/>
            <a:ext cx="152640" cy="152640"/>
            <a:chOff x="2133720" y="1828800"/>
            <a:chExt cx="152640" cy="152640"/>
          </a:xfrm>
        </p:grpSpPr>
        <p:sp>
          <p:nvSpPr>
            <p:cNvPr id="1314" name=""/>
            <p:cNvSpPr/>
            <p:nvPr/>
          </p:nvSpPr>
          <p:spPr>
            <a:xfrm>
              <a:off x="220968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0"/>
                  </a:moveTo>
                  <a:lnTo>
                    <a:pt x="0" y="424"/>
                  </a:lnTo>
                  <a:lnTo>
                    <a:pt x="0" y="424"/>
                  </a:lnTo>
                  <a:cubicBezTo>
                    <a:pt x="37" y="424"/>
                    <a:pt x="74" y="404"/>
                    <a:pt x="107" y="367"/>
                  </a:cubicBezTo>
                  <a:cubicBezTo>
                    <a:pt x="139" y="330"/>
                    <a:pt x="166" y="276"/>
                    <a:pt x="184" y="212"/>
                  </a:cubicBezTo>
                  <a:cubicBezTo>
                    <a:pt x="203" y="148"/>
                    <a:pt x="213" y="74"/>
                    <a:pt x="21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13372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74"/>
                    <a:pt x="10" y="148"/>
                    <a:pt x="29" y="212"/>
                  </a:cubicBezTo>
                  <a:cubicBezTo>
                    <a:pt x="47" y="276"/>
                    <a:pt x="74" y="330"/>
                    <a:pt x="107" y="367"/>
                  </a:cubicBezTo>
                  <a:cubicBezTo>
                    <a:pt x="139" y="404"/>
                    <a:pt x="176" y="424"/>
                    <a:pt x="213" y="424"/>
                  </a:cubicBezTo>
                  <a:lnTo>
                    <a:pt x="21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13372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2209680" y="1828800"/>
            <a:ext cx="153000" cy="152640"/>
            <a:chOff x="2209680" y="1828800"/>
            <a:chExt cx="153000" cy="152640"/>
          </a:xfrm>
        </p:grpSpPr>
        <p:sp>
          <p:nvSpPr>
            <p:cNvPr id="1318" name=""/>
            <p:cNvSpPr/>
            <p:nvPr/>
          </p:nvSpPr>
          <p:spPr>
            <a:xfrm>
              <a:off x="228600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0"/>
                  </a:moveTo>
                  <a:lnTo>
                    <a:pt x="0" y="424"/>
                  </a:lnTo>
                  <a:lnTo>
                    <a:pt x="0" y="424"/>
                  </a:lnTo>
                  <a:cubicBezTo>
                    <a:pt x="37" y="424"/>
                    <a:pt x="74" y="404"/>
                    <a:pt x="107" y="367"/>
                  </a:cubicBezTo>
                  <a:cubicBezTo>
                    <a:pt x="139" y="330"/>
                    <a:pt x="166" y="276"/>
                    <a:pt x="184" y="212"/>
                  </a:cubicBezTo>
                  <a:cubicBezTo>
                    <a:pt x="203" y="148"/>
                    <a:pt x="213" y="74"/>
                    <a:pt x="21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20968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74"/>
                    <a:pt x="10" y="148"/>
                    <a:pt x="29" y="212"/>
                  </a:cubicBezTo>
                  <a:cubicBezTo>
                    <a:pt x="47" y="276"/>
                    <a:pt x="74" y="330"/>
                    <a:pt x="107" y="367"/>
                  </a:cubicBezTo>
                  <a:cubicBezTo>
                    <a:pt x="139" y="404"/>
                    <a:pt x="176" y="424"/>
                    <a:pt x="213" y="424"/>
                  </a:cubicBezTo>
                  <a:lnTo>
                    <a:pt x="21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209680" y="1828800"/>
              <a:ext cx="152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2286000" y="1828800"/>
            <a:ext cx="153000" cy="152640"/>
            <a:chOff x="2286000" y="1828800"/>
            <a:chExt cx="153000" cy="152640"/>
          </a:xfrm>
        </p:grpSpPr>
        <p:sp>
          <p:nvSpPr>
            <p:cNvPr id="1322" name=""/>
            <p:cNvSpPr/>
            <p:nvPr/>
          </p:nvSpPr>
          <p:spPr>
            <a:xfrm>
              <a:off x="236232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0"/>
                  </a:moveTo>
                  <a:lnTo>
                    <a:pt x="0" y="424"/>
                  </a:lnTo>
                  <a:lnTo>
                    <a:pt x="0" y="424"/>
                  </a:lnTo>
                  <a:cubicBezTo>
                    <a:pt x="37" y="424"/>
                    <a:pt x="74" y="404"/>
                    <a:pt x="107" y="367"/>
                  </a:cubicBezTo>
                  <a:cubicBezTo>
                    <a:pt x="139" y="330"/>
                    <a:pt x="166" y="276"/>
                    <a:pt x="184" y="212"/>
                  </a:cubicBezTo>
                  <a:cubicBezTo>
                    <a:pt x="203" y="148"/>
                    <a:pt x="213" y="74"/>
                    <a:pt x="21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28600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74"/>
                    <a:pt x="10" y="148"/>
                    <a:pt x="29" y="212"/>
                  </a:cubicBezTo>
                  <a:cubicBezTo>
                    <a:pt x="47" y="276"/>
                    <a:pt x="74" y="330"/>
                    <a:pt x="107" y="367"/>
                  </a:cubicBezTo>
                  <a:cubicBezTo>
                    <a:pt x="139" y="404"/>
                    <a:pt x="176" y="424"/>
                    <a:pt x="213" y="424"/>
                  </a:cubicBezTo>
                  <a:lnTo>
                    <a:pt x="21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28600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2362320" y="1828800"/>
            <a:ext cx="152640" cy="152640"/>
            <a:chOff x="2362320" y="1828800"/>
            <a:chExt cx="152640" cy="152640"/>
          </a:xfrm>
        </p:grpSpPr>
        <p:sp>
          <p:nvSpPr>
            <p:cNvPr id="1326" name=""/>
            <p:cNvSpPr/>
            <p:nvPr/>
          </p:nvSpPr>
          <p:spPr>
            <a:xfrm>
              <a:off x="243828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0"/>
                  </a:moveTo>
                  <a:lnTo>
                    <a:pt x="0" y="424"/>
                  </a:lnTo>
                  <a:lnTo>
                    <a:pt x="0" y="424"/>
                  </a:lnTo>
                  <a:cubicBezTo>
                    <a:pt x="37" y="424"/>
                    <a:pt x="74" y="404"/>
                    <a:pt x="107" y="367"/>
                  </a:cubicBezTo>
                  <a:cubicBezTo>
                    <a:pt x="139" y="330"/>
                    <a:pt x="166" y="276"/>
                    <a:pt x="184" y="212"/>
                  </a:cubicBezTo>
                  <a:cubicBezTo>
                    <a:pt x="203" y="148"/>
                    <a:pt x="213" y="74"/>
                    <a:pt x="21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36232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74"/>
                    <a:pt x="10" y="148"/>
                    <a:pt x="29" y="212"/>
                  </a:cubicBezTo>
                  <a:cubicBezTo>
                    <a:pt x="47" y="276"/>
                    <a:pt x="74" y="330"/>
                    <a:pt x="107" y="367"/>
                  </a:cubicBezTo>
                  <a:cubicBezTo>
                    <a:pt x="139" y="404"/>
                    <a:pt x="176" y="424"/>
                    <a:pt x="213" y="424"/>
                  </a:cubicBezTo>
                  <a:lnTo>
                    <a:pt x="21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36232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9" name=""/>
          <p:cNvGrpSpPr/>
          <p:nvPr/>
        </p:nvGrpSpPr>
        <p:grpSpPr>
          <a:xfrm>
            <a:off x="2438280" y="1828800"/>
            <a:ext cx="153000" cy="152640"/>
            <a:chOff x="2438280" y="1828800"/>
            <a:chExt cx="153000" cy="152640"/>
          </a:xfrm>
        </p:grpSpPr>
        <p:sp>
          <p:nvSpPr>
            <p:cNvPr id="1330" name=""/>
            <p:cNvSpPr/>
            <p:nvPr/>
          </p:nvSpPr>
          <p:spPr>
            <a:xfrm>
              <a:off x="251460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0"/>
                  </a:moveTo>
                  <a:lnTo>
                    <a:pt x="0" y="424"/>
                  </a:lnTo>
                  <a:lnTo>
                    <a:pt x="0" y="424"/>
                  </a:lnTo>
                  <a:cubicBezTo>
                    <a:pt x="37" y="424"/>
                    <a:pt x="74" y="404"/>
                    <a:pt x="107" y="367"/>
                  </a:cubicBezTo>
                  <a:cubicBezTo>
                    <a:pt x="139" y="330"/>
                    <a:pt x="166" y="276"/>
                    <a:pt x="184" y="212"/>
                  </a:cubicBezTo>
                  <a:cubicBezTo>
                    <a:pt x="203" y="148"/>
                    <a:pt x="213" y="74"/>
                    <a:pt x="21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43828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74"/>
                    <a:pt x="10" y="148"/>
                    <a:pt x="29" y="212"/>
                  </a:cubicBezTo>
                  <a:cubicBezTo>
                    <a:pt x="47" y="276"/>
                    <a:pt x="74" y="330"/>
                    <a:pt x="107" y="367"/>
                  </a:cubicBezTo>
                  <a:cubicBezTo>
                    <a:pt x="139" y="404"/>
                    <a:pt x="176" y="424"/>
                    <a:pt x="213" y="424"/>
                  </a:cubicBezTo>
                  <a:lnTo>
                    <a:pt x="21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438280" y="1828800"/>
              <a:ext cx="152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3" name=""/>
          <p:cNvGrpSpPr/>
          <p:nvPr/>
        </p:nvGrpSpPr>
        <p:grpSpPr>
          <a:xfrm>
            <a:off x="2514600" y="1828800"/>
            <a:ext cx="153000" cy="152640"/>
            <a:chOff x="2514600" y="1828800"/>
            <a:chExt cx="153000" cy="152640"/>
          </a:xfrm>
        </p:grpSpPr>
        <p:sp>
          <p:nvSpPr>
            <p:cNvPr id="1334" name=""/>
            <p:cNvSpPr/>
            <p:nvPr/>
          </p:nvSpPr>
          <p:spPr>
            <a:xfrm>
              <a:off x="259092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0"/>
                  </a:moveTo>
                  <a:lnTo>
                    <a:pt x="0" y="424"/>
                  </a:lnTo>
                  <a:lnTo>
                    <a:pt x="0" y="424"/>
                  </a:lnTo>
                  <a:cubicBezTo>
                    <a:pt x="37" y="424"/>
                    <a:pt x="74" y="404"/>
                    <a:pt x="107" y="367"/>
                  </a:cubicBezTo>
                  <a:cubicBezTo>
                    <a:pt x="139" y="330"/>
                    <a:pt x="166" y="276"/>
                    <a:pt x="184" y="212"/>
                  </a:cubicBezTo>
                  <a:cubicBezTo>
                    <a:pt x="203" y="148"/>
                    <a:pt x="213" y="74"/>
                    <a:pt x="21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51460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74"/>
                    <a:pt x="10" y="148"/>
                    <a:pt x="29" y="212"/>
                  </a:cubicBezTo>
                  <a:cubicBezTo>
                    <a:pt x="47" y="276"/>
                    <a:pt x="74" y="330"/>
                    <a:pt x="107" y="367"/>
                  </a:cubicBezTo>
                  <a:cubicBezTo>
                    <a:pt x="139" y="404"/>
                    <a:pt x="176" y="424"/>
                    <a:pt x="213" y="424"/>
                  </a:cubicBezTo>
                  <a:lnTo>
                    <a:pt x="21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51460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7" name=""/>
          <p:cNvGrpSpPr/>
          <p:nvPr/>
        </p:nvGrpSpPr>
        <p:grpSpPr>
          <a:xfrm>
            <a:off x="2590920" y="1828800"/>
            <a:ext cx="152640" cy="152640"/>
            <a:chOff x="2590920" y="1828800"/>
            <a:chExt cx="152640" cy="152640"/>
          </a:xfrm>
        </p:grpSpPr>
        <p:sp>
          <p:nvSpPr>
            <p:cNvPr id="1338" name=""/>
            <p:cNvSpPr/>
            <p:nvPr/>
          </p:nvSpPr>
          <p:spPr>
            <a:xfrm>
              <a:off x="266688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0"/>
                  </a:moveTo>
                  <a:lnTo>
                    <a:pt x="0" y="424"/>
                  </a:lnTo>
                  <a:lnTo>
                    <a:pt x="0" y="424"/>
                  </a:lnTo>
                  <a:cubicBezTo>
                    <a:pt x="37" y="424"/>
                    <a:pt x="74" y="404"/>
                    <a:pt x="107" y="367"/>
                  </a:cubicBezTo>
                  <a:cubicBezTo>
                    <a:pt x="139" y="330"/>
                    <a:pt x="166" y="276"/>
                    <a:pt x="184" y="212"/>
                  </a:cubicBezTo>
                  <a:cubicBezTo>
                    <a:pt x="203" y="148"/>
                    <a:pt x="213" y="74"/>
                    <a:pt x="21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59092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74"/>
                    <a:pt x="10" y="148"/>
                    <a:pt x="29" y="212"/>
                  </a:cubicBezTo>
                  <a:cubicBezTo>
                    <a:pt x="47" y="276"/>
                    <a:pt x="74" y="330"/>
                    <a:pt x="107" y="367"/>
                  </a:cubicBezTo>
                  <a:cubicBezTo>
                    <a:pt x="139" y="404"/>
                    <a:pt x="176" y="424"/>
                    <a:pt x="213" y="424"/>
                  </a:cubicBezTo>
                  <a:lnTo>
                    <a:pt x="21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59092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1" name=""/>
          <p:cNvGrpSpPr/>
          <p:nvPr/>
        </p:nvGrpSpPr>
        <p:grpSpPr>
          <a:xfrm>
            <a:off x="2666880" y="1828800"/>
            <a:ext cx="153000" cy="152640"/>
            <a:chOff x="2666880" y="1828800"/>
            <a:chExt cx="153000" cy="152640"/>
          </a:xfrm>
        </p:grpSpPr>
        <p:sp>
          <p:nvSpPr>
            <p:cNvPr id="1342" name=""/>
            <p:cNvSpPr/>
            <p:nvPr/>
          </p:nvSpPr>
          <p:spPr>
            <a:xfrm>
              <a:off x="274320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0"/>
                  </a:moveTo>
                  <a:lnTo>
                    <a:pt x="0" y="424"/>
                  </a:lnTo>
                  <a:lnTo>
                    <a:pt x="0" y="424"/>
                  </a:lnTo>
                  <a:cubicBezTo>
                    <a:pt x="37" y="424"/>
                    <a:pt x="74" y="404"/>
                    <a:pt x="107" y="367"/>
                  </a:cubicBezTo>
                  <a:cubicBezTo>
                    <a:pt x="139" y="330"/>
                    <a:pt x="166" y="276"/>
                    <a:pt x="184" y="212"/>
                  </a:cubicBezTo>
                  <a:cubicBezTo>
                    <a:pt x="203" y="148"/>
                    <a:pt x="213" y="74"/>
                    <a:pt x="21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66688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74"/>
                    <a:pt x="10" y="148"/>
                    <a:pt x="29" y="212"/>
                  </a:cubicBezTo>
                  <a:cubicBezTo>
                    <a:pt x="47" y="276"/>
                    <a:pt x="74" y="330"/>
                    <a:pt x="107" y="367"/>
                  </a:cubicBezTo>
                  <a:cubicBezTo>
                    <a:pt x="139" y="404"/>
                    <a:pt x="176" y="424"/>
                    <a:pt x="213" y="424"/>
                  </a:cubicBezTo>
                  <a:lnTo>
                    <a:pt x="21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666880" y="1828800"/>
              <a:ext cx="152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5" name=""/>
          <p:cNvGrpSpPr/>
          <p:nvPr/>
        </p:nvGrpSpPr>
        <p:grpSpPr>
          <a:xfrm>
            <a:off x="2743200" y="1828800"/>
            <a:ext cx="153000" cy="152640"/>
            <a:chOff x="2743200" y="1828800"/>
            <a:chExt cx="153000" cy="152640"/>
          </a:xfrm>
        </p:grpSpPr>
        <p:sp>
          <p:nvSpPr>
            <p:cNvPr id="1346" name=""/>
            <p:cNvSpPr/>
            <p:nvPr/>
          </p:nvSpPr>
          <p:spPr>
            <a:xfrm>
              <a:off x="281952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0"/>
                  </a:moveTo>
                  <a:lnTo>
                    <a:pt x="0" y="424"/>
                  </a:lnTo>
                  <a:lnTo>
                    <a:pt x="0" y="424"/>
                  </a:lnTo>
                  <a:cubicBezTo>
                    <a:pt x="37" y="424"/>
                    <a:pt x="74" y="404"/>
                    <a:pt x="107" y="367"/>
                  </a:cubicBezTo>
                  <a:cubicBezTo>
                    <a:pt x="139" y="330"/>
                    <a:pt x="166" y="276"/>
                    <a:pt x="184" y="212"/>
                  </a:cubicBezTo>
                  <a:cubicBezTo>
                    <a:pt x="203" y="148"/>
                    <a:pt x="213" y="74"/>
                    <a:pt x="21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320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74"/>
                    <a:pt x="10" y="148"/>
                    <a:pt x="29" y="212"/>
                  </a:cubicBezTo>
                  <a:cubicBezTo>
                    <a:pt x="47" y="276"/>
                    <a:pt x="74" y="330"/>
                    <a:pt x="107" y="367"/>
                  </a:cubicBezTo>
                  <a:cubicBezTo>
                    <a:pt x="139" y="404"/>
                    <a:pt x="176" y="424"/>
                    <a:pt x="213" y="424"/>
                  </a:cubicBezTo>
                  <a:lnTo>
                    <a:pt x="21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74320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2819520" y="1828800"/>
            <a:ext cx="152640" cy="152640"/>
            <a:chOff x="2819520" y="1828800"/>
            <a:chExt cx="152640" cy="152640"/>
          </a:xfrm>
        </p:grpSpPr>
        <p:sp>
          <p:nvSpPr>
            <p:cNvPr id="1350" name=""/>
            <p:cNvSpPr/>
            <p:nvPr/>
          </p:nvSpPr>
          <p:spPr>
            <a:xfrm>
              <a:off x="289548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0"/>
                  </a:moveTo>
                  <a:lnTo>
                    <a:pt x="0" y="424"/>
                  </a:lnTo>
                  <a:lnTo>
                    <a:pt x="0" y="424"/>
                  </a:lnTo>
                  <a:cubicBezTo>
                    <a:pt x="37" y="424"/>
                    <a:pt x="74" y="404"/>
                    <a:pt x="107" y="367"/>
                  </a:cubicBezTo>
                  <a:cubicBezTo>
                    <a:pt x="139" y="330"/>
                    <a:pt x="166" y="276"/>
                    <a:pt x="184" y="212"/>
                  </a:cubicBezTo>
                  <a:cubicBezTo>
                    <a:pt x="203" y="148"/>
                    <a:pt x="213" y="74"/>
                    <a:pt x="21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81952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74"/>
                    <a:pt x="10" y="148"/>
                    <a:pt x="29" y="212"/>
                  </a:cubicBezTo>
                  <a:cubicBezTo>
                    <a:pt x="47" y="276"/>
                    <a:pt x="74" y="330"/>
                    <a:pt x="107" y="367"/>
                  </a:cubicBezTo>
                  <a:cubicBezTo>
                    <a:pt x="139" y="404"/>
                    <a:pt x="176" y="424"/>
                    <a:pt x="213" y="424"/>
                  </a:cubicBezTo>
                  <a:lnTo>
                    <a:pt x="21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81952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4952880" y="1523880"/>
            <a:ext cx="153000" cy="305280"/>
            <a:chOff x="4952880" y="1523880"/>
            <a:chExt cx="153000" cy="305280"/>
          </a:xfrm>
        </p:grpSpPr>
        <p:sp>
          <p:nvSpPr>
            <p:cNvPr id="1354" name=""/>
            <p:cNvSpPr/>
            <p:nvPr/>
          </p:nvSpPr>
          <p:spPr>
            <a:xfrm>
              <a:off x="5029200" y="1523880"/>
              <a:ext cx="76680" cy="305280"/>
            </a:xfrm>
            <a:custGeom>
              <a:avLst/>
              <a:gdLst/>
              <a:ahLst/>
              <a:rect l="0" t="0" r="r" b="b"/>
              <a:pathLst>
                <a:path w="213" h="848">
                  <a:moveTo>
                    <a:pt x="0" y="848"/>
                  </a:moveTo>
                  <a:lnTo>
                    <a:pt x="213" y="848"/>
                  </a:lnTo>
                  <a:lnTo>
                    <a:pt x="213" y="848"/>
                  </a:lnTo>
                  <a:lnTo>
                    <a:pt x="213" y="848"/>
                  </a:lnTo>
                  <a:cubicBezTo>
                    <a:pt x="213" y="699"/>
                    <a:pt x="203" y="553"/>
                    <a:pt x="184" y="424"/>
                  </a:cubicBezTo>
                  <a:cubicBezTo>
                    <a:pt x="166" y="295"/>
                    <a:pt x="139" y="188"/>
                    <a:pt x="106" y="114"/>
                  </a:cubicBezTo>
                  <a:cubicBezTo>
                    <a:pt x="74" y="39"/>
                    <a:pt x="37" y="0"/>
                    <a:pt x="0" y="0"/>
                  </a:cubicBezTo>
                  <a:lnTo>
                    <a:pt x="0" y="84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952880" y="1523880"/>
              <a:ext cx="76680" cy="305280"/>
            </a:xfrm>
            <a:custGeom>
              <a:avLst/>
              <a:gdLst/>
              <a:ahLst/>
              <a:rect l="0" t="0" r="r" b="b"/>
              <a:pathLst>
                <a:path w="213" h="848">
                  <a:moveTo>
                    <a:pt x="213" y="848"/>
                  </a:moveTo>
                  <a:lnTo>
                    <a:pt x="213" y="0"/>
                  </a:lnTo>
                  <a:lnTo>
                    <a:pt x="213" y="0"/>
                  </a:lnTo>
                  <a:cubicBezTo>
                    <a:pt x="176" y="0"/>
                    <a:pt x="139" y="39"/>
                    <a:pt x="106" y="114"/>
                  </a:cubicBezTo>
                  <a:cubicBezTo>
                    <a:pt x="74" y="188"/>
                    <a:pt x="47" y="295"/>
                    <a:pt x="29" y="424"/>
                  </a:cubicBezTo>
                  <a:cubicBezTo>
                    <a:pt x="10" y="553"/>
                    <a:pt x="0" y="699"/>
                    <a:pt x="0" y="848"/>
                  </a:cubicBezTo>
                  <a:lnTo>
                    <a:pt x="213" y="84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952880" y="1828800"/>
              <a:ext cx="152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7" name=""/>
          <p:cNvGrpSpPr/>
          <p:nvPr/>
        </p:nvGrpSpPr>
        <p:grpSpPr>
          <a:xfrm>
            <a:off x="5257800" y="1523880"/>
            <a:ext cx="153000" cy="305280"/>
            <a:chOff x="5257800" y="1523880"/>
            <a:chExt cx="153000" cy="305280"/>
          </a:xfrm>
        </p:grpSpPr>
        <p:sp>
          <p:nvSpPr>
            <p:cNvPr id="1358" name=""/>
            <p:cNvSpPr/>
            <p:nvPr/>
          </p:nvSpPr>
          <p:spPr>
            <a:xfrm>
              <a:off x="5334120" y="1523880"/>
              <a:ext cx="76680" cy="305280"/>
            </a:xfrm>
            <a:custGeom>
              <a:avLst/>
              <a:gdLst/>
              <a:ahLst/>
              <a:rect l="0" t="0" r="r" b="b"/>
              <a:pathLst>
                <a:path w="213" h="848">
                  <a:moveTo>
                    <a:pt x="0" y="848"/>
                  </a:moveTo>
                  <a:lnTo>
                    <a:pt x="213" y="848"/>
                  </a:lnTo>
                  <a:lnTo>
                    <a:pt x="213" y="848"/>
                  </a:lnTo>
                  <a:lnTo>
                    <a:pt x="213" y="848"/>
                  </a:lnTo>
                  <a:cubicBezTo>
                    <a:pt x="213" y="699"/>
                    <a:pt x="203" y="553"/>
                    <a:pt x="184" y="424"/>
                  </a:cubicBezTo>
                  <a:cubicBezTo>
                    <a:pt x="166" y="295"/>
                    <a:pt x="139" y="188"/>
                    <a:pt x="106" y="114"/>
                  </a:cubicBezTo>
                  <a:cubicBezTo>
                    <a:pt x="74" y="39"/>
                    <a:pt x="37" y="0"/>
                    <a:pt x="0" y="0"/>
                  </a:cubicBezTo>
                  <a:lnTo>
                    <a:pt x="0" y="84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257800" y="1523880"/>
              <a:ext cx="76680" cy="305280"/>
            </a:xfrm>
            <a:custGeom>
              <a:avLst/>
              <a:gdLst/>
              <a:ahLst/>
              <a:rect l="0" t="0" r="r" b="b"/>
              <a:pathLst>
                <a:path w="213" h="848">
                  <a:moveTo>
                    <a:pt x="213" y="848"/>
                  </a:moveTo>
                  <a:lnTo>
                    <a:pt x="213" y="0"/>
                  </a:lnTo>
                  <a:lnTo>
                    <a:pt x="213" y="0"/>
                  </a:lnTo>
                  <a:cubicBezTo>
                    <a:pt x="176" y="0"/>
                    <a:pt x="139" y="39"/>
                    <a:pt x="106" y="114"/>
                  </a:cubicBezTo>
                  <a:cubicBezTo>
                    <a:pt x="74" y="188"/>
                    <a:pt x="47" y="295"/>
                    <a:pt x="29" y="424"/>
                  </a:cubicBezTo>
                  <a:cubicBezTo>
                    <a:pt x="10" y="553"/>
                    <a:pt x="0" y="699"/>
                    <a:pt x="0" y="848"/>
                  </a:cubicBezTo>
                  <a:lnTo>
                    <a:pt x="213" y="84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25780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5562720" y="1676520"/>
            <a:ext cx="152640" cy="152640"/>
            <a:chOff x="5562720" y="1676520"/>
            <a:chExt cx="152640" cy="152640"/>
          </a:xfrm>
        </p:grpSpPr>
        <p:sp>
          <p:nvSpPr>
            <p:cNvPr id="1362" name=""/>
            <p:cNvSpPr/>
            <p:nvPr/>
          </p:nvSpPr>
          <p:spPr>
            <a:xfrm>
              <a:off x="563868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424"/>
                  </a:moveTo>
                  <a:lnTo>
                    <a:pt x="213" y="424"/>
                  </a:lnTo>
                  <a:lnTo>
                    <a:pt x="213" y="424"/>
                  </a:lnTo>
                  <a:lnTo>
                    <a:pt x="213" y="424"/>
                  </a:lnTo>
                  <a:cubicBezTo>
                    <a:pt x="213" y="350"/>
                    <a:pt x="203" y="276"/>
                    <a:pt x="184" y="212"/>
                  </a:cubicBezTo>
                  <a:cubicBezTo>
                    <a:pt x="166" y="148"/>
                    <a:pt x="139" y="94"/>
                    <a:pt x="106" y="57"/>
                  </a:cubicBezTo>
                  <a:cubicBezTo>
                    <a:pt x="74" y="20"/>
                    <a:pt x="37" y="0"/>
                    <a:pt x="0" y="0"/>
                  </a:cubicBezTo>
                  <a:lnTo>
                    <a:pt x="0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56272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424"/>
                  </a:moveTo>
                  <a:lnTo>
                    <a:pt x="213" y="0"/>
                  </a:lnTo>
                  <a:lnTo>
                    <a:pt x="213" y="0"/>
                  </a:lnTo>
                  <a:cubicBezTo>
                    <a:pt x="176" y="0"/>
                    <a:pt x="139" y="20"/>
                    <a:pt x="106" y="57"/>
                  </a:cubicBezTo>
                  <a:cubicBezTo>
                    <a:pt x="74" y="94"/>
                    <a:pt x="47" y="148"/>
                    <a:pt x="29" y="212"/>
                  </a:cubicBezTo>
                  <a:cubicBezTo>
                    <a:pt x="10" y="276"/>
                    <a:pt x="0" y="350"/>
                    <a:pt x="0" y="424"/>
                  </a:cubicBezTo>
                  <a:lnTo>
                    <a:pt x="213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56272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5638680" y="1676520"/>
            <a:ext cx="153000" cy="152640"/>
            <a:chOff x="5638680" y="1676520"/>
            <a:chExt cx="153000" cy="152640"/>
          </a:xfrm>
        </p:grpSpPr>
        <p:sp>
          <p:nvSpPr>
            <p:cNvPr id="1366" name=""/>
            <p:cNvSpPr/>
            <p:nvPr/>
          </p:nvSpPr>
          <p:spPr>
            <a:xfrm>
              <a:off x="571500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424"/>
                  </a:moveTo>
                  <a:lnTo>
                    <a:pt x="213" y="424"/>
                  </a:lnTo>
                  <a:lnTo>
                    <a:pt x="213" y="424"/>
                  </a:lnTo>
                  <a:lnTo>
                    <a:pt x="213" y="424"/>
                  </a:lnTo>
                  <a:cubicBezTo>
                    <a:pt x="213" y="350"/>
                    <a:pt x="203" y="276"/>
                    <a:pt x="184" y="212"/>
                  </a:cubicBezTo>
                  <a:cubicBezTo>
                    <a:pt x="166" y="148"/>
                    <a:pt x="139" y="94"/>
                    <a:pt x="106" y="57"/>
                  </a:cubicBezTo>
                  <a:cubicBezTo>
                    <a:pt x="74" y="20"/>
                    <a:pt x="37" y="0"/>
                    <a:pt x="0" y="0"/>
                  </a:cubicBezTo>
                  <a:lnTo>
                    <a:pt x="0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63868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424"/>
                  </a:moveTo>
                  <a:lnTo>
                    <a:pt x="213" y="0"/>
                  </a:lnTo>
                  <a:lnTo>
                    <a:pt x="213" y="0"/>
                  </a:lnTo>
                  <a:cubicBezTo>
                    <a:pt x="176" y="0"/>
                    <a:pt x="139" y="20"/>
                    <a:pt x="106" y="57"/>
                  </a:cubicBezTo>
                  <a:cubicBezTo>
                    <a:pt x="74" y="94"/>
                    <a:pt x="47" y="148"/>
                    <a:pt x="29" y="212"/>
                  </a:cubicBezTo>
                  <a:cubicBezTo>
                    <a:pt x="10" y="276"/>
                    <a:pt x="0" y="350"/>
                    <a:pt x="0" y="424"/>
                  </a:cubicBezTo>
                  <a:lnTo>
                    <a:pt x="213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638680" y="1828800"/>
              <a:ext cx="152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9" name=""/>
          <p:cNvGrpSpPr/>
          <p:nvPr/>
        </p:nvGrpSpPr>
        <p:grpSpPr>
          <a:xfrm>
            <a:off x="5715000" y="1676520"/>
            <a:ext cx="153000" cy="152640"/>
            <a:chOff x="5715000" y="1676520"/>
            <a:chExt cx="153000" cy="152640"/>
          </a:xfrm>
        </p:grpSpPr>
        <p:sp>
          <p:nvSpPr>
            <p:cNvPr id="1370" name=""/>
            <p:cNvSpPr/>
            <p:nvPr/>
          </p:nvSpPr>
          <p:spPr>
            <a:xfrm>
              <a:off x="579132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424"/>
                  </a:moveTo>
                  <a:lnTo>
                    <a:pt x="213" y="424"/>
                  </a:lnTo>
                  <a:lnTo>
                    <a:pt x="213" y="424"/>
                  </a:lnTo>
                  <a:lnTo>
                    <a:pt x="213" y="424"/>
                  </a:lnTo>
                  <a:cubicBezTo>
                    <a:pt x="213" y="350"/>
                    <a:pt x="203" y="276"/>
                    <a:pt x="184" y="212"/>
                  </a:cubicBezTo>
                  <a:cubicBezTo>
                    <a:pt x="166" y="148"/>
                    <a:pt x="139" y="94"/>
                    <a:pt x="106" y="57"/>
                  </a:cubicBezTo>
                  <a:cubicBezTo>
                    <a:pt x="74" y="20"/>
                    <a:pt x="37" y="0"/>
                    <a:pt x="0" y="0"/>
                  </a:cubicBezTo>
                  <a:lnTo>
                    <a:pt x="0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71500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424"/>
                  </a:moveTo>
                  <a:lnTo>
                    <a:pt x="213" y="0"/>
                  </a:lnTo>
                  <a:lnTo>
                    <a:pt x="213" y="0"/>
                  </a:lnTo>
                  <a:cubicBezTo>
                    <a:pt x="176" y="0"/>
                    <a:pt x="139" y="20"/>
                    <a:pt x="106" y="57"/>
                  </a:cubicBezTo>
                  <a:cubicBezTo>
                    <a:pt x="74" y="94"/>
                    <a:pt x="47" y="148"/>
                    <a:pt x="29" y="212"/>
                  </a:cubicBezTo>
                  <a:cubicBezTo>
                    <a:pt x="10" y="276"/>
                    <a:pt x="0" y="350"/>
                    <a:pt x="0" y="424"/>
                  </a:cubicBezTo>
                  <a:lnTo>
                    <a:pt x="213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71500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5791320" y="1676520"/>
            <a:ext cx="152640" cy="152640"/>
            <a:chOff x="5791320" y="1676520"/>
            <a:chExt cx="152640" cy="152640"/>
          </a:xfrm>
        </p:grpSpPr>
        <p:sp>
          <p:nvSpPr>
            <p:cNvPr id="1374" name=""/>
            <p:cNvSpPr/>
            <p:nvPr/>
          </p:nvSpPr>
          <p:spPr>
            <a:xfrm>
              <a:off x="586728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424"/>
                  </a:moveTo>
                  <a:lnTo>
                    <a:pt x="213" y="424"/>
                  </a:lnTo>
                  <a:lnTo>
                    <a:pt x="213" y="424"/>
                  </a:lnTo>
                  <a:lnTo>
                    <a:pt x="213" y="424"/>
                  </a:lnTo>
                  <a:cubicBezTo>
                    <a:pt x="213" y="350"/>
                    <a:pt x="203" y="276"/>
                    <a:pt x="184" y="212"/>
                  </a:cubicBezTo>
                  <a:cubicBezTo>
                    <a:pt x="166" y="148"/>
                    <a:pt x="139" y="94"/>
                    <a:pt x="106" y="57"/>
                  </a:cubicBezTo>
                  <a:cubicBezTo>
                    <a:pt x="74" y="20"/>
                    <a:pt x="37" y="0"/>
                    <a:pt x="0" y="0"/>
                  </a:cubicBezTo>
                  <a:lnTo>
                    <a:pt x="0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79132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424"/>
                  </a:moveTo>
                  <a:lnTo>
                    <a:pt x="213" y="0"/>
                  </a:lnTo>
                  <a:lnTo>
                    <a:pt x="213" y="0"/>
                  </a:lnTo>
                  <a:cubicBezTo>
                    <a:pt x="176" y="0"/>
                    <a:pt x="139" y="20"/>
                    <a:pt x="106" y="57"/>
                  </a:cubicBezTo>
                  <a:cubicBezTo>
                    <a:pt x="74" y="94"/>
                    <a:pt x="47" y="148"/>
                    <a:pt x="29" y="212"/>
                  </a:cubicBezTo>
                  <a:cubicBezTo>
                    <a:pt x="10" y="276"/>
                    <a:pt x="0" y="350"/>
                    <a:pt x="0" y="424"/>
                  </a:cubicBezTo>
                  <a:lnTo>
                    <a:pt x="213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79132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"/>
          <p:cNvGrpSpPr/>
          <p:nvPr/>
        </p:nvGrpSpPr>
        <p:grpSpPr>
          <a:xfrm>
            <a:off x="5867280" y="1676520"/>
            <a:ext cx="153000" cy="152640"/>
            <a:chOff x="5867280" y="1676520"/>
            <a:chExt cx="153000" cy="152640"/>
          </a:xfrm>
        </p:grpSpPr>
        <p:sp>
          <p:nvSpPr>
            <p:cNvPr id="1378" name=""/>
            <p:cNvSpPr/>
            <p:nvPr/>
          </p:nvSpPr>
          <p:spPr>
            <a:xfrm>
              <a:off x="594360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424"/>
                  </a:moveTo>
                  <a:lnTo>
                    <a:pt x="213" y="424"/>
                  </a:lnTo>
                  <a:lnTo>
                    <a:pt x="213" y="424"/>
                  </a:lnTo>
                  <a:lnTo>
                    <a:pt x="213" y="424"/>
                  </a:lnTo>
                  <a:cubicBezTo>
                    <a:pt x="213" y="350"/>
                    <a:pt x="203" y="276"/>
                    <a:pt x="184" y="212"/>
                  </a:cubicBezTo>
                  <a:cubicBezTo>
                    <a:pt x="166" y="148"/>
                    <a:pt x="139" y="94"/>
                    <a:pt x="106" y="57"/>
                  </a:cubicBezTo>
                  <a:cubicBezTo>
                    <a:pt x="74" y="20"/>
                    <a:pt x="37" y="0"/>
                    <a:pt x="0" y="0"/>
                  </a:cubicBezTo>
                  <a:lnTo>
                    <a:pt x="0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86728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424"/>
                  </a:moveTo>
                  <a:lnTo>
                    <a:pt x="213" y="0"/>
                  </a:lnTo>
                  <a:lnTo>
                    <a:pt x="213" y="0"/>
                  </a:lnTo>
                  <a:cubicBezTo>
                    <a:pt x="176" y="0"/>
                    <a:pt x="139" y="20"/>
                    <a:pt x="106" y="57"/>
                  </a:cubicBezTo>
                  <a:cubicBezTo>
                    <a:pt x="74" y="94"/>
                    <a:pt x="47" y="148"/>
                    <a:pt x="29" y="212"/>
                  </a:cubicBezTo>
                  <a:cubicBezTo>
                    <a:pt x="10" y="276"/>
                    <a:pt x="0" y="350"/>
                    <a:pt x="0" y="424"/>
                  </a:cubicBezTo>
                  <a:lnTo>
                    <a:pt x="213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867280" y="1828800"/>
              <a:ext cx="152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1" name=""/>
          <p:cNvGrpSpPr/>
          <p:nvPr/>
        </p:nvGrpSpPr>
        <p:grpSpPr>
          <a:xfrm>
            <a:off x="5943600" y="1676520"/>
            <a:ext cx="153000" cy="152640"/>
            <a:chOff x="5943600" y="1676520"/>
            <a:chExt cx="153000" cy="152640"/>
          </a:xfrm>
        </p:grpSpPr>
        <p:sp>
          <p:nvSpPr>
            <p:cNvPr id="1382" name=""/>
            <p:cNvSpPr/>
            <p:nvPr/>
          </p:nvSpPr>
          <p:spPr>
            <a:xfrm>
              <a:off x="601992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424"/>
                  </a:moveTo>
                  <a:lnTo>
                    <a:pt x="213" y="424"/>
                  </a:lnTo>
                  <a:lnTo>
                    <a:pt x="213" y="424"/>
                  </a:lnTo>
                  <a:lnTo>
                    <a:pt x="213" y="424"/>
                  </a:lnTo>
                  <a:cubicBezTo>
                    <a:pt x="213" y="350"/>
                    <a:pt x="203" y="276"/>
                    <a:pt x="184" y="212"/>
                  </a:cubicBezTo>
                  <a:cubicBezTo>
                    <a:pt x="166" y="148"/>
                    <a:pt x="139" y="94"/>
                    <a:pt x="106" y="57"/>
                  </a:cubicBezTo>
                  <a:cubicBezTo>
                    <a:pt x="74" y="20"/>
                    <a:pt x="37" y="0"/>
                    <a:pt x="0" y="0"/>
                  </a:cubicBezTo>
                  <a:lnTo>
                    <a:pt x="0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94360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424"/>
                  </a:moveTo>
                  <a:lnTo>
                    <a:pt x="213" y="0"/>
                  </a:lnTo>
                  <a:lnTo>
                    <a:pt x="213" y="0"/>
                  </a:lnTo>
                  <a:cubicBezTo>
                    <a:pt x="176" y="0"/>
                    <a:pt x="139" y="20"/>
                    <a:pt x="106" y="57"/>
                  </a:cubicBezTo>
                  <a:cubicBezTo>
                    <a:pt x="74" y="94"/>
                    <a:pt x="47" y="148"/>
                    <a:pt x="29" y="212"/>
                  </a:cubicBezTo>
                  <a:cubicBezTo>
                    <a:pt x="10" y="276"/>
                    <a:pt x="0" y="350"/>
                    <a:pt x="0" y="424"/>
                  </a:cubicBezTo>
                  <a:lnTo>
                    <a:pt x="213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94360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6019920" y="1676520"/>
            <a:ext cx="152640" cy="152640"/>
            <a:chOff x="6019920" y="1676520"/>
            <a:chExt cx="152640" cy="152640"/>
          </a:xfrm>
        </p:grpSpPr>
        <p:sp>
          <p:nvSpPr>
            <p:cNvPr id="1386" name=""/>
            <p:cNvSpPr/>
            <p:nvPr/>
          </p:nvSpPr>
          <p:spPr>
            <a:xfrm>
              <a:off x="609588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424"/>
                  </a:moveTo>
                  <a:lnTo>
                    <a:pt x="213" y="424"/>
                  </a:lnTo>
                  <a:lnTo>
                    <a:pt x="213" y="424"/>
                  </a:lnTo>
                  <a:lnTo>
                    <a:pt x="213" y="424"/>
                  </a:lnTo>
                  <a:cubicBezTo>
                    <a:pt x="213" y="350"/>
                    <a:pt x="203" y="276"/>
                    <a:pt x="184" y="212"/>
                  </a:cubicBezTo>
                  <a:cubicBezTo>
                    <a:pt x="166" y="148"/>
                    <a:pt x="139" y="94"/>
                    <a:pt x="106" y="57"/>
                  </a:cubicBezTo>
                  <a:cubicBezTo>
                    <a:pt x="74" y="20"/>
                    <a:pt x="37" y="0"/>
                    <a:pt x="0" y="0"/>
                  </a:cubicBezTo>
                  <a:lnTo>
                    <a:pt x="0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01992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424"/>
                  </a:moveTo>
                  <a:lnTo>
                    <a:pt x="213" y="0"/>
                  </a:lnTo>
                  <a:lnTo>
                    <a:pt x="213" y="0"/>
                  </a:lnTo>
                  <a:cubicBezTo>
                    <a:pt x="176" y="0"/>
                    <a:pt x="139" y="20"/>
                    <a:pt x="106" y="57"/>
                  </a:cubicBezTo>
                  <a:cubicBezTo>
                    <a:pt x="74" y="94"/>
                    <a:pt x="47" y="148"/>
                    <a:pt x="29" y="212"/>
                  </a:cubicBezTo>
                  <a:cubicBezTo>
                    <a:pt x="10" y="276"/>
                    <a:pt x="0" y="350"/>
                    <a:pt x="0" y="424"/>
                  </a:cubicBezTo>
                  <a:lnTo>
                    <a:pt x="213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01992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6095880" y="1676520"/>
            <a:ext cx="153000" cy="152640"/>
            <a:chOff x="6095880" y="1676520"/>
            <a:chExt cx="153000" cy="152640"/>
          </a:xfrm>
        </p:grpSpPr>
        <p:sp>
          <p:nvSpPr>
            <p:cNvPr id="1390" name=""/>
            <p:cNvSpPr/>
            <p:nvPr/>
          </p:nvSpPr>
          <p:spPr>
            <a:xfrm>
              <a:off x="617220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424"/>
                  </a:moveTo>
                  <a:lnTo>
                    <a:pt x="213" y="424"/>
                  </a:lnTo>
                  <a:lnTo>
                    <a:pt x="213" y="424"/>
                  </a:lnTo>
                  <a:lnTo>
                    <a:pt x="213" y="424"/>
                  </a:lnTo>
                  <a:cubicBezTo>
                    <a:pt x="213" y="350"/>
                    <a:pt x="203" y="276"/>
                    <a:pt x="184" y="212"/>
                  </a:cubicBezTo>
                  <a:cubicBezTo>
                    <a:pt x="166" y="148"/>
                    <a:pt x="139" y="94"/>
                    <a:pt x="106" y="57"/>
                  </a:cubicBezTo>
                  <a:cubicBezTo>
                    <a:pt x="74" y="20"/>
                    <a:pt x="37" y="0"/>
                    <a:pt x="0" y="0"/>
                  </a:cubicBezTo>
                  <a:lnTo>
                    <a:pt x="0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095880" y="167652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424"/>
                  </a:moveTo>
                  <a:lnTo>
                    <a:pt x="213" y="0"/>
                  </a:lnTo>
                  <a:lnTo>
                    <a:pt x="213" y="0"/>
                  </a:lnTo>
                  <a:cubicBezTo>
                    <a:pt x="176" y="0"/>
                    <a:pt x="139" y="20"/>
                    <a:pt x="106" y="57"/>
                  </a:cubicBezTo>
                  <a:cubicBezTo>
                    <a:pt x="74" y="94"/>
                    <a:pt x="47" y="148"/>
                    <a:pt x="29" y="212"/>
                  </a:cubicBezTo>
                  <a:cubicBezTo>
                    <a:pt x="10" y="276"/>
                    <a:pt x="0" y="350"/>
                    <a:pt x="0" y="424"/>
                  </a:cubicBezTo>
                  <a:lnTo>
                    <a:pt x="213" y="42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095880" y="1828800"/>
              <a:ext cx="152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3" name=""/>
          <p:cNvGrpSpPr/>
          <p:nvPr/>
        </p:nvGrpSpPr>
        <p:grpSpPr>
          <a:xfrm>
            <a:off x="4952880" y="1828800"/>
            <a:ext cx="153000" cy="305280"/>
            <a:chOff x="4952880" y="1828800"/>
            <a:chExt cx="153000" cy="305280"/>
          </a:xfrm>
        </p:grpSpPr>
        <p:sp>
          <p:nvSpPr>
            <p:cNvPr id="1394" name=""/>
            <p:cNvSpPr/>
            <p:nvPr/>
          </p:nvSpPr>
          <p:spPr>
            <a:xfrm>
              <a:off x="5029200" y="1828800"/>
              <a:ext cx="76680" cy="305280"/>
            </a:xfrm>
            <a:custGeom>
              <a:avLst/>
              <a:gdLst/>
              <a:ahLst/>
              <a:rect l="0" t="0" r="r" b="b"/>
              <a:pathLst>
                <a:path w="213" h="848">
                  <a:moveTo>
                    <a:pt x="0" y="0"/>
                  </a:moveTo>
                  <a:lnTo>
                    <a:pt x="0" y="848"/>
                  </a:lnTo>
                  <a:lnTo>
                    <a:pt x="0" y="848"/>
                  </a:lnTo>
                  <a:cubicBezTo>
                    <a:pt x="37" y="848"/>
                    <a:pt x="74" y="809"/>
                    <a:pt x="107" y="734"/>
                  </a:cubicBezTo>
                  <a:cubicBezTo>
                    <a:pt x="139" y="660"/>
                    <a:pt x="166" y="553"/>
                    <a:pt x="184" y="424"/>
                  </a:cubicBezTo>
                  <a:cubicBezTo>
                    <a:pt x="203" y="295"/>
                    <a:pt x="213" y="149"/>
                    <a:pt x="21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952880" y="1828800"/>
              <a:ext cx="76680" cy="305280"/>
            </a:xfrm>
            <a:custGeom>
              <a:avLst/>
              <a:gdLst/>
              <a:ahLst/>
              <a:rect l="0" t="0" r="r" b="b"/>
              <a:pathLst>
                <a:path w="213" h="848">
                  <a:moveTo>
                    <a:pt x="213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49"/>
                    <a:pt x="10" y="295"/>
                    <a:pt x="29" y="424"/>
                  </a:cubicBezTo>
                  <a:cubicBezTo>
                    <a:pt x="47" y="553"/>
                    <a:pt x="74" y="660"/>
                    <a:pt x="107" y="734"/>
                  </a:cubicBezTo>
                  <a:cubicBezTo>
                    <a:pt x="139" y="809"/>
                    <a:pt x="176" y="848"/>
                    <a:pt x="213" y="848"/>
                  </a:cubicBezTo>
                  <a:lnTo>
                    <a:pt x="21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952880" y="1828800"/>
              <a:ext cx="152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7" name=""/>
          <p:cNvGrpSpPr/>
          <p:nvPr/>
        </p:nvGrpSpPr>
        <p:grpSpPr>
          <a:xfrm>
            <a:off x="5257800" y="1828800"/>
            <a:ext cx="153000" cy="305280"/>
            <a:chOff x="5257800" y="1828800"/>
            <a:chExt cx="153000" cy="305280"/>
          </a:xfrm>
        </p:grpSpPr>
        <p:sp>
          <p:nvSpPr>
            <p:cNvPr id="1398" name=""/>
            <p:cNvSpPr/>
            <p:nvPr/>
          </p:nvSpPr>
          <p:spPr>
            <a:xfrm>
              <a:off x="5334120" y="1828800"/>
              <a:ext cx="76680" cy="305280"/>
            </a:xfrm>
            <a:custGeom>
              <a:avLst/>
              <a:gdLst/>
              <a:ahLst/>
              <a:rect l="0" t="0" r="r" b="b"/>
              <a:pathLst>
                <a:path w="213" h="848">
                  <a:moveTo>
                    <a:pt x="0" y="0"/>
                  </a:moveTo>
                  <a:lnTo>
                    <a:pt x="0" y="848"/>
                  </a:lnTo>
                  <a:lnTo>
                    <a:pt x="0" y="848"/>
                  </a:lnTo>
                  <a:cubicBezTo>
                    <a:pt x="37" y="848"/>
                    <a:pt x="74" y="809"/>
                    <a:pt x="107" y="734"/>
                  </a:cubicBezTo>
                  <a:cubicBezTo>
                    <a:pt x="139" y="660"/>
                    <a:pt x="166" y="553"/>
                    <a:pt x="184" y="424"/>
                  </a:cubicBezTo>
                  <a:cubicBezTo>
                    <a:pt x="203" y="295"/>
                    <a:pt x="213" y="149"/>
                    <a:pt x="21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257800" y="1828800"/>
              <a:ext cx="76680" cy="305280"/>
            </a:xfrm>
            <a:custGeom>
              <a:avLst/>
              <a:gdLst/>
              <a:ahLst/>
              <a:rect l="0" t="0" r="r" b="b"/>
              <a:pathLst>
                <a:path w="213" h="848">
                  <a:moveTo>
                    <a:pt x="213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49"/>
                    <a:pt x="10" y="295"/>
                    <a:pt x="29" y="424"/>
                  </a:cubicBezTo>
                  <a:cubicBezTo>
                    <a:pt x="47" y="553"/>
                    <a:pt x="74" y="660"/>
                    <a:pt x="107" y="734"/>
                  </a:cubicBezTo>
                  <a:cubicBezTo>
                    <a:pt x="139" y="809"/>
                    <a:pt x="176" y="848"/>
                    <a:pt x="213" y="848"/>
                  </a:cubicBezTo>
                  <a:lnTo>
                    <a:pt x="21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25780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5562720" y="1828800"/>
            <a:ext cx="152640" cy="152640"/>
            <a:chOff x="5562720" y="1828800"/>
            <a:chExt cx="152640" cy="152640"/>
          </a:xfrm>
        </p:grpSpPr>
        <p:sp>
          <p:nvSpPr>
            <p:cNvPr id="1402" name=""/>
            <p:cNvSpPr/>
            <p:nvPr/>
          </p:nvSpPr>
          <p:spPr>
            <a:xfrm>
              <a:off x="563868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0"/>
                  </a:moveTo>
                  <a:lnTo>
                    <a:pt x="0" y="424"/>
                  </a:lnTo>
                  <a:lnTo>
                    <a:pt x="0" y="424"/>
                  </a:lnTo>
                  <a:cubicBezTo>
                    <a:pt x="37" y="424"/>
                    <a:pt x="74" y="404"/>
                    <a:pt x="107" y="367"/>
                  </a:cubicBezTo>
                  <a:cubicBezTo>
                    <a:pt x="139" y="330"/>
                    <a:pt x="166" y="276"/>
                    <a:pt x="184" y="212"/>
                  </a:cubicBezTo>
                  <a:cubicBezTo>
                    <a:pt x="203" y="148"/>
                    <a:pt x="213" y="74"/>
                    <a:pt x="21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56272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74"/>
                    <a:pt x="10" y="148"/>
                    <a:pt x="29" y="212"/>
                  </a:cubicBezTo>
                  <a:cubicBezTo>
                    <a:pt x="47" y="276"/>
                    <a:pt x="74" y="330"/>
                    <a:pt x="107" y="367"/>
                  </a:cubicBezTo>
                  <a:cubicBezTo>
                    <a:pt x="139" y="404"/>
                    <a:pt x="176" y="424"/>
                    <a:pt x="213" y="424"/>
                  </a:cubicBezTo>
                  <a:lnTo>
                    <a:pt x="21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56272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5" name=""/>
          <p:cNvGrpSpPr/>
          <p:nvPr/>
        </p:nvGrpSpPr>
        <p:grpSpPr>
          <a:xfrm>
            <a:off x="5638680" y="1828800"/>
            <a:ext cx="153000" cy="152640"/>
            <a:chOff x="5638680" y="1828800"/>
            <a:chExt cx="153000" cy="152640"/>
          </a:xfrm>
        </p:grpSpPr>
        <p:sp>
          <p:nvSpPr>
            <p:cNvPr id="1406" name=""/>
            <p:cNvSpPr/>
            <p:nvPr/>
          </p:nvSpPr>
          <p:spPr>
            <a:xfrm>
              <a:off x="571500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0"/>
                  </a:moveTo>
                  <a:lnTo>
                    <a:pt x="0" y="424"/>
                  </a:lnTo>
                  <a:lnTo>
                    <a:pt x="0" y="424"/>
                  </a:lnTo>
                  <a:cubicBezTo>
                    <a:pt x="37" y="424"/>
                    <a:pt x="74" y="404"/>
                    <a:pt x="107" y="367"/>
                  </a:cubicBezTo>
                  <a:cubicBezTo>
                    <a:pt x="139" y="330"/>
                    <a:pt x="166" y="276"/>
                    <a:pt x="184" y="212"/>
                  </a:cubicBezTo>
                  <a:cubicBezTo>
                    <a:pt x="203" y="148"/>
                    <a:pt x="213" y="74"/>
                    <a:pt x="21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63868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74"/>
                    <a:pt x="10" y="148"/>
                    <a:pt x="29" y="212"/>
                  </a:cubicBezTo>
                  <a:cubicBezTo>
                    <a:pt x="47" y="276"/>
                    <a:pt x="74" y="330"/>
                    <a:pt x="107" y="367"/>
                  </a:cubicBezTo>
                  <a:cubicBezTo>
                    <a:pt x="139" y="404"/>
                    <a:pt x="176" y="424"/>
                    <a:pt x="213" y="424"/>
                  </a:cubicBezTo>
                  <a:lnTo>
                    <a:pt x="21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638680" y="1828800"/>
              <a:ext cx="152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5715000" y="1828800"/>
            <a:ext cx="153000" cy="152640"/>
            <a:chOff x="5715000" y="1828800"/>
            <a:chExt cx="153000" cy="152640"/>
          </a:xfrm>
        </p:grpSpPr>
        <p:sp>
          <p:nvSpPr>
            <p:cNvPr id="1410" name=""/>
            <p:cNvSpPr/>
            <p:nvPr/>
          </p:nvSpPr>
          <p:spPr>
            <a:xfrm>
              <a:off x="579132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0"/>
                  </a:moveTo>
                  <a:lnTo>
                    <a:pt x="0" y="424"/>
                  </a:lnTo>
                  <a:lnTo>
                    <a:pt x="0" y="424"/>
                  </a:lnTo>
                  <a:cubicBezTo>
                    <a:pt x="37" y="424"/>
                    <a:pt x="74" y="404"/>
                    <a:pt x="107" y="367"/>
                  </a:cubicBezTo>
                  <a:cubicBezTo>
                    <a:pt x="139" y="330"/>
                    <a:pt x="166" y="276"/>
                    <a:pt x="184" y="212"/>
                  </a:cubicBezTo>
                  <a:cubicBezTo>
                    <a:pt x="203" y="148"/>
                    <a:pt x="213" y="74"/>
                    <a:pt x="21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71500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74"/>
                    <a:pt x="10" y="148"/>
                    <a:pt x="29" y="212"/>
                  </a:cubicBezTo>
                  <a:cubicBezTo>
                    <a:pt x="47" y="276"/>
                    <a:pt x="74" y="330"/>
                    <a:pt x="107" y="367"/>
                  </a:cubicBezTo>
                  <a:cubicBezTo>
                    <a:pt x="139" y="404"/>
                    <a:pt x="176" y="424"/>
                    <a:pt x="213" y="424"/>
                  </a:cubicBezTo>
                  <a:lnTo>
                    <a:pt x="21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71500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5791320" y="1828800"/>
            <a:ext cx="152640" cy="152640"/>
            <a:chOff x="5791320" y="1828800"/>
            <a:chExt cx="152640" cy="152640"/>
          </a:xfrm>
        </p:grpSpPr>
        <p:sp>
          <p:nvSpPr>
            <p:cNvPr id="1414" name=""/>
            <p:cNvSpPr/>
            <p:nvPr/>
          </p:nvSpPr>
          <p:spPr>
            <a:xfrm>
              <a:off x="586728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0"/>
                  </a:moveTo>
                  <a:lnTo>
                    <a:pt x="0" y="424"/>
                  </a:lnTo>
                  <a:lnTo>
                    <a:pt x="0" y="424"/>
                  </a:lnTo>
                  <a:cubicBezTo>
                    <a:pt x="37" y="424"/>
                    <a:pt x="74" y="404"/>
                    <a:pt x="107" y="367"/>
                  </a:cubicBezTo>
                  <a:cubicBezTo>
                    <a:pt x="139" y="330"/>
                    <a:pt x="166" y="276"/>
                    <a:pt x="184" y="212"/>
                  </a:cubicBezTo>
                  <a:cubicBezTo>
                    <a:pt x="203" y="148"/>
                    <a:pt x="213" y="74"/>
                    <a:pt x="21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79132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74"/>
                    <a:pt x="10" y="148"/>
                    <a:pt x="29" y="212"/>
                  </a:cubicBezTo>
                  <a:cubicBezTo>
                    <a:pt x="47" y="276"/>
                    <a:pt x="74" y="330"/>
                    <a:pt x="107" y="367"/>
                  </a:cubicBezTo>
                  <a:cubicBezTo>
                    <a:pt x="139" y="404"/>
                    <a:pt x="176" y="424"/>
                    <a:pt x="213" y="424"/>
                  </a:cubicBezTo>
                  <a:lnTo>
                    <a:pt x="21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79132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5867280" y="1828800"/>
            <a:ext cx="153000" cy="152640"/>
            <a:chOff x="5867280" y="1828800"/>
            <a:chExt cx="153000" cy="152640"/>
          </a:xfrm>
        </p:grpSpPr>
        <p:sp>
          <p:nvSpPr>
            <p:cNvPr id="1418" name=""/>
            <p:cNvSpPr/>
            <p:nvPr/>
          </p:nvSpPr>
          <p:spPr>
            <a:xfrm>
              <a:off x="594360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0"/>
                  </a:moveTo>
                  <a:lnTo>
                    <a:pt x="0" y="424"/>
                  </a:lnTo>
                  <a:lnTo>
                    <a:pt x="0" y="424"/>
                  </a:lnTo>
                  <a:cubicBezTo>
                    <a:pt x="37" y="424"/>
                    <a:pt x="74" y="404"/>
                    <a:pt x="107" y="367"/>
                  </a:cubicBezTo>
                  <a:cubicBezTo>
                    <a:pt x="139" y="330"/>
                    <a:pt x="166" y="276"/>
                    <a:pt x="184" y="212"/>
                  </a:cubicBezTo>
                  <a:cubicBezTo>
                    <a:pt x="203" y="148"/>
                    <a:pt x="213" y="74"/>
                    <a:pt x="21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6728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74"/>
                    <a:pt x="10" y="148"/>
                    <a:pt x="29" y="212"/>
                  </a:cubicBezTo>
                  <a:cubicBezTo>
                    <a:pt x="47" y="276"/>
                    <a:pt x="74" y="330"/>
                    <a:pt x="107" y="367"/>
                  </a:cubicBezTo>
                  <a:cubicBezTo>
                    <a:pt x="139" y="404"/>
                    <a:pt x="176" y="424"/>
                    <a:pt x="213" y="424"/>
                  </a:cubicBezTo>
                  <a:lnTo>
                    <a:pt x="21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67280" y="1828800"/>
              <a:ext cx="152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"/>
          <p:cNvGrpSpPr/>
          <p:nvPr/>
        </p:nvGrpSpPr>
        <p:grpSpPr>
          <a:xfrm>
            <a:off x="5943600" y="1828800"/>
            <a:ext cx="153000" cy="152640"/>
            <a:chOff x="5943600" y="1828800"/>
            <a:chExt cx="153000" cy="152640"/>
          </a:xfrm>
        </p:grpSpPr>
        <p:sp>
          <p:nvSpPr>
            <p:cNvPr id="1422" name=""/>
            <p:cNvSpPr/>
            <p:nvPr/>
          </p:nvSpPr>
          <p:spPr>
            <a:xfrm>
              <a:off x="601992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0"/>
                  </a:moveTo>
                  <a:lnTo>
                    <a:pt x="0" y="424"/>
                  </a:lnTo>
                  <a:lnTo>
                    <a:pt x="0" y="424"/>
                  </a:lnTo>
                  <a:cubicBezTo>
                    <a:pt x="37" y="424"/>
                    <a:pt x="74" y="404"/>
                    <a:pt x="107" y="367"/>
                  </a:cubicBezTo>
                  <a:cubicBezTo>
                    <a:pt x="139" y="330"/>
                    <a:pt x="166" y="276"/>
                    <a:pt x="184" y="212"/>
                  </a:cubicBezTo>
                  <a:cubicBezTo>
                    <a:pt x="203" y="148"/>
                    <a:pt x="213" y="74"/>
                    <a:pt x="21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94360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74"/>
                    <a:pt x="10" y="148"/>
                    <a:pt x="29" y="212"/>
                  </a:cubicBezTo>
                  <a:cubicBezTo>
                    <a:pt x="47" y="276"/>
                    <a:pt x="74" y="330"/>
                    <a:pt x="107" y="367"/>
                  </a:cubicBezTo>
                  <a:cubicBezTo>
                    <a:pt x="139" y="404"/>
                    <a:pt x="176" y="424"/>
                    <a:pt x="213" y="424"/>
                  </a:cubicBezTo>
                  <a:lnTo>
                    <a:pt x="21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94360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6019920" y="1828800"/>
            <a:ext cx="152640" cy="152640"/>
            <a:chOff x="6019920" y="1828800"/>
            <a:chExt cx="152640" cy="152640"/>
          </a:xfrm>
        </p:grpSpPr>
        <p:sp>
          <p:nvSpPr>
            <p:cNvPr id="1426" name=""/>
            <p:cNvSpPr/>
            <p:nvPr/>
          </p:nvSpPr>
          <p:spPr>
            <a:xfrm>
              <a:off x="609588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0"/>
                  </a:moveTo>
                  <a:lnTo>
                    <a:pt x="0" y="424"/>
                  </a:lnTo>
                  <a:lnTo>
                    <a:pt x="0" y="424"/>
                  </a:lnTo>
                  <a:cubicBezTo>
                    <a:pt x="37" y="424"/>
                    <a:pt x="74" y="404"/>
                    <a:pt x="107" y="367"/>
                  </a:cubicBezTo>
                  <a:cubicBezTo>
                    <a:pt x="139" y="330"/>
                    <a:pt x="166" y="276"/>
                    <a:pt x="184" y="212"/>
                  </a:cubicBezTo>
                  <a:cubicBezTo>
                    <a:pt x="203" y="148"/>
                    <a:pt x="213" y="74"/>
                    <a:pt x="21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01992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74"/>
                    <a:pt x="10" y="148"/>
                    <a:pt x="29" y="212"/>
                  </a:cubicBezTo>
                  <a:cubicBezTo>
                    <a:pt x="47" y="276"/>
                    <a:pt x="74" y="330"/>
                    <a:pt x="107" y="367"/>
                  </a:cubicBezTo>
                  <a:cubicBezTo>
                    <a:pt x="139" y="404"/>
                    <a:pt x="176" y="424"/>
                    <a:pt x="213" y="424"/>
                  </a:cubicBezTo>
                  <a:lnTo>
                    <a:pt x="21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019920" y="182880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9" name=""/>
          <p:cNvGrpSpPr/>
          <p:nvPr/>
        </p:nvGrpSpPr>
        <p:grpSpPr>
          <a:xfrm>
            <a:off x="6095880" y="1828800"/>
            <a:ext cx="153000" cy="152640"/>
            <a:chOff x="6095880" y="1828800"/>
            <a:chExt cx="153000" cy="152640"/>
          </a:xfrm>
        </p:grpSpPr>
        <p:sp>
          <p:nvSpPr>
            <p:cNvPr id="1430" name=""/>
            <p:cNvSpPr/>
            <p:nvPr/>
          </p:nvSpPr>
          <p:spPr>
            <a:xfrm>
              <a:off x="617220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0" y="0"/>
                  </a:moveTo>
                  <a:lnTo>
                    <a:pt x="0" y="424"/>
                  </a:lnTo>
                  <a:lnTo>
                    <a:pt x="0" y="424"/>
                  </a:lnTo>
                  <a:cubicBezTo>
                    <a:pt x="37" y="424"/>
                    <a:pt x="74" y="404"/>
                    <a:pt x="107" y="367"/>
                  </a:cubicBezTo>
                  <a:cubicBezTo>
                    <a:pt x="139" y="330"/>
                    <a:pt x="166" y="276"/>
                    <a:pt x="184" y="212"/>
                  </a:cubicBezTo>
                  <a:cubicBezTo>
                    <a:pt x="203" y="148"/>
                    <a:pt x="213" y="74"/>
                    <a:pt x="21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095880" y="1828800"/>
              <a:ext cx="76680" cy="152640"/>
            </a:xfrm>
            <a:custGeom>
              <a:avLst/>
              <a:gdLst/>
              <a:ahLst/>
              <a:rect l="0" t="0" r="r" b="b"/>
              <a:pathLst>
                <a:path w="213" h="424">
                  <a:moveTo>
                    <a:pt x="213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74"/>
                    <a:pt x="10" y="148"/>
                    <a:pt x="29" y="212"/>
                  </a:cubicBezTo>
                  <a:cubicBezTo>
                    <a:pt x="47" y="276"/>
                    <a:pt x="74" y="330"/>
                    <a:pt x="107" y="367"/>
                  </a:cubicBezTo>
                  <a:cubicBezTo>
                    <a:pt x="139" y="404"/>
                    <a:pt x="176" y="424"/>
                    <a:pt x="213" y="424"/>
                  </a:cubicBezTo>
                  <a:lnTo>
                    <a:pt x="21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095880" y="1828800"/>
              <a:ext cx="152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"/>
          <p:cNvSpPr/>
          <p:nvPr/>
        </p:nvSpPr>
        <p:spPr>
          <a:xfrm>
            <a:off x="1752480" y="1676520"/>
            <a:ext cx="1143000" cy="30492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1676520" y="18288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5638680" y="1676520"/>
            <a:ext cx="533520" cy="30492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952880" y="18288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H. Cafarella</dc:creator>
  <dc:description/>
  <dc:language>en-US</dc:language>
  <cp:lastModifiedBy>John H. Cafarella</cp:lastModifiedBy>
  <cp:revision>0</cp:revision>
  <dc:subject/>
  <dc:title>2.4-GHz PAR Proposal</dc:title>
</cp:coreProperties>
</file>