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1FC378-96E8-442C-8DD3-3EFFE6815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2560" cy="685656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1828800"/>
            <a:ext cx="906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09480"/>
            <a:ext cx="7772400" cy="13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2nd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 (PH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2590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tative Agen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ptember 8-12,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ndon,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September 8, 8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b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8 Submi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I suggest we sent a call for papers to everybody. It will accelerate our progress if authors can circulate the actual papers or presentations in advanc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9 Attend common BRAN/802 m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0 Next meeting Goals/Age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609480"/>
            <a:ext cx="80010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meeting IEEE P802.11 TG a / ETSI project BRAN WG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Introduction of IEEE P802.11 and its most important rules (1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Schedule for new PHY  in 5 GHz (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Long term goals for IEEE/ETSI collaboration in 5.2 GHz wireless standard development (10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Common PHY, different 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Allow 802.11 MAC devices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meeting IEEE P802.11 TG a / ETSI project BRAN WG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Technical Requirements (1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 Data rates and types of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 Multipath and interference robus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3 Connection vs connection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4 Packet drop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Technical proposals (1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 Modulation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meeting IEEE P802.11 TG a / ETSI project BRAN WG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Introduction of ETSI Project BRAN and its most important rules (1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Schedules (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Technical Requirements (10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1 Data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2 Mobility levels to be 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3 ATM service classes to be 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4 Fixed ATM access requirements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meeting IEEE P802.11 TG a / ETSI project BRAN WG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Technical proposals seminar (60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 Channel models, modulation &amp; coding issues and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 MAC issues &amp;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60948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meeting IEEE P802.11 officers / ETSI project BRAN Project Management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s for the meeting with the PMC (10 minut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1 positions on co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2 ground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dissemination, 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10-14 - Queen Elizabeth, Montreal, PQ, Ple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ch 9-13 - Hyatt Regency Irvine, CA, Ple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uly 6-10 - Hyatt Regency La Jolla, San Diego, CA, Ple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9-13 - Hyatt Regency, Albuquerque, NM, Ple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ch 8-12 - Hyatt Regency Town Lake, Austin, TX,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uly 5-9 - Queen Elizabeth Hotel, Montreal, PQ, Plenary (contract not signed y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8-12 - Hyatt Regency Kauai, Koloa, HI, plenary (contract not yet sig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all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tart the work of TG a and TG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stablish cooperation between IEEE P802.11 and ETSI project B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stablish a strong liaison between TG a and ETSI project BRAN WG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gh schedule of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meeting of TG a and TG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Election of secretary and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Annou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Agenda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Organisation of sub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 Any Other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7 Adjourn for TG a and TG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a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Election of secretary and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Agenda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Revise 5 criteria  PAR requ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Project Schedule and major miles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a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 Meetings and process to develop 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7 Technical Discussions/ Brainst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1 PHY baseline (key parameters and  requir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2 rates, sensitivity, multipath/PER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3 MAC bas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4 Evaluation and rating criteria for submitted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a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8 Submi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I suggest we sent a call for papers to everybody. It will accelerate our progress if authors can circulate the actual papers or presentations in advanc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9 Prepare for BRAN/802 m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0 Next meeting Goals/Age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b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Election of secretary and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Agenda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Revise / Finalize 5 criteria  PAR requ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Project Schedule and major miles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b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 Meetings and process to develop 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7 Technical Discussions/ Brainst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1 PHY baseline (key parameters and  requir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2 rates, sensitivity, multipath/PER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3 MAC bas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4 Evaluation and rating criteria for submitted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TG b agenda</dc:title>
</cp:coreProperties>
</file>