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3FDEC6-307E-4DCF-A9DD-036A2DEB8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7924680" cy="6324480"/>
          </a:xfrm>
          <a:prstGeom prst="roundRect">
            <a:avLst/>
          </a:prstGeom>
          <a:noFill/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204920" y="6545160"/>
            <a:ext cx="3591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EEE 802.11 MAC report  Nov 199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oc 96/1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070760" y="6545160"/>
            <a:ext cx="954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vid Bag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Nov ‘96 MAC group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1905120"/>
            <a:ext cx="45720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2895480"/>
            <a:ext cx="4572000" cy="144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618ffd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4648320"/>
            <a:ext cx="45720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971800" y="3276720"/>
            <a:ext cx="2895480" cy="102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00279f"/>
                </a:solidFill>
                <a:latin typeface="Arial"/>
                <a:ea typeface="Arial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43200" y="4724280"/>
            <a:ext cx="3352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100400" y="2111400"/>
            <a:ext cx="628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9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3 MAC Vote: 7,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4 Mac Vote: 14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6, 1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mments not proces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2, 6,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6, #1 - encryption vs bcast and mcast frames re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k with commen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ext not complete to reflect this - will complete if adopted by end of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would impact several open coments in other clauses - they are left open in R4, we will update comment tables when text delivered by Mike F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15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9, 0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5,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additional comments processed for R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10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6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 few additional comments processed for R4, all min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No technica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mments not proces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1,4,7,10,11,13,23,31-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3 Mac Vote: 6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6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unprocessed tech no vote: C#12 (state mach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additional decsions made for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17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7, 0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mments accepted for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4,5,6,7,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sc Su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revious MAC minutes appr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13, 0,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4 Mac Vote: 13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2, 0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comments now d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n Wed eve accepted for R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55, 56, 57, 58, 59, 60, 61, 62, 64, 76, 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mments accepted Thurs mor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63, 88, 96, 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88,  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117 not accepted - author withdr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ext work needed in C11 due to C10 changes - this may take a lot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14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3 Mac Vote: 8,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4 Mac Vote: 13, 0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7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new R4 deci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use 9 #120 impacts A4.5 - referred to PH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ppears that PHY has already handled the comment, hence the C9 file should have this # updated to match PHY re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re is some text editing to do to make annex A match clause 11 sec reor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ics needs to be updated to match this weeks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11, 0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6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2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#1 handled in plenar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#2 re # of “shalls” vs 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Moved: that we resp decline and comment author be asked to identify which shalls he thinks are supurflo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4 Mac Vote: 15,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5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group rep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at’s all for now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tus for w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 got close but there are some comments we did not have time to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rest of the report represents how far we got during this we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comments made in 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additional comments processed for R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additional comments processed for R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additional comments processed for R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s 0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10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5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 few additional comments processed for R4, all minor or with reviewer con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No technica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mments not processed y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24,26,32,41,47,48,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Bagby</dc:creator>
  <dc:description/>
  <dc:language>en-US</dc:language>
  <cp:lastModifiedBy>David Bagby</cp:lastModifiedBy>
  <cp:revision>0</cp:revision>
  <dc:subject/>
  <dc:title>November '94 MAC group agenda</dc:title>
</cp:coreProperties>
</file>