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000000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2003, Sherlok, Albert Rossmann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fld id="{0412279F-AD80-4638-BA3F-BE87F3BFF772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lectrabel.com/homepage/index_EN.asp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sktelecom.com/english/index.html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hotjava" descr=""/>
          <p:cNvPicPr/>
          <p:nvPr/>
        </p:nvPicPr>
        <p:blipFill>
          <a:blip r:embed="rId1"/>
          <a:stretch/>
        </p:blipFill>
        <p:spPr>
          <a:xfrm>
            <a:off x="2806560" y="720720"/>
            <a:ext cx="5613480" cy="1039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732040" y="4030200"/>
            <a:ext cx="6107040" cy="142092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1800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bert Rossmann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561760" y="110952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ava Application Monito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919160" y="934920"/>
            <a:ext cx="976320" cy="555840"/>
          </a:xfrm>
          <a:prstGeom prst="rect">
            <a:avLst/>
          </a:prstGeom>
          <a:gradFill rotWithShape="0">
            <a:gsLst>
              <a:gs pos="0">
                <a:srgbClr val="6e4900"/>
              </a:gs>
              <a:gs pos="50000">
                <a:srgbClr val="f0a000"/>
              </a:gs>
              <a:gs pos="100000">
                <a:srgbClr val="6e4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03680" y="411120"/>
            <a:ext cx="1744560" cy="1468440"/>
            <a:chOff x="2803680" y="411120"/>
            <a:chExt cx="1744560" cy="1468440"/>
          </a:xfrm>
        </p:grpSpPr>
        <p:sp>
          <p:nvSpPr>
            <p:cNvPr id="92" name=""/>
            <p:cNvSpPr/>
            <p:nvPr/>
          </p:nvSpPr>
          <p:spPr>
            <a:xfrm>
              <a:off x="2855520" y="470520"/>
              <a:ext cx="1644840" cy="1353600"/>
            </a:xfrm>
            <a:prstGeom prst="ellipse">
              <a:avLst/>
            </a:prstGeom>
            <a:noFill/>
            <a:ln w="76320">
              <a:solidFill>
                <a:srgbClr val="f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03680" y="411120"/>
              <a:ext cx="1744560" cy="14684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85760" y="453960"/>
              <a:ext cx="1617480" cy="1425240"/>
            </a:xfrm>
            <a:prstGeom prst="ellipse">
              <a:avLst/>
            </a:prstGeom>
            <a:solidFill>
              <a:srgbClr val="f0a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ontribute to Succes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3" name="logo" descr="Electrab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60840" y="2239920"/>
            <a:ext cx="1406520" cy="353880"/>
          </a:xfrm>
          <a:prstGeom prst="rect">
            <a:avLst/>
          </a:prstGeom>
          <a:ln w="0">
            <a:noFill/>
          </a:ln>
        </p:spPr>
      </p:pic>
      <p:pic>
        <p:nvPicPr>
          <p:cNvPr id="294" name="logo" descr="Siemens"/>
          <p:cNvPicPr/>
          <p:nvPr/>
        </p:nvPicPr>
        <p:blipFill>
          <a:blip r:embed="rId3"/>
          <a:stretch/>
        </p:blipFill>
        <p:spPr>
          <a:xfrm>
            <a:off x="1778040" y="1405080"/>
            <a:ext cx="1463760" cy="206280"/>
          </a:xfrm>
          <a:prstGeom prst="rect">
            <a:avLst/>
          </a:prstGeom>
          <a:ln w="0">
            <a:noFill/>
          </a:ln>
        </p:spPr>
      </p:pic>
      <p:pic>
        <p:nvPicPr>
          <p:cNvPr id="295" name="logo" descr=""/>
          <p:cNvPicPr/>
          <p:nvPr/>
        </p:nvPicPr>
        <p:blipFill>
          <a:blip r:embed="rId4"/>
          <a:stretch/>
        </p:blipFill>
        <p:spPr>
          <a:xfrm>
            <a:off x="3560760" y="3138480"/>
            <a:ext cx="2022480" cy="582480"/>
          </a:xfrm>
          <a:prstGeom prst="rect">
            <a:avLst/>
          </a:prstGeom>
          <a:ln w="0">
            <a:noFill/>
          </a:ln>
        </p:spPr>
      </p:pic>
      <p:pic>
        <p:nvPicPr>
          <p:cNvPr id="296" name="logo" descr=""/>
          <p:cNvPicPr/>
          <p:nvPr/>
        </p:nvPicPr>
        <p:blipFill>
          <a:blip r:embed="rId5"/>
          <a:stretch/>
        </p:blipFill>
        <p:spPr>
          <a:xfrm>
            <a:off x="2057400" y="4599000"/>
            <a:ext cx="2367000" cy="326880"/>
          </a:xfrm>
          <a:prstGeom prst="rect">
            <a:avLst/>
          </a:prstGeom>
          <a:ln w="0">
            <a:noFill/>
          </a:ln>
        </p:spPr>
      </p:pic>
      <p:pic>
        <p:nvPicPr>
          <p:cNvPr id="297" name="logo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83240" y="1405080"/>
            <a:ext cx="1485720" cy="57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perational Area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llocation tra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leak det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StopW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Spot det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Tr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program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method enter and exit ev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call parameter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nitor Memory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291960" y="914400"/>
            <a:ext cx="82486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component is responsible for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kind of objects where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objects where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91960" y="2695680"/>
            <a:ext cx="8248680" cy="2631960"/>
            <a:chOff x="291960" y="2695680"/>
            <a:chExt cx="8248680" cy="2631960"/>
          </a:xfrm>
        </p:grpSpPr>
        <p:sp>
          <p:nvSpPr>
            <p:cNvPr id="100" name=""/>
            <p:cNvSpPr/>
            <p:nvPr/>
          </p:nvSpPr>
          <p:spPr>
            <a:xfrm>
              <a:off x="5791320" y="2695680"/>
              <a:ext cx="274932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53200" y="3520800"/>
              <a:ext cx="1019160" cy="906120"/>
            </a:xfrm>
            <a:prstGeom prst="ellipse">
              <a:avLst/>
            </a:prstGeom>
            <a:solidFill>
              <a:srgbClr val="f0a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446600" y="3240000"/>
              <a:ext cx="462240" cy="1181880"/>
              <a:chOff x="7446600" y="3240000"/>
              <a:chExt cx="462240" cy="1181880"/>
            </a:xfrm>
          </p:grpSpPr>
          <p:sp>
            <p:nvSpPr>
              <p:cNvPr id="103" name=""/>
              <p:cNvSpPr/>
              <p:nvPr/>
            </p:nvSpPr>
            <p:spPr>
              <a:xfrm flipH="1">
                <a:off x="7486560" y="3507840"/>
                <a:ext cx="209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99520" y="3791880"/>
                <a:ext cx="303120" cy="23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47120" y="3240000"/>
                <a:ext cx="185760" cy="22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7631280" y="3455640"/>
                <a:ext cx="77760" cy="37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31280" y="3804840"/>
                <a:ext cx="201600" cy="61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7593120" y="3804840"/>
                <a:ext cx="55440" cy="38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446600" y="4181040"/>
                <a:ext cx="150840" cy="22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99520" y="3582360"/>
                <a:ext cx="131760" cy="22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1960" y="3240000"/>
                <a:ext cx="32688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738560" y="3354120"/>
              <a:ext cx="462240" cy="1182600"/>
              <a:chOff x="7738560" y="3354120"/>
              <a:chExt cx="462240" cy="118260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7778520" y="3622320"/>
                <a:ext cx="209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791480" y="3906360"/>
                <a:ext cx="303120" cy="230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39080" y="3354120"/>
                <a:ext cx="185760" cy="230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923240" y="3570120"/>
                <a:ext cx="7776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23240" y="3919320"/>
                <a:ext cx="201600" cy="61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7885080" y="3919320"/>
                <a:ext cx="5544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738560" y="4295520"/>
                <a:ext cx="150840" cy="2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91480" y="3696840"/>
                <a:ext cx="131760" cy="22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73920" y="3354120"/>
                <a:ext cx="326880" cy="2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7843680" y="389556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75480" y="3819240"/>
              <a:ext cx="14940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02640" y="392580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2720" y="392580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56640" y="398448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43760" y="3984480"/>
              <a:ext cx="14940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15240" y="401472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15320" y="401472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26160" y="3824280"/>
              <a:ext cx="561960" cy="352080"/>
            </a:xfrm>
            <a:prstGeom prst="rect">
              <a:avLst/>
            </a:prstGeom>
            <a:gradFill rotWithShape="0">
              <a:gsLst>
                <a:gs pos="0">
                  <a:srgbClr val="6e4900"/>
                </a:gs>
                <a:gs pos="50000">
                  <a:srgbClr val="f0a000"/>
                </a:gs>
                <a:gs pos="100000">
                  <a:srgbClr val="6e4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4767120"/>
              <a:ext cx="27493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erlok can tell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1640" y="4767120"/>
              <a:ext cx="2749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o has the memory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960" y="4767120"/>
              <a:ext cx="2749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 need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1640" y="2695680"/>
              <a:ext cx="274968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1960" y="2695680"/>
              <a:ext cx="274968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1960" y="2695680"/>
              <a:ext cx="8248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1960" y="4767120"/>
              <a:ext cx="824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1960" y="5327640"/>
              <a:ext cx="8248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1640" y="2695680"/>
              <a:ext cx="0" cy="26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1320" y="2695680"/>
              <a:ext cx="0" cy="26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0640" y="2695680"/>
              <a:ext cx="0" cy="263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960" y="4767120"/>
              <a:ext cx="0" cy="56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960" y="2695680"/>
              <a:ext cx="0" cy="207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01280" y="3046320"/>
              <a:ext cx="1937160" cy="1422720"/>
              <a:chOff x="701280" y="3046320"/>
              <a:chExt cx="1937160" cy="142272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701280" y="3046320"/>
                <a:ext cx="462240" cy="1181880"/>
                <a:chOff x="701280" y="3046320"/>
                <a:chExt cx="462240" cy="1181880"/>
              </a:xfrm>
            </p:grpSpPr>
            <p:sp>
              <p:nvSpPr>
                <p:cNvPr id="146" name=""/>
                <p:cNvSpPr/>
                <p:nvPr/>
              </p:nvSpPr>
              <p:spPr>
                <a:xfrm flipH="1">
                  <a:off x="741240" y="331416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4200" y="359820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901800" y="304632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885960" y="326196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5960" y="361116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847800" y="361116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701280" y="398736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4200" y="338868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36640" y="304632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006200" y="3173040"/>
                <a:ext cx="462240" cy="1181880"/>
                <a:chOff x="1006200" y="3173040"/>
                <a:chExt cx="462240" cy="118188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1046160" y="344088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59120" y="372492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206720" y="317304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1190880" y="338868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90880" y="373788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1152720" y="373788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1006200" y="411408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059120" y="351540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41560" y="317304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298160" y="3287160"/>
                <a:ext cx="462240" cy="1181880"/>
                <a:chOff x="1298160" y="3287160"/>
                <a:chExt cx="462240" cy="1181880"/>
              </a:xfrm>
            </p:grpSpPr>
            <p:sp>
              <p:nvSpPr>
                <p:cNvPr id="166" name=""/>
                <p:cNvSpPr/>
                <p:nvPr/>
              </p:nvSpPr>
              <p:spPr>
                <a:xfrm flipH="1">
                  <a:off x="1338120" y="355500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351080" y="383904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98680" y="328716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1482840" y="350280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482840" y="385200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1444680" y="385200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1298160" y="422820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51080" y="362952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433520" y="328716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1811520" y="3668400"/>
                <a:ext cx="826920" cy="469440"/>
              </a:xfrm>
              <a:prstGeom prst="rect">
                <a:avLst/>
              </a:prstGeom>
              <a:solidFill>
                <a:srgbClr val="f0a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6200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12840" y="3796920"/>
                <a:ext cx="14940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6224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1308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200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12840" y="3923640"/>
                <a:ext cx="14940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6224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1308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408480" y="3020760"/>
              <a:ext cx="2035800" cy="1464120"/>
              <a:chOff x="3408480" y="3020760"/>
              <a:chExt cx="2035800" cy="14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4690440" y="3188520"/>
                <a:ext cx="462240" cy="1182600"/>
                <a:chOff x="4690440" y="3188520"/>
                <a:chExt cx="462240" cy="118260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730400" y="3456720"/>
                  <a:ext cx="209520" cy="112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743360" y="3740760"/>
                  <a:ext cx="303120" cy="2304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890960" y="3188520"/>
                  <a:ext cx="185760" cy="230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4875120" y="3404520"/>
                  <a:ext cx="77760" cy="37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875120" y="3753720"/>
                  <a:ext cx="201600" cy="61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4836960" y="3753720"/>
                  <a:ext cx="55440" cy="38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4690440" y="4129920"/>
                  <a:ext cx="150840" cy="23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43360" y="3531240"/>
                  <a:ext cx="131760" cy="22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25800" y="3188520"/>
                  <a:ext cx="326880" cy="21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983120" y="3303000"/>
                <a:ext cx="461160" cy="1181880"/>
                <a:chOff x="4983120" y="3303000"/>
                <a:chExt cx="461160" cy="1181880"/>
              </a:xfrm>
            </p:grpSpPr>
            <p:sp>
              <p:nvSpPr>
                <p:cNvPr id="196" name=""/>
                <p:cNvSpPr/>
                <p:nvPr/>
              </p:nvSpPr>
              <p:spPr>
                <a:xfrm flipH="1">
                  <a:off x="5022000" y="3570840"/>
                  <a:ext cx="209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035320" y="3854880"/>
                  <a:ext cx="30276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182920" y="3303000"/>
                  <a:ext cx="18540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166720" y="3518640"/>
                  <a:ext cx="7740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67080" y="3867840"/>
                  <a:ext cx="20124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5128560" y="3867840"/>
                  <a:ext cx="5508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4983120" y="4244040"/>
                  <a:ext cx="15048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035320" y="3645360"/>
                  <a:ext cx="13140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117760" y="3303000"/>
                  <a:ext cx="32652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57400" y="3683880"/>
                <a:ext cx="826920" cy="469800"/>
              </a:xfrm>
              <a:prstGeom prst="rect">
                <a:avLst/>
              </a:prstGeom>
              <a:solidFill>
                <a:srgbClr val="f0a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3408480" y="3213720"/>
                <a:ext cx="534240" cy="1182240"/>
                <a:chOff x="3408480" y="3213720"/>
                <a:chExt cx="534240" cy="1182240"/>
              </a:xfrm>
            </p:grpSpPr>
            <p:sp>
              <p:nvSpPr>
                <p:cNvPr id="207" name=""/>
                <p:cNvSpPr/>
                <p:nvPr/>
              </p:nvSpPr>
              <p:spPr>
                <a:xfrm flipH="1">
                  <a:off x="3447720" y="3482280"/>
                  <a:ext cx="209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460680" y="3766320"/>
                  <a:ext cx="302760" cy="229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608280" y="3214080"/>
                  <a:ext cx="185400" cy="230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3592080" y="3429720"/>
                  <a:ext cx="77400" cy="37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592440" y="3778920"/>
                  <a:ext cx="20124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553920" y="3778920"/>
                  <a:ext cx="55080" cy="38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3408480" y="4154760"/>
                  <a:ext cx="150480" cy="23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460680" y="3556800"/>
                  <a:ext cx="13140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3530520" y="3239280"/>
                  <a:ext cx="340920" cy="12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3670200" y="3429360"/>
                  <a:ext cx="272520" cy="6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flipV="1">
                  <a:off x="3857040" y="3213720"/>
                  <a:ext cx="66600" cy="253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4114080" y="30207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32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163920" y="3278160"/>
              <a:ext cx="705240" cy="1181880"/>
              <a:chOff x="6163920" y="3278160"/>
              <a:chExt cx="705240" cy="1181880"/>
            </a:xfrm>
          </p:grpSpPr>
          <p:sp>
            <p:nvSpPr>
              <p:cNvPr id="220" name=""/>
              <p:cNvSpPr/>
              <p:nvPr/>
            </p:nvSpPr>
            <p:spPr>
              <a:xfrm flipH="1">
                <a:off x="6203880" y="3546000"/>
                <a:ext cx="209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16480" y="3830040"/>
                <a:ext cx="303480" cy="23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64440" y="3278160"/>
                <a:ext cx="185760" cy="22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347880" y="3493440"/>
                <a:ext cx="7812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48240" y="3842640"/>
                <a:ext cx="201960" cy="61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310440" y="3842640"/>
                <a:ext cx="5544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163920" y="4219200"/>
                <a:ext cx="150840" cy="22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16480" y="3620520"/>
                <a:ext cx="131760" cy="22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6286680" y="3303000"/>
                <a:ext cx="341280" cy="12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26360" y="3557160"/>
                <a:ext cx="442800" cy="5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6870240" y="307152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3200" y="3531960"/>
              <a:ext cx="1035000" cy="890280"/>
            </a:xfrm>
            <a:prstGeom prst="ellipse">
              <a:avLst/>
            </a:prstGeom>
            <a:noFill/>
            <a:ln w="76320">
              <a:solidFill>
                <a:srgbClr val="f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28000" y="3492360"/>
              <a:ext cx="1098360" cy="966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42040" y="36734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nitor Performanc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291960" y="914400"/>
            <a:ext cx="82486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-Time = Time to execute the statements of a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s with 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= CPU-Time + time to wait for oth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unpredictable synchronization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current network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external services as SQL and 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erformance" descr=""/>
          <p:cNvPicPr/>
          <p:nvPr/>
        </p:nvPicPr>
        <p:blipFill>
          <a:blip r:embed="rId1"/>
          <a:stretch/>
        </p:blipFill>
        <p:spPr>
          <a:xfrm>
            <a:off x="774720" y="3232080"/>
            <a:ext cx="72136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01480" y="3949560"/>
            <a:ext cx="4019760" cy="1828800"/>
          </a:xfrm>
          <a:prstGeom prst="rect">
            <a:avLst/>
          </a:prstGeom>
          <a:solidFill>
            <a:srgbClr val="ffe2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pplication Trace (Events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501480" y="977760"/>
            <a:ext cx="4019760" cy="2473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Cls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a() { b(); d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b() { c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c() { sleep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new char[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5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d() { b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51040" y="4292640"/>
            <a:ext cx="54612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17440" y="5067360"/>
            <a:ext cx="44460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76240" y="4749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92640" y="4775040"/>
            <a:ext cx="3443400" cy="952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tart moni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tart tr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trace add trigger –m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e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52960" y="4775040"/>
            <a:ext cx="10396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21240" y="552456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939960" y="553716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34960" y="34513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84400" y="582948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graph as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67200" y="5778360"/>
            <a:ext cx="19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ole 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92640" y="2498760"/>
            <a:ext cx="3443400" cy="952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Scope      = 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Mode        = profi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Packages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k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66840" y="345132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rlok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2666880"/>
            <a:ext cx="4165560" cy="2667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65520" y="1320840"/>
            <a:ext cx="3154320" cy="17780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2362320"/>
            <a:ext cx="4635720" cy="297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Use Cases and Interface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415800" y="156852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5800" y="2519280"/>
            <a:ext cx="1717920" cy="6717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M &amp; Consul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5800" y="347040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5800" y="444672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1640" y="1568520"/>
            <a:ext cx="261756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singl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51928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whole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347040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predefined contex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444672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 analysis and deb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2600" y="156852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TestB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2600" y="251928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2600" y="347040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-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2600" y="444672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net c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187956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041800" y="18795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87028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3125520"/>
            <a:ext cx="758880" cy="34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33720" y="388620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472428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041800" y="2870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041800" y="3797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041800" y="4724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upport for Java Developme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5600" y="1966680"/>
            <a:ext cx="3505320" cy="152532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Memory His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testbenchwork" descr=""/>
          <p:cNvPicPr/>
          <p:nvPr/>
        </p:nvPicPr>
        <p:blipFill>
          <a:blip r:embed="rId1"/>
          <a:stretch/>
        </p:blipFill>
        <p:spPr>
          <a:xfrm>
            <a:off x="4346640" y="1925640"/>
            <a:ext cx="4265640" cy="4086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View TestBen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3360" y="4854600"/>
            <a:ext cx="35053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upport for QM and Consultant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336600" y="1878120"/>
            <a:ext cx="4332240" cy="39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Leak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monitorinit" descr=""/>
          <p:cNvPicPr/>
          <p:nvPr/>
        </p:nvPicPr>
        <p:blipFill>
          <a:blip r:embed="rId1"/>
          <a:stretch/>
        </p:blipFill>
        <p:spPr>
          <a:xfrm>
            <a:off x="5175360" y="1878120"/>
            <a:ext cx="2624040" cy="4279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View</a:t>
            </a:r>
            <a:r>
              <a:rPr b="1" lang="en-US" sz="3600" spc="-1" strike="noStrike">
                <a:solidFill>
                  <a:srgbClr val="f0a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Mon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3360" y="4854600"/>
            <a:ext cx="4543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interrupt mode for minimal performanc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n Site Problem Analysi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19240" y="1984320"/>
            <a:ext cx="44352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Spot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OfMemoryErr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application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call paramet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telnetlogin" descr=""/>
          <p:cNvPicPr/>
          <p:nvPr/>
        </p:nvPicPr>
        <p:blipFill>
          <a:blip r:embed="rId1"/>
          <a:stretch/>
        </p:blipFill>
        <p:spPr>
          <a:xfrm>
            <a:off x="4861080" y="1984320"/>
            <a:ext cx="3871800" cy="3932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elnet Cons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6280" y="4994280"/>
            <a:ext cx="408636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(less than 1M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install (single D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4:58:15Z</dcterms:created>
  <dc:creator>d025762</dc:creator>
  <dc:description/>
  <dc:language>en-US</dc:language>
  <cp:lastModifiedBy>d025762</cp:lastModifiedBy>
  <dcterms:modified xsi:type="dcterms:W3CDTF">2004-01-27T07:48:58Z</dcterms:modified>
  <cp:revision>154</cp:revision>
  <dc:subject/>
  <dc:title>Sherlok</dc:title>
</cp:coreProperties>
</file>