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852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404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852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404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52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3404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52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3404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18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7000" indent="-234720">
              <a:spcBef>
                <a:spcPts val="1874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11120" indent="-198360">
              <a:spcBef>
                <a:spcPts val="187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874"/>
              </a:spcBef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22400" y="6668640"/>
            <a:ext cx="357336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46160" indent="-146160">
              <a:lnSpc>
                <a:spcPct val="90000"/>
              </a:lnSpc>
              <a:buClr>
                <a:srgbClr val="b2b2b2"/>
              </a:buClr>
              <a:buSzPct val="120000"/>
              <a:buFont typeface="Symbol" charset="2"/>
              <a:buChar char="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700" spc="-1" strike="noStrike">
                <a:solidFill>
                  <a:srgbClr val="b2b2b2"/>
                </a:solidFill>
                <a:latin typeface="Arial"/>
              </a:rPr>
              <a:t>SAP AG</a:t>
            </a:r>
            <a:r>
              <a:rPr b="0" lang="en-US" sz="700" spc="-1" strike="noStrike">
                <a:solidFill>
                  <a:srgbClr val="b2b2b2"/>
                </a:solidFill>
                <a:latin typeface="Arial"/>
              </a:rPr>
              <a:t> 2002, Title of Presentation, Speaker Name </a:t>
            </a:r>
            <a:r>
              <a:rPr b="0" lang="de-DE" sz="700" spc="-1" strike="noStrike">
                <a:solidFill>
                  <a:srgbClr val="b2b2b2"/>
                </a:solidFill>
                <a:latin typeface="Arial"/>
              </a:rPr>
              <a:t>/</a:t>
            </a:r>
            <a:r>
              <a:rPr b="0" lang="en-US" sz="700" spc="-1" strike="noStrike">
                <a:solidFill>
                  <a:srgbClr val="b2b2b2"/>
                </a:solidFill>
                <a:latin typeface="Arial"/>
              </a:rPr>
              <a:t> </a:t>
            </a:r>
            <a:fld id="{63A98535-2CCA-496C-844E-FEC631C6179D}" type="slidenum">
              <a:rPr b="0" lang="en-US" sz="7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4" name=""/>
            <p:cNvSpPr/>
            <p:nvPr/>
          </p:nvSpPr>
          <p:spPr>
            <a:xfrm>
              <a:off x="0" y="0"/>
              <a:ext cx="596880" cy="59688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96880" y="0"/>
              <a:ext cx="8547120" cy="596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03200" y="198360"/>
              <a:ext cx="193680" cy="19836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" name="tagline_gray_ppt_xx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2805120" cy="316404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05120" y="0"/>
              <a:ext cx="6338880" cy="316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78240" y="1127160"/>
              <a:ext cx="326880" cy="35244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tagline_gray_ppt_xx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20600" y="1000080"/>
            <a:ext cx="6156360" cy="21528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SAP EP 6.0 Highlights: Delegated Admin (2)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dmin authorizations can be restricted to portal object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CatAdmin" descr=""/>
          <p:cNvPicPr/>
          <p:nvPr/>
        </p:nvPicPr>
        <p:blipFill>
          <a:blip r:embed="rId1"/>
          <a:srcRect l="0" t="0" r="68505" b="30274"/>
          <a:stretch/>
        </p:blipFill>
        <p:spPr>
          <a:xfrm>
            <a:off x="895320" y="1407960"/>
            <a:ext cx="2921040" cy="504360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  <p:pic>
        <p:nvPicPr>
          <p:cNvPr id="89" name="CatUser" descr=""/>
          <p:cNvPicPr/>
          <p:nvPr/>
        </p:nvPicPr>
        <p:blipFill>
          <a:blip r:embed="rId2"/>
          <a:srcRect l="0" t="0" r="67539" b="50291"/>
          <a:stretch/>
        </p:blipFill>
        <p:spPr>
          <a:xfrm>
            <a:off x="4586400" y="1614600"/>
            <a:ext cx="3192480" cy="381312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1874880" y="2728800"/>
            <a:ext cx="205992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SuperAdmin: </a:t>
            </a:r>
            <a:br>
              <a:rPr sz="1800"/>
            </a:b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Admin access to </a:t>
            </a:r>
            <a:br>
              <a:rPr sz="1800"/>
            </a:b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complete </a:t>
            </a:r>
            <a:br>
              <a:rPr sz="1800"/>
            </a:b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Portal Catal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68760" y="3343320"/>
            <a:ext cx="3061080" cy="9741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ContentAdmin: </a:t>
            </a:r>
            <a:br>
              <a:rPr sz="1800"/>
            </a:b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Admin access to certa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folders (read/write acce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11800" y="4835520"/>
            <a:ext cx="474480" cy="149400"/>
          </a:xfrm>
          <a:prstGeom prst="rect">
            <a:avLst/>
          </a:prstGeom>
          <a:solidFill>
            <a:srgbClr val="f6f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6T18:00:41Z</dcterms:created>
  <dc:creator>SAP</dc:creator>
  <dc:description/>
  <dc:language>en-US</dc:language>
  <cp:lastModifiedBy>d003179</cp:lastModifiedBy>
  <dcterms:modified xsi:type="dcterms:W3CDTF">2003-06-27T08:59:01Z</dcterms:modified>
  <cp:revision>20</cp:revision>
  <dc:subject/>
  <dc:title>EP Example Content Catalog</dc:title>
</cp:coreProperties>
</file>