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E5C95F2D-F813-46DF-AA75-F37932D79C3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600200"/>
            <a:ext cx="769140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CO, Lt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ject AIM </a:t>
            </a:r>
            <a:br>
              <a:rPr sz="60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al Relevant Process Scenario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9240" y="2444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rchasing Scenario: Stock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240" y="77796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 I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826160" y="4322880"/>
            <a:ext cx="596880" cy="163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373720"/>
            <a:ext cx="8128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24480" y="3216240"/>
            <a:ext cx="1968480" cy="110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33840" y="36100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22760" y="3637080"/>
            <a:ext cx="178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tual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terial 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2800" y="324180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ampaign pl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73040" y="1676520"/>
            <a:ext cx="1968480" cy="4303080"/>
            <a:chOff x="473040" y="1676520"/>
            <a:chExt cx="1968480" cy="4303080"/>
          </a:xfrm>
        </p:grpSpPr>
        <p:sp>
          <p:nvSpPr>
            <p:cNvPr id="54" name=""/>
            <p:cNvSpPr/>
            <p:nvPr/>
          </p:nvSpPr>
          <p:spPr>
            <a:xfrm>
              <a:off x="851040" y="2705040"/>
              <a:ext cx="838080" cy="32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0400" y="5373360"/>
              <a:ext cx="812520" cy="27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473040" y="1676520"/>
              <a:ext cx="1968480" cy="1106280"/>
              <a:chOff x="473040" y="1676520"/>
              <a:chExt cx="1968480" cy="1106280"/>
            </a:xfrm>
          </p:grpSpPr>
          <p:sp>
            <p:nvSpPr>
              <p:cNvPr id="57" name=""/>
              <p:cNvSpPr/>
              <p:nvPr/>
            </p:nvSpPr>
            <p:spPr>
              <a:xfrm>
                <a:off x="473040" y="1676520"/>
                <a:ext cx="1968480" cy="1106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2400" y="2070000"/>
                <a:ext cx="194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71320" y="2097000"/>
                <a:ext cx="17830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Available Sto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Locked Sto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Material Descrip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68440" y="1701720"/>
                <a:ext cx="17841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179360" y="1736640"/>
              <a:ext cx="561960" cy="28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641680" y="4322880"/>
            <a:ext cx="406440" cy="1631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65360" y="5373720"/>
            <a:ext cx="8128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41600" y="3216240"/>
            <a:ext cx="1968480" cy="1106640"/>
            <a:chOff x="1641600" y="3216240"/>
            <a:chExt cx="1968480" cy="1106640"/>
          </a:xfrm>
        </p:grpSpPr>
        <p:sp>
          <p:nvSpPr>
            <p:cNvPr id="65" name=""/>
            <p:cNvSpPr/>
            <p:nvPr/>
          </p:nvSpPr>
          <p:spPr>
            <a:xfrm>
              <a:off x="1641600" y="3216240"/>
              <a:ext cx="1968480" cy="1106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50960" y="3610080"/>
              <a:ext cx="19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39880" y="3637080"/>
              <a:ext cx="1783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vailable St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rd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terial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37000" y="3241800"/>
              <a:ext cx="1784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 flipH="1">
            <a:off x="5918040" y="2705040"/>
            <a:ext cx="1549440" cy="3237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40560" y="5373720"/>
            <a:ext cx="81252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83120" y="1676520"/>
            <a:ext cx="1968480" cy="1106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92840" y="207000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81760" y="2097000"/>
            <a:ext cx="178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hanced Material 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9240" y="5829480"/>
            <a:ext cx="8300880" cy="468000"/>
          </a:xfrm>
          <a:prstGeom prst="rightArrow">
            <a:avLst>
              <a:gd name="adj1" fmla="val 50000"/>
              <a:gd name="adj2" fmla="val 443423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4760" y="3276720"/>
            <a:ext cx="14104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XX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160" y="1752480"/>
            <a:ext cx="14104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YY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19240" y="84600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Be Process (portal ba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8720" y="5332320"/>
            <a:ext cx="2086200" cy="4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ingle-Sign-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ole: Mat. Requ. Pla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73600" y="4863600"/>
            <a:ext cx="0" cy="4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549440" y="5732280"/>
            <a:ext cx="162540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59400" y="5732640"/>
            <a:ext cx="162540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9240" y="5904000"/>
            <a:ext cx="8300880" cy="468360"/>
          </a:xfrm>
          <a:prstGeom prst="rightArrow">
            <a:avLst>
              <a:gd name="adj1" fmla="val 50000"/>
              <a:gd name="adj2" fmla="val 443082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259560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75040" y="38782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62440" y="259560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63760" y="259560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36600" y="1409760"/>
            <a:ext cx="5278680" cy="3459240"/>
            <a:chOff x="1236600" y="1409760"/>
            <a:chExt cx="5278680" cy="3459240"/>
          </a:xfrm>
        </p:grpSpPr>
        <p:sp>
          <p:nvSpPr>
            <p:cNvPr id="88" name=""/>
            <p:cNvSpPr/>
            <p:nvPr/>
          </p:nvSpPr>
          <p:spPr>
            <a:xfrm>
              <a:off x="1244520" y="1414800"/>
              <a:ext cx="5270760" cy="345420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60520" y="1770120"/>
              <a:ext cx="4826160" cy="2900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63560" y="2113200"/>
              <a:ext cx="1422720" cy="2374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74840" y="2125800"/>
              <a:ext cx="1409760" cy="234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73520" y="3392640"/>
              <a:ext cx="1422360" cy="108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73520" y="2125800"/>
              <a:ext cx="1409760" cy="1181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88200" y="2098800"/>
              <a:ext cx="892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98320" y="2111400"/>
              <a:ext cx="1096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XX So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57680" y="2124360"/>
              <a:ext cx="1481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Campa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29240" y="3432240"/>
              <a:ext cx="150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YY So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31240" y="3175200"/>
              <a:ext cx="1284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ata 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vailable St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Locked St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t.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06560" y="4018320"/>
              <a:ext cx="159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ata 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nh.Mat.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55120" y="3200760"/>
              <a:ext cx="1284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ata 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vailable St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rd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t.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42640" y="2667240"/>
              <a:ext cx="1284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ata 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ctual Mate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t.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36600" y="1409760"/>
              <a:ext cx="523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IM Enterprise Por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03240" y="1793880"/>
              <a:ext cx="237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Workset : Stock Over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28800" y="264672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4880" y="26467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51360" y="265932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6160" y="39499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19240" y="2444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rchasing Scenario: Stock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9240" y="80820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 I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209600" y="1628640"/>
            <a:ext cx="1701720" cy="4330800"/>
            <a:chOff x="1209600" y="1628640"/>
            <a:chExt cx="1701720" cy="4330800"/>
          </a:xfrm>
        </p:grpSpPr>
        <p:sp>
          <p:nvSpPr>
            <p:cNvPr id="111" name=""/>
            <p:cNvSpPr/>
            <p:nvPr/>
          </p:nvSpPr>
          <p:spPr>
            <a:xfrm>
              <a:off x="2311560" y="2735280"/>
              <a:ext cx="342720" cy="322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209600" y="1628640"/>
              <a:ext cx="1701720" cy="1106280"/>
              <a:chOff x="1209600" y="1628640"/>
              <a:chExt cx="1701720" cy="110628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1209600" y="1628640"/>
                <a:ext cx="1701720" cy="1106280"/>
                <a:chOff x="1209600" y="1628640"/>
                <a:chExt cx="1701720" cy="11062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209600" y="1628640"/>
                  <a:ext cx="1701720" cy="1106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35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217520" y="2022120"/>
                  <a:ext cx="167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294560" y="2049120"/>
                  <a:ext cx="15397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Tech. Institu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Status Te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292040" y="1653840"/>
                  <a:ext cx="15422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84200" y="1714320"/>
                <a:ext cx="1345680" cy="203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"/>
            <p:cNvSpPr/>
            <p:nvPr/>
          </p:nvSpPr>
          <p:spPr>
            <a:xfrm>
              <a:off x="2222640" y="4754520"/>
              <a:ext cx="59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282680" y="5435640"/>
            <a:ext cx="203400" cy="536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6280" y="4356000"/>
            <a:ext cx="1701720" cy="1106640"/>
            <a:chOff x="206280" y="4356000"/>
            <a:chExt cx="1701720" cy="1106640"/>
          </a:xfrm>
        </p:grpSpPr>
        <p:sp>
          <p:nvSpPr>
            <p:cNvPr id="122" name=""/>
            <p:cNvSpPr/>
            <p:nvPr/>
          </p:nvSpPr>
          <p:spPr>
            <a:xfrm>
              <a:off x="206280" y="4356000"/>
              <a:ext cx="1701720" cy="1106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4200" y="4749840"/>
              <a:ext cx="167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1240" y="4776840"/>
              <a:ext cx="154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il to QM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upplier Gu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8720" y="4381560"/>
              <a:ext cx="154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066680" y="5614920"/>
            <a:ext cx="59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31120" y="4343400"/>
            <a:ext cx="1726920" cy="110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39040" y="473724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16800" y="4764240"/>
            <a:ext cx="15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sso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15000" y="4368960"/>
            <a:ext cx="156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159240" y="5450040"/>
            <a:ext cx="57132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5551560"/>
            <a:ext cx="59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72320" y="3076560"/>
            <a:ext cx="1725480" cy="110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0240" y="3470400"/>
            <a:ext cx="170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3497400"/>
            <a:ext cx="18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pplier, Material,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6200" y="3102120"/>
            <a:ext cx="156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854320" y="4170240"/>
            <a:ext cx="406440" cy="1789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6840" y="5221440"/>
            <a:ext cx="59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245200" y="2735280"/>
            <a:ext cx="482400" cy="3292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24400" y="1628640"/>
            <a:ext cx="1727280" cy="110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2320" y="202248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2049480"/>
            <a:ext cx="164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sting Schem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08640" y="1654200"/>
            <a:ext cx="156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83360" y="4748040"/>
            <a:ext cx="59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263760" y="2189160"/>
            <a:ext cx="1905120" cy="3878280"/>
            <a:chOff x="3263760" y="2189160"/>
            <a:chExt cx="1905120" cy="3878280"/>
          </a:xfrm>
        </p:grpSpPr>
        <p:grpSp>
          <p:nvGrpSpPr>
            <p:cNvPr id="146" name=""/>
            <p:cNvGrpSpPr/>
            <p:nvPr/>
          </p:nvGrpSpPr>
          <p:grpSpPr>
            <a:xfrm>
              <a:off x="3263760" y="2189160"/>
              <a:ext cx="1755720" cy="1106280"/>
              <a:chOff x="3263760" y="2189160"/>
              <a:chExt cx="1755720" cy="110628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3263760" y="2189160"/>
                <a:ext cx="1755720" cy="1106280"/>
                <a:chOff x="3263760" y="2189160"/>
                <a:chExt cx="1755720" cy="1106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267000" y="2189160"/>
                  <a:ext cx="1726920" cy="1106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274920" y="2582640"/>
                  <a:ext cx="1704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263760" y="2609640"/>
                  <a:ext cx="17557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Onlie Supplier Guide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B2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350880" y="2214360"/>
                  <a:ext cx="156528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66800" y="2287440"/>
                <a:ext cx="1346400" cy="203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"/>
            <p:cNvSpPr/>
            <p:nvPr/>
          </p:nvSpPr>
          <p:spPr>
            <a:xfrm>
              <a:off x="4800600" y="3300480"/>
              <a:ext cx="0" cy="2766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5221440"/>
              <a:ext cx="59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870280" y="3648240"/>
            <a:ext cx="1730160" cy="2306520"/>
            <a:chOff x="2870280" y="3648240"/>
            <a:chExt cx="1730160" cy="2306520"/>
          </a:xfrm>
        </p:grpSpPr>
        <p:grpSp>
          <p:nvGrpSpPr>
            <p:cNvPr id="156" name=""/>
            <p:cNvGrpSpPr/>
            <p:nvPr/>
          </p:nvGrpSpPr>
          <p:grpSpPr>
            <a:xfrm>
              <a:off x="2911320" y="3648240"/>
              <a:ext cx="1689120" cy="1106280"/>
              <a:chOff x="2911320" y="3648240"/>
              <a:chExt cx="1689120" cy="110628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2911320" y="3648240"/>
                <a:ext cx="1689120" cy="1106280"/>
                <a:chOff x="2911320" y="3648240"/>
                <a:chExt cx="1689120" cy="11062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911320" y="3648240"/>
                  <a:ext cx="1689120" cy="1106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35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919240" y="4041720"/>
                  <a:ext cx="166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995560" y="4068720"/>
                  <a:ext cx="1530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Proces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Purchas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993040" y="3673440"/>
                  <a:ext cx="153072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6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4320" y="3708360"/>
                <a:ext cx="482040" cy="28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 flipH="1">
              <a:off x="3136680" y="4754520"/>
              <a:ext cx="12600" cy="1200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70280" y="5221440"/>
              <a:ext cx="59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71600" y="3052800"/>
            <a:ext cx="2004840" cy="2901960"/>
            <a:chOff x="471600" y="3052800"/>
            <a:chExt cx="2004840" cy="2901960"/>
          </a:xfrm>
        </p:grpSpPr>
        <p:sp>
          <p:nvSpPr>
            <p:cNvPr id="166" name=""/>
            <p:cNvSpPr/>
            <p:nvPr/>
          </p:nvSpPr>
          <p:spPr>
            <a:xfrm>
              <a:off x="1994040" y="4149720"/>
              <a:ext cx="203040" cy="180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79560" y="5602320"/>
              <a:ext cx="59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471600" y="3052800"/>
              <a:ext cx="1689120" cy="1106280"/>
              <a:chOff x="471600" y="3052800"/>
              <a:chExt cx="1689120" cy="11062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71600" y="3052800"/>
                <a:ext cx="1689120" cy="1106280"/>
                <a:chOff x="471600" y="3052800"/>
                <a:chExt cx="1689120" cy="11062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71600" y="3052800"/>
                  <a:ext cx="1689120" cy="1106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35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79520" y="3446280"/>
                  <a:ext cx="166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55840" y="3473280"/>
                  <a:ext cx="1530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Proces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Material Cre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53320" y="3078000"/>
                  <a:ext cx="153072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64600" y="3112920"/>
                <a:ext cx="482040" cy="285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5" name=""/>
          <p:cNvSpPr/>
          <p:nvPr/>
        </p:nvSpPr>
        <p:spPr>
          <a:xfrm>
            <a:off x="219240" y="5829480"/>
            <a:ext cx="8300880" cy="468000"/>
          </a:xfrm>
          <a:prstGeom prst="rightArrow">
            <a:avLst>
              <a:gd name="adj1" fmla="val 50000"/>
              <a:gd name="adj2" fmla="val 443423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9240" y="2444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rchasing Scenario: Purchase New Mate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8040" y="4468680"/>
            <a:ext cx="12902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iling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85600" y="1714680"/>
            <a:ext cx="16225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able Sheet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48600" y="3193920"/>
            <a:ext cx="9838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B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89080" y="4448160"/>
            <a:ext cx="16225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able Sheet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06280" y="830160"/>
            <a:ext cx="778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Be Process (portal ba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59040" y="5349960"/>
            <a:ext cx="19335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ingle-Sign-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ole: Mat. Req. Pla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832120" y="4881240"/>
            <a:ext cx="1440" cy="4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85760" y="5749560"/>
            <a:ext cx="227016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95720" y="5749920"/>
            <a:ext cx="227016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240" y="5916600"/>
            <a:ext cx="8582040" cy="468360"/>
          </a:xfrm>
          <a:prstGeom prst="rightArrow">
            <a:avLst>
              <a:gd name="adj1" fmla="val 50000"/>
              <a:gd name="adj2" fmla="val 458090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04200" y="2532240"/>
            <a:ext cx="103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31080" y="254160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508960" y="1308240"/>
            <a:ext cx="0" cy="31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508960" y="4304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08960" y="1650960"/>
            <a:ext cx="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57680" y="342108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46400" y="249408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3440" y="400860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1880" y="319896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2160" y="241776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2120" y="247500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46400" y="372600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270400" y="1422360"/>
            <a:ext cx="3538800" cy="4664160"/>
            <a:chOff x="5270400" y="1422360"/>
            <a:chExt cx="3538800" cy="4664160"/>
          </a:xfrm>
        </p:grpSpPr>
        <p:grpSp>
          <p:nvGrpSpPr>
            <p:cNvPr id="200" name=""/>
            <p:cNvGrpSpPr/>
            <p:nvPr/>
          </p:nvGrpSpPr>
          <p:grpSpPr>
            <a:xfrm>
              <a:off x="5270400" y="4881600"/>
              <a:ext cx="3048120" cy="1204920"/>
              <a:chOff x="5270400" y="4881600"/>
              <a:chExt cx="3048120" cy="1204920"/>
            </a:xfrm>
          </p:grpSpPr>
          <p:sp>
            <p:nvSpPr>
              <p:cNvPr id="201" name=""/>
              <p:cNvSpPr/>
              <p:nvPr/>
            </p:nvSpPr>
            <p:spPr>
              <a:xfrm>
                <a:off x="6134040" y="5345280"/>
                <a:ext cx="1384200" cy="39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Single-Sign-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Role: Q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6832440" y="4881600"/>
                <a:ext cx="0" cy="46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5270400" y="5740560"/>
                <a:ext cx="86364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518240" y="5740560"/>
                <a:ext cx="80028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5624640" y="1427400"/>
              <a:ext cx="2882880" cy="345420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27680" y="1770120"/>
              <a:ext cx="2768760" cy="2900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02680" y="2176560"/>
              <a:ext cx="1295280" cy="1104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42160" y="2163960"/>
              <a:ext cx="1409400" cy="172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11960" y="2136960"/>
              <a:ext cx="1497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On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43720" y="2641680"/>
              <a:ext cx="1154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16720" y="1422360"/>
              <a:ext cx="290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24440" y="1806480"/>
              <a:ext cx="284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Workset : Sample Appro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54760" y="3973680"/>
              <a:ext cx="1409760" cy="455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9360" y="3930840"/>
              <a:ext cx="150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s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Messa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5160" y="2148120"/>
              <a:ext cx="144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Tech.Ins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12000" y="3129120"/>
              <a:ext cx="1263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iew Appr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8496000" y="4444560"/>
              <a:ext cx="12600" cy="436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7327800" y="3276720"/>
              <a:ext cx="1454400" cy="1152360"/>
              <a:chOff x="7327800" y="3276720"/>
              <a:chExt cx="1454400" cy="1152360"/>
            </a:xfrm>
          </p:grpSpPr>
          <p:sp>
            <p:nvSpPr>
              <p:cNvPr id="219" name=""/>
              <p:cNvSpPr/>
              <p:nvPr/>
            </p:nvSpPr>
            <p:spPr>
              <a:xfrm>
                <a:off x="7399440" y="3324240"/>
                <a:ext cx="1295280" cy="110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331040" y="3333960"/>
                <a:ext cx="1446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I-View</a:t>
                </a: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Data On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327800" y="3959280"/>
                <a:ext cx="1454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Vie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Guides etc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489880" y="3276720"/>
                <a:ext cx="0" cy="63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13560" y="3907080"/>
                <a:ext cx="10479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6108840" y="26719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31200" y="26719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05640" y="388620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06280" y="1422360"/>
            <a:ext cx="5278680" cy="3459240"/>
            <a:chOff x="206280" y="1422360"/>
            <a:chExt cx="5278680" cy="3459240"/>
          </a:xfrm>
        </p:grpSpPr>
        <p:sp>
          <p:nvSpPr>
            <p:cNvPr id="228" name=""/>
            <p:cNvSpPr/>
            <p:nvPr/>
          </p:nvSpPr>
          <p:spPr>
            <a:xfrm>
              <a:off x="214200" y="1427400"/>
              <a:ext cx="5270760" cy="345420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200" y="1782720"/>
              <a:ext cx="4826160" cy="2900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44880" y="2138400"/>
              <a:ext cx="1409400" cy="1152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43200" y="3075120"/>
              <a:ext cx="1422360" cy="892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17880" y="2098800"/>
              <a:ext cx="1496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11520" y="3029040"/>
              <a:ext cx="150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X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3240" y="2138400"/>
              <a:ext cx="1422720" cy="74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1720" y="2073240"/>
              <a:ext cx="16113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4960" y="2514600"/>
              <a:ext cx="106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reate Mater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60760" y="3522600"/>
              <a:ext cx="15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osting Sch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70080" y="2635200"/>
              <a:ext cx="138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iew Que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6280" y="1422360"/>
              <a:ext cx="523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IM Enterprise Por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4360" y="1806480"/>
              <a:ext cx="485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Workset : Material Cre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46440" y="4024440"/>
              <a:ext cx="1409760" cy="455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47760" y="3375000"/>
              <a:ext cx="1422360" cy="1092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43080" y="3346560"/>
              <a:ext cx="144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On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39920" y="3819600"/>
              <a:ext cx="1263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uides ans Sp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11520" y="399420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s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Messa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9720" y="2925720"/>
              <a:ext cx="1422360" cy="74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8200" y="2860920"/>
              <a:ext cx="16113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1080" y="3301920"/>
              <a:ext cx="106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reate 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3240" y="3732120"/>
              <a:ext cx="1422720" cy="74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1720" y="3667320"/>
              <a:ext cx="16113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Tech.Ins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4960" y="4108680"/>
              <a:ext cx="1060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View Approv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43200" y="2138400"/>
              <a:ext cx="1409760" cy="874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27360" y="2086200"/>
              <a:ext cx="1481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X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70720" y="2584440"/>
              <a:ext cx="953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ssort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11560" y="263376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35440" y="263376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09880" y="354348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60440" y="386100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7320" y="334008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87320" y="414036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2880" y="25495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876920" y="4203720"/>
            <a:ext cx="12445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9240" y="2444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rchasing Scenario: Purchase New Mate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6480" y="1440000"/>
            <a:ext cx="2401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IM Enterprise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/>
  <cp:keywords>Business Process</cp:keywords>
  <dc:language>en-US</dc:language>
  <cp:lastModifiedBy>d031429</cp:lastModifiedBy>
  <cp:lastPrinted>2000-05-10T17:23:18Z</cp:lastPrinted>
  <dcterms:modified xsi:type="dcterms:W3CDTF">2003-12-14T10:44:22Z</dcterms:modified>
  <cp:revision>463</cp:revision>
  <dc:subject/>
  <dc:title>Portal Relevant Process Scenario</dc:title>
</cp:coreProperties>
</file>