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962FC61A-E918-4E2B-9C3A-1C1BD5D9C855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0080" y="2463840"/>
            <a:ext cx="736560" cy="122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Roll Out Strateg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30480" y="5246640"/>
            <a:ext cx="51051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1541520"/>
            <a:ext cx="0" cy="3733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4102200"/>
            <a:ext cx="5867280" cy="1144080"/>
            <a:chOff x="1230480" y="4102200"/>
            <a:chExt cx="5867280" cy="1144080"/>
          </a:xfrm>
        </p:grpSpPr>
        <p:sp>
          <p:nvSpPr>
            <p:cNvPr id="91" name=""/>
            <p:cNvSpPr/>
            <p:nvPr/>
          </p:nvSpPr>
          <p:spPr>
            <a:xfrm>
              <a:off x="1230480" y="4102200"/>
              <a:ext cx="5867280" cy="1144080"/>
            </a:xfrm>
            <a:prstGeom prst="parallelogram">
              <a:avLst>
                <a:gd name="adj" fmla="val 12821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615640" y="4102200"/>
              <a:ext cx="1481400" cy="1144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30480" y="5246280"/>
              <a:ext cx="438552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415640" y="283860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User</a:t>
            </a:r>
            <a:br>
              <a:rPr sz="2000"/>
            </a:b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280" y="55641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000" y="968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4440" y="475632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Corp. Intranet + 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0760" y="4667400"/>
            <a:ext cx="0" cy="57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78680" y="352116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226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7080" y="3668400"/>
            <a:ext cx="1981080" cy="15238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1120" y="3684600"/>
            <a:ext cx="4449960" cy="6015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53514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1         Unit2 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6600" y="1584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Cock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1120" y="2811600"/>
            <a:ext cx="43632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244620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Unit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192708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517920"/>
            <a:ext cx="5867280" cy="1144080"/>
            <a:chOff x="1219320" y="3517920"/>
            <a:chExt cx="5867280" cy="1144080"/>
          </a:xfrm>
        </p:grpSpPr>
        <p:sp>
          <p:nvSpPr>
            <p:cNvPr id="109" name=""/>
            <p:cNvSpPr/>
            <p:nvPr/>
          </p:nvSpPr>
          <p:spPr>
            <a:xfrm>
              <a:off x="1219320" y="3517920"/>
              <a:ext cx="5867280" cy="1144080"/>
            </a:xfrm>
            <a:prstGeom prst="parallelogram">
              <a:avLst>
                <a:gd name="adj" fmla="val 1282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604480" y="3517920"/>
              <a:ext cx="148140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19320" y="4662000"/>
              <a:ext cx="438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7440" y="2622600"/>
            <a:ext cx="736920" cy="122868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4311720"/>
            <a:ext cx="792000" cy="355680"/>
          </a:xfrm>
          <a:prstGeom prst="rect">
            <a:avLst/>
          </a:prstGeom>
          <a:solidFill>
            <a:srgbClr val="ddfd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08160" y="312732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0440" y="2817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43:14Z</dcterms:created>
  <dc:creator>T.E.</dc:creator>
  <dc:description>EP Sample Portal Roll Out Strategy</dc:description>
  <dc:language>en-US</dc:language>
  <cp:lastModifiedBy>d003179</cp:lastModifiedBy>
  <dcterms:modified xsi:type="dcterms:W3CDTF">2003-09-29T13:30:12Z</dcterms:modified>
  <cp:revision>278</cp:revision>
  <dc:subject/>
  <dc:title>EP Sample Portal Roll Out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852228</vt:r8>
  </property>
  <property fmtid="{D5CDD505-2E9C-101B-9397-08002B2CF9AE}" pid="3" name="_AuthorEmail">
    <vt:lpwstr>Sylvia.Borcherding@mgi.de</vt:lpwstr>
  </property>
  <property fmtid="{D5CDD505-2E9C-101B-9397-08002B2CF9AE}" pid="4" name="_AuthorEmailDisplayName">
    <vt:lpwstr>Borcherding Sylvia</vt:lpwstr>
  </property>
  <property fmtid="{D5CDD505-2E9C-101B-9397-08002B2CF9AE}" pid="5" name="_EmailSubject">
    <vt:lpwstr>20030513_Metro_Beratungskonzept_CS.ppt</vt:lpwstr>
  </property>
</Properties>
</file>