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807-C237-49F0-90CF-FDCB4B1A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BDD-6348-44A4-A01C-FB6AC8A1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E88-C7E3-428E-BDD4-00DA0B56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C0E-1909-4356-BAB7-63CB1B94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C6E-8E76-464F-889F-73611DC9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EC4-F559-4996-A38F-980B8388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88C-A499-4368-AE6F-CC9E4825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27C-EBFA-4CDD-981A-CF331D2D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6BE-5964-4273-8EA3-2C9CBFF4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6EE-2F8A-47DE-ABD4-FF3D6DD1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44C-F4E0-497E-834D-4627CE71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2D6-3B81-442E-8D90-956212A5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D552-9D4B-4F40-9DE8-462273B64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5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3:10:27Z</dcterms:created>
  <dc:creator>d003179</dc:creator>
  <dc:description>EP Sample Development Landscape.ppt</dc:description>
  <cp:keywords>Development Landscape</cp:keywords>
  <dc:language>en-US</dc:language>
  <cp:lastModifiedBy>d003179</cp:lastModifiedBy>
  <dcterms:modified xsi:type="dcterms:W3CDTF">2003-06-24T13:13:12Z</dcterms:modified>
  <cp:revision>1</cp:revision>
  <dc:subject/>
  <dc:title>Sample Development Landscape</dc:title>
</cp:coreProperties>
</file>