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1326FE61-4F1F-43E2-9678-5EE0D7B5F92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" y="1916280"/>
            <a:ext cx="8305920" cy="444240"/>
            <a:chOff x="457200" y="1916280"/>
            <a:chExt cx="8305920" cy="444240"/>
          </a:xfrm>
        </p:grpSpPr>
        <p:sp>
          <p:nvSpPr>
            <p:cNvPr id="46" name=""/>
            <p:cNvSpPr/>
            <p:nvPr/>
          </p:nvSpPr>
          <p:spPr>
            <a:xfrm>
              <a:off x="7391520" y="1916280"/>
              <a:ext cx="1371600" cy="4442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" y="1916280"/>
              <a:ext cx="7162920" cy="444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686480" y="1946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92160" y="2360520"/>
            <a:ext cx="0" cy="1470240"/>
          </a:xfrm>
          <a:prstGeom prst="line">
            <a:avLst/>
          </a:prstGeom>
          <a:ln w="3816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2320" y="1938240"/>
            <a:ext cx="0" cy="189252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938240"/>
            <a:ext cx="0" cy="189252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9280" y="1916280"/>
            <a:ext cx="0" cy="191448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15280" y="1946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4 -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3693960"/>
            <a:ext cx="41148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7840" y="3529080"/>
            <a:ext cx="1395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</a:rPr>
              <a:t>Set-up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62040" y="19670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6840" y="207324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53640" y="3000240"/>
            <a:ext cx="2717640" cy="525600"/>
          </a:xfrm>
          <a:prstGeom prst="parallelogram">
            <a:avLst>
              <a:gd name="adj" fmla="val 6099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43036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EBL Infi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92160" y="3301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Other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0720" y="2440080"/>
            <a:ext cx="1441440" cy="10857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274280" y="3000240"/>
            <a:ext cx="2202120" cy="525600"/>
          </a:xfrm>
          <a:prstGeom prst="parallelogram">
            <a:avLst>
              <a:gd name="adj" fmla="val 5904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Phase 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853640" y="2440080"/>
            <a:ext cx="4622760" cy="523800"/>
          </a:xfrm>
          <a:prstGeom prst="parallelogram">
            <a:avLst>
              <a:gd name="adj" fmla="val 5613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502320" y="2440080"/>
            <a:ext cx="1866960" cy="1085040"/>
            <a:chOff x="6502320" y="2440080"/>
            <a:chExt cx="1866960" cy="1085040"/>
          </a:xfrm>
        </p:grpSpPr>
        <p:sp>
          <p:nvSpPr>
            <p:cNvPr id="65" name=""/>
            <p:cNvSpPr/>
            <p:nvPr/>
          </p:nvSpPr>
          <p:spPr>
            <a:xfrm flipH="1" flipV="1">
              <a:off x="6502320" y="2999520"/>
              <a:ext cx="1866960" cy="525240"/>
            </a:xfrm>
            <a:prstGeom prst="parallelogram">
              <a:avLst>
                <a:gd name="adj" fmla="val 50092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oll-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502320" y="2440080"/>
              <a:ext cx="1866960" cy="523440"/>
            </a:xfrm>
            <a:prstGeom prst="parallelogram">
              <a:avLst>
                <a:gd name="adj" fmla="val 5026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p-gr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317680" y="3008160"/>
            <a:ext cx="222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tailed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3560" y="3865680"/>
            <a:ext cx="1206360" cy="514080"/>
          </a:xfrm>
          <a:prstGeom prst="rect">
            <a:avLst/>
          </a:prstGeom>
          <a:solidFill>
            <a:srgbClr val="da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25080" y="3865680"/>
            <a:ext cx="2306520" cy="514080"/>
          </a:xfrm>
          <a:prstGeom prst="rect">
            <a:avLst/>
          </a:prstGeom>
          <a:solidFill>
            <a:srgbClr val="da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be done until the end of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4379760"/>
            <a:ext cx="125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.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idelines &amp; port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25800" y="4443480"/>
            <a:ext cx="320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 Quick Wins: Intranet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ESS for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ntory existing intranet/internet content across Bus, confirm sav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 Release Plan and Sounding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ize governance: consolidated reporting, eBusiness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0040" y="4379760"/>
            <a:ext cx="0" cy="1563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5000" y="206280"/>
            <a:ext cx="36936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gh Level Portal Projec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Sample High Level Project Plan</dc:description>
  <cp:keywords>Project Plan</cp:keywords>
  <dc:language>en-US</dc:language>
  <cp:lastModifiedBy>d031429</cp:lastModifiedBy>
  <cp:lastPrinted>2000-05-10T17:23:18Z</cp:lastPrinted>
  <dcterms:modified xsi:type="dcterms:W3CDTF">2003-11-20T11:48:07Z</dcterms:modified>
  <cp:revision>457</cp:revision>
  <dc:subject/>
  <dc:title>Sample High Level Project Plan</dc:title>
</cp:coreProperties>
</file>