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2002, Title of Presentation, Speaker Name </a:t>
            </a: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</a:t>
            </a:r>
            <a:fld id="{F72A17E4-5B37-466C-83AF-B949BF0C671E}" type="slidenum">
              <a:rPr b="0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424560" y="1565280"/>
            <a:ext cx="2414520" cy="19810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fication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67560" y="1868400"/>
            <a:ext cx="2020680" cy="3841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fication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67560" y="2868480"/>
            <a:ext cx="2020680" cy="3733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fier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P B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67560" y="2374920"/>
            <a:ext cx="2020680" cy="3715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fier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P R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3327480"/>
            <a:ext cx="94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272280" y="3281400"/>
            <a:ext cx="420120" cy="569880"/>
            <a:chOff x="6272280" y="3281400"/>
            <a:chExt cx="420120" cy="569880"/>
          </a:xfrm>
        </p:grpSpPr>
        <p:sp>
          <p:nvSpPr>
            <p:cNvPr id="92" name=""/>
            <p:cNvSpPr/>
            <p:nvPr/>
          </p:nvSpPr>
          <p:spPr>
            <a:xfrm>
              <a:off x="6272280" y="3281400"/>
              <a:ext cx="420120" cy="7704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98800" y="3281400"/>
              <a:ext cx="93600" cy="56988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83800" y="3807720"/>
              <a:ext cx="303120" cy="21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72280" y="3358440"/>
              <a:ext cx="326520" cy="4924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12320" y="3380040"/>
              <a:ext cx="163080" cy="13104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23840" y="3390840"/>
              <a:ext cx="57600" cy="32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23840" y="3423240"/>
              <a:ext cx="57600" cy="446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06280" y="3390840"/>
              <a:ext cx="57600" cy="77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72280" y="339084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12320" y="3532680"/>
              <a:ext cx="163080" cy="1080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72280" y="341208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72280" y="3423240"/>
              <a:ext cx="128520" cy="1260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72280" y="344628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72280" y="3467880"/>
              <a:ext cx="12852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72280" y="347868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72280" y="350064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3800" y="3773880"/>
              <a:ext cx="303120" cy="3384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957480" y="41464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1800" y="4451400"/>
            <a:ext cx="1684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797360"/>
            <a:ext cx="2508480" cy="360"/>
          </a:xfrm>
          <a:custGeom>
            <a:avLst/>
            <a:gdLst/>
            <a:ahLst/>
            <a:rect l="l" t="t" r="r" b="b"/>
            <a:pathLst>
              <a:path w="1978" h="0">
                <a:moveTo>
                  <a:pt x="1978" y="0"/>
                </a:moveTo>
                <a:lnTo>
                  <a:pt x="0" y="0"/>
                </a:lnTo>
                <a:lnTo>
                  <a:pt x="1978" y="0"/>
                </a:lnTo>
                <a:lnTo>
                  <a:pt x="1978" y="0"/>
                </a:lnTo>
                <a:close/>
              </a:path>
            </a:pathLst>
          </a:custGeom>
          <a:solidFill>
            <a:srgbClr val="466a97"/>
          </a:solidFill>
          <a:ln w="11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89360" y="1700280"/>
            <a:ext cx="1440" cy="3097080"/>
          </a:xfrm>
          <a:prstGeom prst="rect">
            <a:avLst/>
          </a:prstGeom>
          <a:solidFill>
            <a:srgbClr val="466a97"/>
          </a:solidFill>
          <a:ln w="11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" y="1692360"/>
            <a:ext cx="2504880" cy="320040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85240" y="4599000"/>
            <a:ext cx="128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 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120" y="2044800"/>
            <a:ext cx="2320920" cy="244800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6080" y="182556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00" y="2463840"/>
            <a:ext cx="2168640" cy="18669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7575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5200" y="4375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0040" y="2816280"/>
            <a:ext cx="1752480" cy="658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View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ntime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IRJ)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99880" y="1197000"/>
            <a:ext cx="482400" cy="626760"/>
            <a:chOff x="299880" y="1197000"/>
            <a:chExt cx="482400" cy="626760"/>
          </a:xfrm>
        </p:grpSpPr>
        <p:sp>
          <p:nvSpPr>
            <p:cNvPr id="121" name=""/>
            <p:cNvSpPr/>
            <p:nvPr/>
          </p:nvSpPr>
          <p:spPr>
            <a:xfrm>
              <a:off x="299880" y="1197000"/>
              <a:ext cx="482400" cy="8460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4640" y="1197000"/>
              <a:ext cx="107640" cy="62676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2840" y="1776240"/>
              <a:ext cx="348120" cy="23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9880" y="1281600"/>
              <a:ext cx="374760" cy="5421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800" y="1305360"/>
              <a:ext cx="187200" cy="1443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4120" y="1317600"/>
              <a:ext cx="65880" cy="3528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4120" y="1352880"/>
              <a:ext cx="65880" cy="4932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8440" y="1317600"/>
              <a:ext cx="65880" cy="84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9880" y="13176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0800" y="1473480"/>
              <a:ext cx="187200" cy="1188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9880" y="13410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9880" y="1352880"/>
              <a:ext cx="147600" cy="1368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9880" y="137844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9880" y="1402200"/>
              <a:ext cx="147600" cy="180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9880" y="141408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9880" y="14382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2840" y="1738800"/>
              <a:ext cx="348120" cy="3708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443640" y="3970440"/>
            <a:ext cx="2390760" cy="8380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X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48400" y="4245120"/>
            <a:ext cx="2178000" cy="30456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243480" y="4336920"/>
            <a:ext cx="479160" cy="571680"/>
            <a:chOff x="6243480" y="4336920"/>
            <a:chExt cx="479160" cy="571680"/>
          </a:xfrm>
        </p:grpSpPr>
        <p:sp>
          <p:nvSpPr>
            <p:cNvPr id="141" name=""/>
            <p:cNvSpPr/>
            <p:nvPr/>
          </p:nvSpPr>
          <p:spPr>
            <a:xfrm>
              <a:off x="6243480" y="4336920"/>
              <a:ext cx="479160" cy="7704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15720" y="4336920"/>
              <a:ext cx="106920" cy="57168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56440" y="4864680"/>
              <a:ext cx="345600" cy="21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43480" y="4413960"/>
              <a:ext cx="372240" cy="494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3320" y="4435920"/>
              <a:ext cx="185760" cy="1317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16640" y="4446720"/>
              <a:ext cx="65520" cy="32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16640" y="4479120"/>
              <a:ext cx="65520" cy="446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10240" y="4446720"/>
              <a:ext cx="65520" cy="77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43480" y="444672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3320" y="4588920"/>
              <a:ext cx="185760" cy="1080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3480" y="446832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43480" y="4479120"/>
              <a:ext cx="146520" cy="1260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3480" y="450216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43480" y="4524120"/>
              <a:ext cx="14652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43480" y="453492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43480" y="455688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56440" y="4830840"/>
              <a:ext cx="345600" cy="3384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807240" y="4608360"/>
            <a:ext cx="123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640" y="5380200"/>
            <a:ext cx="5203800" cy="123804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00280" y="5337000"/>
            <a:ext cx="23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Resource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6880" y="5635800"/>
            <a:ext cx="1674720" cy="753840"/>
          </a:xfrm>
          <a:prstGeom prst="can">
            <a:avLst>
              <a:gd name="adj" fmla="val 32916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99880" y="5151600"/>
            <a:ext cx="482400" cy="626400"/>
            <a:chOff x="299880" y="5151600"/>
            <a:chExt cx="482400" cy="626400"/>
          </a:xfrm>
        </p:grpSpPr>
        <p:sp>
          <p:nvSpPr>
            <p:cNvPr id="163" name=""/>
            <p:cNvSpPr/>
            <p:nvPr/>
          </p:nvSpPr>
          <p:spPr>
            <a:xfrm>
              <a:off x="299880" y="5151600"/>
              <a:ext cx="482400" cy="8460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4640" y="5151600"/>
              <a:ext cx="107640" cy="62640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840" y="5730480"/>
              <a:ext cx="348120" cy="23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9880" y="5236200"/>
              <a:ext cx="374760" cy="5418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0800" y="5259960"/>
              <a:ext cx="187200" cy="1443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4120" y="5271840"/>
              <a:ext cx="65880" cy="3528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4120" y="5307480"/>
              <a:ext cx="65880" cy="489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8440" y="5271840"/>
              <a:ext cx="65880" cy="84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9880" y="527184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0800" y="5428080"/>
              <a:ext cx="187200" cy="1188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9880" y="52956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9880" y="5307480"/>
              <a:ext cx="147600" cy="1368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9880" y="533268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9880" y="5356800"/>
              <a:ext cx="147600" cy="180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9880" y="536868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9880" y="539244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840" y="5693040"/>
              <a:ext cx="348120" cy="3708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98400" y="63565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 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24" idx="0"/>
            <a:endCxn id="182" idx="0"/>
          </p:cNvCxnSpPr>
          <p:nvPr/>
        </p:nvCxnSpPr>
        <p:spPr>
          <a:xfrm flipH="1" rot="16200000">
            <a:off x="1896120" y="-127440"/>
            <a:ext cx="1800" cy="2819880"/>
          </a:xfrm>
          <a:prstGeom prst="bentConnector3">
            <a:avLst>
              <a:gd name="adj1" fmla="val -16150000"/>
            </a:avLst>
          </a:prstGeom>
          <a:ln w="38160">
            <a:solidFill>
              <a:srgbClr val="822249"/>
            </a:solidFill>
            <a:miter/>
          </a:ln>
        </p:spPr>
      </p:cxnSp>
      <p:cxnSp>
        <p:nvCxnSpPr>
          <p:cNvPr id="183" name=""/>
          <p:cNvCxnSpPr>
            <a:stCxn id="124" idx="1"/>
            <a:endCxn id="166" idx="1"/>
          </p:cNvCxnSpPr>
          <p:nvPr/>
        </p:nvCxnSpPr>
        <p:spPr>
          <a:xfrm rot="10800000">
            <a:off x="299880" y="1552680"/>
            <a:ext cx="360" cy="3954600"/>
          </a:xfrm>
          <a:prstGeom prst="bentConnector3">
            <a:avLst>
              <a:gd name="adj1" fmla="val -64700000"/>
            </a:avLst>
          </a:prstGeom>
          <a:ln w="38160">
            <a:solidFill>
              <a:srgbClr val="822249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3449520" y="4441680"/>
            <a:ext cx="1684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98960" y="4788000"/>
            <a:ext cx="2508120" cy="360"/>
          </a:xfrm>
          <a:custGeom>
            <a:avLst/>
            <a:gdLst/>
            <a:ahLst/>
            <a:rect l="l" t="t" r="r" b="b"/>
            <a:pathLst>
              <a:path w="1978" h="0">
                <a:moveTo>
                  <a:pt x="1978" y="0"/>
                </a:moveTo>
                <a:lnTo>
                  <a:pt x="0" y="0"/>
                </a:lnTo>
                <a:lnTo>
                  <a:pt x="1978" y="0"/>
                </a:lnTo>
                <a:lnTo>
                  <a:pt x="1978" y="0"/>
                </a:lnTo>
                <a:close/>
              </a:path>
            </a:pathLst>
          </a:custGeom>
          <a:solidFill>
            <a:srgbClr val="466a97"/>
          </a:solidFill>
          <a:ln w="11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07080" y="1690560"/>
            <a:ext cx="1440" cy="3097440"/>
          </a:xfrm>
          <a:prstGeom prst="rect">
            <a:avLst/>
          </a:prstGeom>
          <a:solidFill>
            <a:srgbClr val="466a97"/>
          </a:solidFill>
          <a:ln w="11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5080" y="1692360"/>
            <a:ext cx="2505240" cy="320040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00480" y="1996920"/>
            <a:ext cx="2320920" cy="25243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3800" y="173664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119400" y="1197000"/>
            <a:ext cx="482760" cy="627120"/>
            <a:chOff x="3119400" y="1197000"/>
            <a:chExt cx="482760" cy="627120"/>
          </a:xfrm>
        </p:grpSpPr>
        <p:sp>
          <p:nvSpPr>
            <p:cNvPr id="191" name=""/>
            <p:cNvSpPr/>
            <p:nvPr/>
          </p:nvSpPr>
          <p:spPr>
            <a:xfrm>
              <a:off x="3119400" y="1197000"/>
              <a:ext cx="482760" cy="8604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94160" y="1197000"/>
              <a:ext cx="108000" cy="62712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32000" y="1776600"/>
              <a:ext cx="349200" cy="23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19400" y="1283040"/>
              <a:ext cx="374760" cy="541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1306800"/>
              <a:ext cx="187560" cy="14292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94000" y="1317960"/>
              <a:ext cx="65160" cy="3492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4000" y="1352880"/>
              <a:ext cx="65160" cy="50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87600" y="1317960"/>
              <a:ext cx="66600" cy="8568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9400" y="1317960"/>
              <a:ext cx="14760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9600" y="1473480"/>
              <a:ext cx="187560" cy="1260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19400" y="1341720"/>
              <a:ext cx="14760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19400" y="1352880"/>
              <a:ext cx="147600" cy="1404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19400" y="1379880"/>
              <a:ext cx="14760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19400" y="1403640"/>
              <a:ext cx="14760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19400" y="1414800"/>
              <a:ext cx="147600" cy="126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19400" y="1438560"/>
              <a:ext cx="14760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32000" y="1738440"/>
              <a:ext cx="349200" cy="381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07" idx="0"/>
            <a:endCxn id="192" idx="0"/>
          </p:cNvCxnSpPr>
          <p:nvPr/>
        </p:nvCxnSpPr>
        <p:spPr>
          <a:xfrm rot="10800000">
            <a:off x="3601800" y="1196640"/>
            <a:ext cx="2670480" cy="2304000"/>
          </a:xfrm>
          <a:prstGeom prst="bentConnector3">
            <a:avLst>
              <a:gd name="adj1" fmla="val 49979"/>
            </a:avLst>
          </a:prstGeom>
          <a:ln w="38160">
            <a:solidFill>
              <a:srgbClr val="822249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950040" y="168588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Hos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1080" y="2046240"/>
            <a:ext cx="19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P J2EE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144" idx="1"/>
            <a:endCxn id="107" idx="1"/>
          </p:cNvCxnSpPr>
          <p:nvPr/>
        </p:nvCxnSpPr>
        <p:spPr>
          <a:xfrm flipH="1" rot="10800000">
            <a:off x="6243480" y="3511080"/>
            <a:ext cx="29160" cy="1149840"/>
          </a:xfrm>
          <a:prstGeom prst="bentConnector3">
            <a:avLst>
              <a:gd name="adj1" fmla="val -807500"/>
            </a:avLst>
          </a:prstGeom>
          <a:ln w="38160">
            <a:solidFill>
              <a:srgbClr val="822249"/>
            </a:solidFill>
            <a:miter/>
          </a:ln>
        </p:spPr>
      </p:cxn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Portal Landscape: Exampl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387600" y="2463840"/>
            <a:ext cx="2168640" cy="18669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7575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6840" y="2816280"/>
            <a:ext cx="1752480" cy="658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View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ntime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IRJ)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17920" y="357840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ontent Mangm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17920" y="386568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17920" y="4151160"/>
            <a:ext cx="1893960" cy="2588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92720" y="2046240"/>
            <a:ext cx="19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P J2EE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72800" y="4599000"/>
            <a:ext cx="128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 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37600" y="1685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Hos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6480" y="5635800"/>
            <a:ext cx="1674720" cy="753840"/>
          </a:xfrm>
          <a:prstGeom prst="can">
            <a:avLst>
              <a:gd name="adj" fmla="val 32916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User Persistence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8280" y="357840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ontent Mangm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8280" y="386568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8280" y="4151160"/>
            <a:ext cx="1893960" cy="2588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Network Topology: Exampl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7777440" y="29955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ner 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98600" y="110016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uter 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8280" y="3541680"/>
            <a:ext cx="4603680" cy="15526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1200" y="2276640"/>
            <a:ext cx="11048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22560" y="2276640"/>
            <a:ext cx="11048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45000" y="2276640"/>
            <a:ext cx="11048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2640" y="3774960"/>
            <a:ext cx="1105200" cy="6922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(incl.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4000" y="3774960"/>
            <a:ext cx="1104840" cy="6922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(incl.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48240" y="3774960"/>
            <a:ext cx="1104840" cy="6922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(incl.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1" idx="2"/>
            <a:endCxn id="233" idx="2"/>
          </p:cNvCxnSpPr>
          <p:nvPr/>
        </p:nvCxnSpPr>
        <p:spPr>
          <a:xfrm flipH="1" rot="16200000">
            <a:off x="2631240" y="2900160"/>
            <a:ext cx="2160" cy="3135960"/>
          </a:xfrm>
          <a:prstGeom prst="bentConnector3">
            <a:avLst>
              <a:gd name="adj1" fmla="val 14400000"/>
            </a:avLst>
          </a:prstGeom>
          <a:ln w="12600">
            <a:solidFill>
              <a:srgbClr val="003366"/>
            </a:solidFill>
            <a:miter/>
          </a:ln>
        </p:spPr>
      </p:cxnSp>
      <p:cxnSp>
        <p:nvCxnSpPr>
          <p:cNvPr id="235" name=""/>
          <p:cNvCxnSpPr>
            <a:stCxn id="232" idx="2"/>
            <a:endCxn id="233" idx="2"/>
          </p:cNvCxnSpPr>
          <p:nvPr/>
        </p:nvCxnSpPr>
        <p:spPr>
          <a:xfrm flipH="1" rot="16200000">
            <a:off x="3436920" y="3705840"/>
            <a:ext cx="2160" cy="1524600"/>
          </a:xfrm>
          <a:prstGeom prst="bentConnector3">
            <a:avLst>
              <a:gd name="adj1" fmla="val 14400000"/>
            </a:avLst>
          </a:prstGeom>
          <a:ln w="12600">
            <a:solidFill>
              <a:srgbClr val="003366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2112840" y="470232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29" idx="0"/>
            <a:endCxn id="238" idx="2"/>
          </p:cNvCxnSpPr>
          <p:nvPr/>
        </p:nvCxnSpPr>
        <p:spPr>
          <a:xfrm flipH="1" flipV="1" rot="5400000">
            <a:off x="3174480" y="1406160"/>
            <a:ext cx="370800" cy="1370880"/>
          </a:xfrm>
          <a:prstGeom prst="bentConnector3">
            <a:avLst>
              <a:gd name="adj1" fmla="val 49757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39" name=""/>
          <p:cNvCxnSpPr>
            <a:stCxn id="238" idx="2"/>
            <a:endCxn id="228" idx="0"/>
          </p:cNvCxnSpPr>
          <p:nvPr/>
        </p:nvCxnSpPr>
        <p:spPr>
          <a:xfrm rot="5400000">
            <a:off x="2368440" y="600840"/>
            <a:ext cx="370800" cy="2981880"/>
          </a:xfrm>
          <a:prstGeom prst="bentConnector3">
            <a:avLst>
              <a:gd name="adj1" fmla="val 49757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2"/>
            <a:endCxn id="230" idx="0"/>
          </p:cNvCxnSpPr>
          <p:nvPr/>
        </p:nvCxnSpPr>
        <p:spPr>
          <a:xfrm flipH="1" rot="16200000">
            <a:off x="3935160" y="2015280"/>
            <a:ext cx="370800" cy="153000"/>
          </a:xfrm>
          <a:prstGeom prst="bentConnector3">
            <a:avLst>
              <a:gd name="adj1" fmla="val 49757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1" name=""/>
          <p:cNvCxnSpPr>
            <a:stCxn id="228" idx="2"/>
            <a:endCxn id="231" idx="0"/>
          </p:cNvCxnSpPr>
          <p:nvPr/>
        </p:nvCxnSpPr>
        <p:spPr>
          <a:xfrm>
            <a:off x="1063800" y="2751120"/>
            <a:ext cx="2160" cy="102456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2" name=""/>
          <p:cNvCxnSpPr>
            <a:stCxn id="229" idx="2"/>
            <a:endCxn id="232" idx="0"/>
          </p:cNvCxnSpPr>
          <p:nvPr/>
        </p:nvCxnSpPr>
        <p:spPr>
          <a:xfrm>
            <a:off x="2674440" y="2751120"/>
            <a:ext cx="2520" cy="102456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3" name=""/>
          <p:cNvCxnSpPr>
            <a:stCxn id="230" idx="2"/>
            <a:endCxn id="233" idx="0"/>
          </p:cNvCxnSpPr>
          <p:nvPr/>
        </p:nvCxnSpPr>
        <p:spPr>
          <a:xfrm>
            <a:off x="4196880" y="2751120"/>
            <a:ext cx="3960" cy="102456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4" name=""/>
          <p:cNvCxnSpPr>
            <a:stCxn id="245" idx="2"/>
            <a:endCxn id="238" idx="0"/>
          </p:cNvCxnSpPr>
          <p:nvPr/>
        </p:nvCxnSpPr>
        <p:spPr>
          <a:xfrm rot="5400000">
            <a:off x="3749760" y="1333800"/>
            <a:ext cx="600840" cy="1188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3290760" y="1284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10480" y="3541680"/>
            <a:ext cx="1334880" cy="15526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38920" y="3703680"/>
            <a:ext cx="125100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38920" y="4297320"/>
            <a:ext cx="1251000" cy="47484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Un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erver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34040" y="3527280"/>
            <a:ext cx="1377720" cy="15526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48440" y="3760920"/>
            <a:ext cx="1334880" cy="59364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Retrieval &amp;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7" idx="2"/>
            <a:endCxn id="253" idx="1"/>
          </p:cNvCxnSpPr>
          <p:nvPr/>
        </p:nvCxnSpPr>
        <p:spPr>
          <a:xfrm rot="5400000">
            <a:off x="4209120" y="2431800"/>
            <a:ext cx="606960" cy="5931720"/>
          </a:xfrm>
          <a:prstGeom prst="bentConnector3">
            <a:avLst>
              <a:gd name="adj1" fmla="val 49970"/>
            </a:avLst>
          </a:prstGeom>
          <a:ln w="12600">
            <a:solidFill>
              <a:srgbClr val="003366"/>
            </a:solidFill>
            <a:miter/>
          </a:ln>
        </p:spPr>
      </p:cxnSp>
      <p:cxnSp>
        <p:nvCxnSpPr>
          <p:cNvPr id="254" name=""/>
          <p:cNvCxnSpPr>
            <a:stCxn id="247" idx="2"/>
            <a:endCxn id="253" idx="1"/>
          </p:cNvCxnSpPr>
          <p:nvPr/>
        </p:nvCxnSpPr>
        <p:spPr>
          <a:xfrm rot="5400000">
            <a:off x="4209120" y="2431800"/>
            <a:ext cx="606960" cy="5931720"/>
          </a:xfrm>
          <a:prstGeom prst="bentConnector3">
            <a:avLst>
              <a:gd name="adj1" fmla="val 49970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55" name=""/>
          <p:cNvCxnSpPr>
            <a:stCxn id="227" idx="2"/>
            <a:endCxn id="256" idx="1"/>
          </p:cNvCxnSpPr>
          <p:nvPr/>
        </p:nvCxnSpPr>
        <p:spPr>
          <a:xfrm flipH="1" rot="16200000">
            <a:off x="2873160" y="4889880"/>
            <a:ext cx="603720" cy="101196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55760" y="1639800"/>
            <a:ext cx="7176960" cy="26676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38" idx="2"/>
            <a:endCxn id="247" idx="0"/>
          </p:cNvCxnSpPr>
          <p:nvPr/>
        </p:nvCxnSpPr>
        <p:spPr>
          <a:xfrm flipH="1" rot="16200000">
            <a:off x="4944240" y="1006920"/>
            <a:ext cx="1635840" cy="3434400"/>
          </a:xfrm>
          <a:prstGeom prst="bentConnector3">
            <a:avLst>
              <a:gd name="adj1" fmla="val 10851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58" name=""/>
          <p:cNvCxnSpPr>
            <a:stCxn id="250" idx="0"/>
            <a:endCxn id="259" idx="2"/>
          </p:cNvCxnSpPr>
          <p:nvPr/>
        </p:nvCxnSpPr>
        <p:spPr>
          <a:xfrm flipV="1" rot="16200000">
            <a:off x="5533560" y="3137400"/>
            <a:ext cx="772200" cy="720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59" name=""/>
          <p:cNvSpPr/>
          <p:nvPr/>
        </p:nvSpPr>
        <p:spPr>
          <a:xfrm>
            <a:off x="5291280" y="2281320"/>
            <a:ext cx="12506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0"/>
            <a:endCxn id="238" idx="2"/>
          </p:cNvCxnSpPr>
          <p:nvPr/>
        </p:nvCxnSpPr>
        <p:spPr>
          <a:xfrm flipV="1" rot="16200000">
            <a:off x="4792680" y="1157400"/>
            <a:ext cx="375480" cy="187236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509076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3228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572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960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58800" y="588492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28520" y="421632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ng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27" idx="2"/>
            <a:endCxn id="253" idx="1"/>
          </p:cNvCxnSpPr>
          <p:nvPr/>
        </p:nvCxnSpPr>
        <p:spPr>
          <a:xfrm rot="5400000">
            <a:off x="1805400" y="4836240"/>
            <a:ext cx="606960" cy="1122840"/>
          </a:xfrm>
          <a:prstGeom prst="bentConnector3">
            <a:avLst>
              <a:gd name="adj1" fmla="val 49970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68" name=""/>
          <p:cNvCxnSpPr>
            <a:stCxn id="250" idx="2"/>
          </p:cNvCxnSpPr>
          <p:nvPr/>
        </p:nvCxnSpPr>
        <p:spPr>
          <a:xfrm flipH="1" rot="16200000">
            <a:off x="5634000" y="5368680"/>
            <a:ext cx="581400" cy="360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prstDash val="lgDash"/>
            <a:miter/>
          </a:ln>
        </p:spPr>
      </p:cxnSp>
      <p:sp>
        <p:nvSpPr>
          <p:cNvPr id="269" name=""/>
          <p:cNvSpPr/>
          <p:nvPr/>
        </p:nvSpPr>
        <p:spPr>
          <a:xfrm>
            <a:off x="18720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33720" y="687240"/>
            <a:ext cx="2044800" cy="35244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Browser,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2080" y="1262160"/>
            <a:ext cx="75024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3360" y="3228840"/>
            <a:ext cx="74898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700600"/>
            <a:ext cx="1876680" cy="635040"/>
          </a:xfrm>
          <a:prstGeom prst="can">
            <a:avLst>
              <a:gd name="adj" fmla="val 17902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lustered User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ersistence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70200" y="5697360"/>
            <a:ext cx="1820880" cy="671760"/>
          </a:xfrm>
          <a:prstGeom prst="can">
            <a:avLst>
              <a:gd name="adj" fmla="val 17902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lustered Portal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64200" y="5697360"/>
            <a:ext cx="1501560" cy="671760"/>
          </a:xfrm>
          <a:prstGeom prst="can">
            <a:avLst>
              <a:gd name="adj" fmla="val 17902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TREX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5640" y="6572160"/>
            <a:ext cx="52984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333333"/>
                </a:solidFill>
                <a:latin typeface="Arial"/>
              </a:rPr>
              <a:t>*Unification will be ported to Java in 2003 and will be available as a Portal Service on the PR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8:00:41Z</dcterms:created>
  <dc:creator>SAP</dc:creator>
  <dc:description/>
  <dc:language>en-US</dc:language>
  <cp:lastModifiedBy>d003179</cp:lastModifiedBy>
  <dcterms:modified xsi:type="dcterms:W3CDTF">2003-06-23T13:42:05Z</dcterms:modified>
  <cp:revision>20</cp:revision>
  <dc:subject/>
  <dc:title>EP Sample Landscape</dc:title>
</cp:coreProperties>
</file>